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20520" y="9360"/>
            <a:ext cx="297648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200" y="9360"/>
            <a:ext cx="297684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1920" y="700200"/>
            <a:ext cx="546732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20520" y="9281880"/>
            <a:ext cx="297648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200" y="9281880"/>
            <a:ext cx="297684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815CC7-0814-4794-BF8E-2BADAF59691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E72D18-DA33-401A-9B74-5774B7A7497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AF1C453-9696-4BCE-B83A-ADD5EC23681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2E0F53-EC5D-4D3A-8D6F-415867C44B0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5DEA63-CF22-4A07-BB79-1591700EE23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80608B-0D3B-41F0-8764-8E91D324B27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A7BFEB-868A-4A7C-91D2-F35F2AB7D71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A1CD6D-97C0-4D57-A654-07005391094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04E73D-6793-4091-A493-609B27B4E85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C6A385-9E0C-4828-BAC1-CE3FEA83F3D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9BA1C0-2880-401D-BB3B-E6945124524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CE21E02-6352-4A1A-BA7E-9BB5154CCC4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F4446A-A649-40AC-9A70-F0B873E3557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471BAA-2731-4D7A-916E-61329E6DF90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73E97D-21C0-4441-9665-7D777E93C3C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00B7F3-04A6-4775-92C5-78C78C56CB3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91F253-81E8-4FC7-BD62-2C6ED234DFC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EEDA3A-4FC4-41B6-AE4D-66E89AFFAB9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F79D95-4997-4C24-88E1-EE8337B47DB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DC393F-2FF0-4B8F-A645-5C7CC466172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DACE77-EFFF-406A-B5A0-A6204428170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94848D-5490-4FFD-BEE3-B90F8361EE3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32E7DB-E9BA-4866-8370-4E07719649D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088A16-A3A9-4A9C-B519-BA7E7B9E7D8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BA93D2-27BD-46C0-BBBE-67F68F83BA2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F3F39E-185A-4AC0-BB9E-4BC14FDA493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84A671-7B8E-4EAD-AC59-5831FF6ED6A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FDD15B-3800-4890-97DE-3BAA8C716FA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BEE-BFBD-44A9-BA77-BD60C34F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483-B4B0-4500-A587-D9DDE784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67F-CB58-4E02-A66B-7160B81A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C1A-A96C-4F80-AA32-CBAA5455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78A-20A2-457D-BCC6-FA7B3716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FAB-067F-429D-8564-7B32A19F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EB5-E5EE-4848-AB09-DE9BD62F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16C-1A6D-4536-8FDB-B8FEAD11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C2E-E72F-45DB-ACB7-7317098A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824-97DF-4E8A-A5B9-DB67E541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B8E-20CD-4774-A90F-FD4F9D86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DBA-2C2C-4C41-997C-F78D8CC5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1D4CAD-3009-42E2-B438-29C4297702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4845F5-1ADE-4EAE-80EE-23AEE43CC4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B27D77-A623-4F38-B199-C9CDC7E198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290600" y="2016000"/>
            <a:ext cx="8283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3FE6FD-1AB2-4262-92B8-83EE3A8D48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38B51E-9401-4E73-8C65-567210B4FF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482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DBD881-7B7B-4108-97B9-8B61585EC5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196645-0CF0-4CAA-8D51-E2FC94E0B4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36D0A8-A5A3-4DBA-A6D1-CA0F9B13EC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9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0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1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2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3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5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6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7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8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9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0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1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2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3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4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5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6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7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8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9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4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5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7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DAB9B5-71D6-49B5-96E6-D642828DE2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03A9097-7A26-45AA-AE5B-66474E8FE2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9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0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1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2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3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4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5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6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7"/>
          <p:cNvSpPr/>
          <p:nvPr/>
        </p:nvSpPr>
        <p:spPr>
          <a:xfrm>
            <a:off x="1515960" y="312408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8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9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0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1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2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3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4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5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6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7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8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9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0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1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2"/>
          <p:cNvSpPr/>
          <p:nvPr/>
        </p:nvSpPr>
        <p:spPr>
          <a:xfrm>
            <a:off x="1515960" y="459432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3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4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5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56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57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8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9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DB7C9D-F983-45A9-AE7D-871B503DA3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1439D6-9081-4604-A343-30EF168200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5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6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7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9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1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2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4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7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8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9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0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41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2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3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4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5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6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7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9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0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1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2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3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4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5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6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7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5809C7-2695-4CCC-B86C-F0F90DCD8D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191120" y="1600200"/>
            <a:ext cx="5638680" cy="800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5C27E3-0F00-4A27-858E-089C205B04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6454D2-F2F5-477E-B167-3D695B0DC91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datum 1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ijdelijke aanduiding voor dianummer 3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A8305E-EDF8-4C91-AB53-80977793B2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2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3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4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4" name="Picture 5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23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43BC80-EC3C-444A-A795-87E38A66EAB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D08559-0DFD-4111-B5DA-91F1AA2A2B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42880" y="4508640"/>
            <a:ext cx="975996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werkgever.  Deze heeft d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onderzoeken zod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geen sch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82AF6C-8EB9-49A5-8425-627ACE182F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5B1228-AF26-48A7-8EA3-2058CFF544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132CD8-43D4-4E0A-935A-8E844BB489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bestaat het recht 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DF35CC-DCA1-4D1E-91F0-0C437EA989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C5B402-BF5E-4B98-9598-4CC53E7A73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7D39CA-2C7A-4365-8298-81063451C1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891A62-45A3-4A0A-9F6C-5BFD4CE7B1E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960" y="1418760"/>
            <a:ext cx="906768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teiner werd de dominotheo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gestel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8178840" y="321804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9245520" y="2895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H="1">
            <a:off x="8178480" y="57103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8178480" y="289548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8178480" y="426240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8277120" y="3301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889956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8632800" y="36241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8366040" y="41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889956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8277120" y="46702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8277120" y="555480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8899560" y="450864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8632800" y="5072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8"/>
          <p:cNvSpPr/>
          <p:nvPr/>
        </p:nvSpPr>
        <p:spPr>
          <a:xfrm>
            <a:off x="889956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6532560" y="321804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7599240" y="2895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 flipH="1">
            <a:off x="6532200" y="289548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 flipH="1">
            <a:off x="6532200" y="43434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H="1">
            <a:off x="6532200" y="571032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4"/>
          <p:cNvSpPr/>
          <p:nvPr/>
        </p:nvSpPr>
        <p:spPr>
          <a:xfrm>
            <a:off x="6629400" y="33019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5"/>
          <p:cNvSpPr/>
          <p:nvPr/>
        </p:nvSpPr>
        <p:spPr>
          <a:xfrm>
            <a:off x="7251840" y="31417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6"/>
          <p:cNvSpPr/>
          <p:nvPr/>
        </p:nvSpPr>
        <p:spPr>
          <a:xfrm>
            <a:off x="6629400" y="4187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6629400" y="47498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7251840" y="458964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9"/>
          <p:cNvSpPr/>
          <p:nvPr/>
        </p:nvSpPr>
        <p:spPr>
          <a:xfrm>
            <a:off x="7251840" y="4025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0"/>
          <p:cNvSpPr/>
          <p:nvPr/>
        </p:nvSpPr>
        <p:spPr>
          <a:xfrm>
            <a:off x="6629400" y="555480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1"/>
          <p:cNvSpPr/>
          <p:nvPr/>
        </p:nvSpPr>
        <p:spPr>
          <a:xfrm>
            <a:off x="7251840" y="53942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2"/>
          <p:cNvSpPr/>
          <p:nvPr/>
        </p:nvSpPr>
        <p:spPr>
          <a:xfrm>
            <a:off x="579744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473076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 flipH="1">
            <a:off x="473040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5"/>
          <p:cNvSpPr/>
          <p:nvPr/>
        </p:nvSpPr>
        <p:spPr>
          <a:xfrm flipH="1">
            <a:off x="473040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6"/>
          <p:cNvSpPr/>
          <p:nvPr/>
        </p:nvSpPr>
        <p:spPr>
          <a:xfrm flipH="1">
            <a:off x="473040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7"/>
          <p:cNvSpPr/>
          <p:nvPr/>
        </p:nvSpPr>
        <p:spPr>
          <a:xfrm flipH="1">
            <a:off x="288252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8"/>
          <p:cNvSpPr/>
          <p:nvPr/>
        </p:nvSpPr>
        <p:spPr>
          <a:xfrm flipH="1">
            <a:off x="288252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9"/>
          <p:cNvSpPr/>
          <p:nvPr/>
        </p:nvSpPr>
        <p:spPr>
          <a:xfrm flipH="1">
            <a:off x="288252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394956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288288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105732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212400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4"/>
          <p:cNvSpPr/>
          <p:nvPr/>
        </p:nvSpPr>
        <p:spPr>
          <a:xfrm flipH="1">
            <a:off x="105696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5"/>
          <p:cNvSpPr/>
          <p:nvPr/>
        </p:nvSpPr>
        <p:spPr>
          <a:xfrm flipH="1">
            <a:off x="105696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 flipH="1">
            <a:off x="105696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18B7AF-8A09-4EEC-AE00-975CF9BA374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CE24EB-2073-41B9-A97E-455947B71BB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8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0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1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2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3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4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6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7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8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1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2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3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4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6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7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8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9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0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1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3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AEDF52-5969-4B3F-8977-F2A2058DB0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Hans Mulder</cp:lastModifiedBy>
  <cp:lastPrinted>2000-05-31T16:35:47Z</cp:lastPrinted>
  <dcterms:modified xsi:type="dcterms:W3CDTF">2016-10-03T10:33:21Z</dcterms:modified>
  <cp:revision>27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