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E8F-73DE-4C7B-AF50-292ED038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DF7-35D4-433C-AAD1-AD43F43C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A7D-D540-4AAC-8ACB-F6578F70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1EC-828E-444D-B8BA-F902D581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E03-46C0-480D-9F7D-AFD3AFEF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962-3F52-4DB6-B3B6-022C52DD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03F-4D86-459E-9F48-04DBF39E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D5C-2EF5-4957-8F65-0EFA3840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E9D-6F75-4EB4-924D-0E1756FB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7B0-BFC6-4D67-8019-E96CF3A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D86-A2B7-47ED-B78D-AF9284F6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134-3321-4F5D-953B-90A54A56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461F-F53C-4D19-BE0F-5C162DEDD12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5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Elektriciteit en lawaai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3 Technische veiligheidsmaatreg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http://www.soer.nl/shop/images/9706278elektra.JPG"/>
          <p:cNvPicPr/>
          <p:nvPr/>
        </p:nvPicPr>
        <p:blipFill>
          <a:blip r:embed="rId1"/>
          <a:stretch/>
        </p:blipFill>
        <p:spPr>
          <a:xfrm>
            <a:off x="6815160" y="38862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4952880" y="1752480"/>
            <a:ext cx="2911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aard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defect elektrisch toestel wordt voorkomen dat uitwendige delen onder spanning 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Arial"/>
              </a:rPr>
              <a:t>let op: beveiligt niet tegen indringen van vocht en stof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http://www.gortzen.eu/vca/elektrisch%20gereedschap/dubbel%20geisoleerd.png"/>
          <p:cNvPicPr/>
          <p:nvPr/>
        </p:nvPicPr>
        <p:blipFill>
          <a:blip r:embed="rId1"/>
          <a:stretch/>
        </p:blipFill>
        <p:spPr>
          <a:xfrm>
            <a:off x="4048200" y="31338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uele insp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tijdelijke stroominstal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aardlekbeveiliging van 300 mA en pe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aande voeding een van 30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fbeelding 4" descr="insp.jpg"/>
          <p:cNvPicPr/>
          <p:nvPr/>
        </p:nvPicPr>
        <p:blipFill>
          <a:blip r:embed="rId1"/>
          <a:stretch/>
        </p:blipFill>
        <p:spPr>
          <a:xfrm>
            <a:off x="6500880" y="20001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abird.nl/UserFiles/Image/Producten/VerdeelkastVS.jpg"/>
          <p:cNvPicPr/>
          <p:nvPr/>
        </p:nvPicPr>
        <p:blipFill>
          <a:blip r:embed="rId2"/>
          <a:stretch/>
        </p:blipFill>
        <p:spPr>
          <a:xfrm>
            <a:off x="6286680" y="3786120"/>
            <a:ext cx="217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fbeelding 4" descr="kabelhaspel02.jpg"/>
          <p:cNvPicPr/>
          <p:nvPr/>
        </p:nvPicPr>
        <p:blipFill>
          <a:blip r:embed="rId1"/>
          <a:stretch/>
        </p:blipFill>
        <p:spPr>
          <a:xfrm>
            <a:off x="7412040" y="3968640"/>
            <a:ext cx="1719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1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elektriciteit is de opbouw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spanning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spuiten of andere soortgelijke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vloeistoffen bij stroming door een kunststofleiding of bij het r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ontstaan van (zeer) hoge spanningen bij statische elektriciteit is mogelijk, dus gevaarlij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statische elektriciteit te bep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waai is schadelijk gelu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 geluid heeft nadelig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verstaat mensen slech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ffecten zijn afhankelijk v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1920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5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http://www.energytech.at/kwk/fotos/portrait_10_en.jpg"/>
            <p:cNvPicPr/>
            <p:nvPr/>
          </p:nvPicPr>
          <p:blipFill>
            <a:blip r:embed="rId3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4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gelijke gevolgen van lawa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oring van de communicatie tijdens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oren van alarmsignalen of hulpgero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blijvende gehoor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002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9" descr="http://www.docukit.nl/inhoud/ic74-2.jpg"/>
          <p:cNvPicPr/>
          <p:nvPr/>
        </p:nvPicPr>
        <p:blipFill>
          <a:blip r:embed="rId1"/>
          <a:stretch/>
        </p:blipFill>
        <p:spPr>
          <a:xfrm>
            <a:off x="5797440" y="6480"/>
            <a:ext cx="3340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jvende gehoorsch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er is dus alle reden om lawaai serieus aan te 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- risico’s van de techniek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onmisb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chting, airco, geluidsinstallatie, tv, compu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meeste gereedschappen zijn elektrisc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 en explosies veroorz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statische elektriciteit kan ook gevaarlijk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is een belangrijke beroepszi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1  Gevaren van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2  Veilig 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3  Technische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4  Elektriciteit in werk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6 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1 Gevaren van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49" name="Picture 2" descr="http://aivpc41.vub.ac.be/preventie/Images/VE_EL_electrocutie.gif"/>
          <p:cNvPicPr/>
          <p:nvPr/>
        </p:nvPicPr>
        <p:blipFill>
          <a:blip r:embed="rId1">
            <a:grayscl/>
          </a:blip>
          <a:stretch/>
        </p:blipFill>
        <p:spPr>
          <a:xfrm>
            <a:off x="4003560" y="1752480"/>
            <a:ext cx="175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van stroom door het lichaam worden door meerdere invloeden bepaa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nning (50 Volt, 230 Volt of hoogsp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igheidsgraad van de huid (droog of 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kte van de huid (een eeltlaag biedt besche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ingsoppervlak (hoe groter hoe meer st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weerstand van schoeisel en stand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noleum en een rubbermat hebben een ho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betonnen vloer heeft een la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door het lichaam kan op een indirecte manier leiden tot een onge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letsel ont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 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evin.nl/2008/images/accu%27s/laders/kortsluitbeveiligd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69000" y="0"/>
            <a:ext cx="3375000" cy="25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Kortslui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sl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en/of een 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2 Onveilig werken met elektriciteit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g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9T09:50:07Z</dcterms:modified>
  <cp:revision>137</cp:revision>
  <dc:subject/>
  <dc:title>PowerPoint-presentatie</dc:title>
</cp:coreProperties>
</file>