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D7F8-775F-42D7-996B-EDA7D977A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B477-29D2-4A09-A36F-5E868D9D6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0B5F-BE63-49F1-8D64-9C7F2EC47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9FC2-AB40-4A51-A3F9-C1C744FF3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F966-26E0-45E3-8E48-A2433CBA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57A5-3A8D-4A01-8570-E792CE99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9FC3-E064-43F5-BC56-EDED3BB9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6DB3-D710-4CE5-8874-AF203007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49CB-6B27-41BB-9F7B-E2B83AD3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7A4F-BA82-4018-9BC0-FE1948D6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79B8-152C-4C31-BD91-F6025463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8FBD-480C-4808-966B-C7FB41C8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FE70-9EBF-450D-ABE8-86A9EA608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Garamond"/>
              </a:rPr>
              <a:t>Toolboxmeeting </a:t>
            </a:r>
            <a:br>
              <a:rPr sz="1200"/>
            </a:br>
            <a:r>
              <a:rPr b="1" lang="en-US" sz="1200" spc="-1" strike="noStrike">
                <a:solidFill>
                  <a:srgbClr val="0066ff"/>
                </a:solidFill>
                <a:latin typeface="Garamond"/>
              </a:rPr>
              <a:t>Versie 1, juni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7bbb"/>
                </a:solidFill>
                <a:latin typeface="Times New Roman"/>
              </a:rPr>
              <a:t>Tillen van zware last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44" name="logo%20CUMELA%20RGB" descr=""/>
          <p:cNvPicPr/>
          <p:nvPr/>
        </p:nvPicPr>
        <p:blipFill>
          <a:blip r:embed="rId2"/>
          <a:stretch/>
        </p:blipFill>
        <p:spPr>
          <a:xfrm>
            <a:off x="76320" y="5987880"/>
            <a:ext cx="144756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Gezonde uitvo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robeer niet te ver te reiken, te strekken of te buk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Zorg voor een goede lichamelijke condit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il alleen niet meer dan 25 k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logo%20nieuw" descr=""/>
          <p:cNvPicPr/>
          <p:nvPr/>
        </p:nvPicPr>
        <p:blipFill>
          <a:blip r:embed="rId1"/>
          <a:stretch/>
        </p:blipFill>
        <p:spPr>
          <a:xfrm>
            <a:off x="7238880" y="6248520"/>
            <a:ext cx="1828800" cy="603000"/>
          </a:xfrm>
          <a:prstGeom prst="rect">
            <a:avLst/>
          </a:prstGeom>
          <a:ln w="0">
            <a:noFill/>
          </a:ln>
        </p:spPr>
      </p:pic>
      <p:pic>
        <p:nvPicPr>
          <p:cNvPr id="96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09480" y="3733920"/>
            <a:ext cx="3353040" cy="2660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4673520" y="3657600"/>
            <a:ext cx="183528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Gezonde uitvo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Houd de last dicht bij je licha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Draai tijdens het tillen nooit met je ru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Maak een positieverandering alleen met de voe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103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990720" y="1903320"/>
            <a:ext cx="3047760" cy="2430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867280" y="1066680"/>
            <a:ext cx="219096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Gezonde uitvo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Zorg voor voldoende bewegingsruimte en een stabiele ondergro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chat de noodzakelijke kracht goed 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il over een zo kort mogelijke afst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chuif, kantel of rol de l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110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85800" y="3149640"/>
            <a:ext cx="2514600" cy="1679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943600" y="3135240"/>
            <a:ext cx="2133720" cy="1665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4038480" y="2971800"/>
            <a:ext cx="1490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Voordelen van verantwoord til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et lichaam blijft gezond, ook op lange termij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inder ziekteverzuim en WAO-instro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Lagere reïntegratiekosten en verzekeringsprem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eilig tillen kan ongevallen voorkom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118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Belangrijke aandachtspun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ak de te tillen last stevig v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Neem een goede tilhouding a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ebruik hulpmiddelen of til met meerdere person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ees deskundig in het gebruik van tilhulpmiddel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Zorg voor een goede lichamelijke condit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123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Inho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andachtspun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evol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etge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erantwoordelijkhe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Knelpun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ezonde uitvo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48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Aandachtspun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eel lasten worden mechanisch geti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Zware lichamelijke belasting bij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wielen verwisse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mestsla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aanbouwwerktu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frontgewich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kunstmestza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n het veld of in de werkplaa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53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29200" y="2819520"/>
            <a:ext cx="304812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Gevol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Overbelasting van de ru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Lichamelijke klach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Ziekteverzuim, (gedeeltelijk) arbeidsongeschik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Bij onveilig tillen letsel door beknell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59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943600" y="1143000"/>
            <a:ext cx="2327400" cy="2316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80880" y="4202280"/>
            <a:ext cx="304812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Wetgev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Arbow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De werkzaamheden mogen geen gezondheidsschade veroorza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Arboregelingen en norm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Praktische voorschriften over bijv. het max. te tillen gewicht en de omstandighe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66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Verantwoordelijkhed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Werkgev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moet zorg dragen dat het tillen van (te) zware lasten verantwoord gebeu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Werknem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moet de voorschriften en de voorlichting over de juiste wijze van tillen opvol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abrika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geeft de gebruiksmogelijkheden en de technische veiligheidseisen a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71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Knelpun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e last is moeilijk goed vast te pak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lechte stand van het lichaam t.o.v. de l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76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33520" y="2895480"/>
            <a:ext cx="3047760" cy="2743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648320" y="2911320"/>
            <a:ext cx="342900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Knelpun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lechte terreinomstandighe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toringen in het ve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e noodzakelijke spieren zijn in een slechte condit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83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876920" y="3809880"/>
            <a:ext cx="312408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Gezonde uitvo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Gebruik handschoenen, steunbalkjes, strop of ketting als een beter aangrijpingspu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Gebruik bij te zware lasten tilhulpmiddelen (tilbok, steek-/kruiwagen, hijs- en hefwerktuigen, bandenka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89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066680" y="1981080"/>
            <a:ext cx="1828800" cy="2590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562720" y="1865160"/>
            <a:ext cx="281916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07:56:57Z</dcterms:created>
  <dc:creator>jpolman</dc:creator>
  <dc:description/>
  <dc:language>en-US</dc:language>
  <cp:lastModifiedBy>Anne Soldaat</cp:lastModifiedBy>
  <dcterms:modified xsi:type="dcterms:W3CDTF">2005-06-08T13:16:58Z</dcterms:modified>
  <cp:revision>23</cp:revision>
  <dc:subject/>
  <dc:title>Toolboxmeeting NUMMER Maand en jaar</dc:title>
</cp:coreProperties>
</file>