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3.jpeg" ContentType="image/jpeg"/>
  <Override PartName="/ppt/media/image10.png" ContentType="image/png"/>
  <Override PartName="/ppt/media/image27.jpeg" ContentType="image/jpeg"/>
  <Override PartName="/ppt/media/image25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9F2-7D29-4939-A252-9D415B9C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120-7E0C-4FC6-9909-002DB840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610-5AFB-4CEE-8870-173D8BE4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25CF-8741-4357-AD85-DAD90B33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9C54-C4CD-4DE3-B964-2A3A0648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4004-691B-4297-934B-049012E7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519F-0D8D-43A5-A122-40E40EA5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AF07-EB80-48E0-9A00-88C2E85C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59D5-6F11-4147-A3D4-386FE3F7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1E7E-E745-43E3-AD65-B0BB7B71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DA26-7E0A-497A-9F0C-DA25C30A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F32-06AC-4805-8600-4A943999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5BDE-9236-49BA-AA62-09C351B5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20FE-FED5-453C-8BF5-0A39865B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ABC5-244F-4F97-8828-A18AA2A6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84B8-3958-4C5B-8DD2-3ECDA099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B454-FEE9-4ACF-AFCB-90FC999E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E9C5B-E07C-4CF2-B55D-0E668497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44701-33EA-4683-AFA0-43204561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0D090-287A-45CD-AC19-025064C6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FDF82-CC46-4F91-96AF-EBC235C3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6B77F-F37C-4B74-91C9-10C8B9D2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D65-BD06-4AE0-BCC4-753E0BBE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527F2-4776-400E-BCF8-6019F080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83737-5034-47D7-B8C6-F4F0A589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BBBA7-1966-4CE0-A8BD-53F153F0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D01F6-FB6C-4A3E-BD82-1A79309B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745B8-9AA5-4306-AA8B-0A228FFA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B96B9-7D44-4BEF-AE2D-386DF932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9AE71-944C-4371-A63F-739DBC65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3CE-E30E-48CA-967C-21FDC998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216-314A-4BCC-9E5A-B7DC36C0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D106-BB62-4EA1-8A71-E6DE0A45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B54-9F4F-4D35-9551-BE02C31C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2B28-F307-4A87-98F8-B4AB8E48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14C-D6D1-4BD7-A219-E0BCF879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B1C5-5A6B-460E-ADF2-6329C0AF8B8D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6DB1-C1FD-4BA4-BABA-FE67A4BF9C8F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9254-A375-4ED2-B783-D8F8DD8FAEF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erckebosch.nl/html/home.php" TargetMode="External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1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4A85-C582-4D0C-921C-E67E6C39CD0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Hoofdstuk 2</a:t>
            </a:r>
            <a:br>
              <a:rPr sz="4400"/>
            </a:b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Wetten en reg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348E-9614-409D-884D-3F61B979C6C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71680" y="1604880"/>
            <a:ext cx="7868880" cy="28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werkgever moet oo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voorkom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zo veel mogelijk bij de bron verminder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werknemer goed voorlicht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veilige werkwijze laten zien en laten toepass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oede PBM’s beschikbaar stell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orgen dat er hulp is in geval van noo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499760"/>
            <a:ext cx="8370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ventariseert de risico’s (schriftelij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 preventiebeleid o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 risico’s (rekening houden met technie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rnstige risico’s voorkeur voor materiële maatregel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76280" indent="-343080"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3758-15C8-4FDE-A3F9-8471489B3E8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pak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ysteembenadering (bijv. KAM-systee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 met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(wijze) zo nodig aan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arbeidsmid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n (derden)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hulp organis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vallen, onderzoeken en melden aan Arbeidsinspec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485D-1803-4C16-8451-6D2C3BFFCC8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heersing betekent vooral dat beleid en procedures worden nageleef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zicht 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geven en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toler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D3CB-5920-4122-ACFE-2BF1390A75E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71320" y="1000080"/>
            <a:ext cx="83581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effectiviteit verbeteren door te reageren op incidenten en te leren van ongevallen en incide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6055-AFAB-483D-8E4A-9F0D1CB6791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71680" y="149976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moe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kunn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will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 blijven van de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e 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geleg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ragen van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HBO- en brandbestrijd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vacuatiewe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D181-43BD-4181-ADCC-D3A7180BC8C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520" y="1142640"/>
            <a:ext cx="45003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1"/>
          <a:stretch/>
        </p:blipFill>
        <p:spPr>
          <a:xfrm>
            <a:off x="5500800" y="52862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http://www.biname.be/images/produits/signalisation/signalweb.gif"/>
          <p:cNvPicPr/>
          <p:nvPr/>
        </p:nvPicPr>
        <p:blipFill>
          <a:blip r:embed="rId2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224" name="Tijdelijke aanduiding voor dianummer 10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AACA-BB32-4CC6-B0B0-685CC73208B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5108400" y="1378080"/>
            <a:ext cx="1616400" cy="1931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4"/>
          <a:stretch/>
        </p:blipFill>
        <p:spPr>
          <a:xfrm>
            <a:off x="5181480" y="2444760"/>
            <a:ext cx="1590840" cy="187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5"/>
          <a:stretch/>
        </p:blipFill>
        <p:spPr>
          <a:xfrm>
            <a:off x="6143760" y="3286080"/>
            <a:ext cx="987120" cy="866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"/>
          <p:cNvPicPr/>
          <p:nvPr/>
        </p:nvPicPr>
        <p:blipFill>
          <a:blip r:embed="rId6"/>
          <a:stretch/>
        </p:blipFill>
        <p:spPr>
          <a:xfrm>
            <a:off x="5500800" y="4357800"/>
            <a:ext cx="96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680" y="1285920"/>
            <a:ext cx="7851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ven aan dat er een gevaar i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63680" indent="-2383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http://www.biname.be/images/produits/signalisation/ballisage.gif"/>
          <p:cNvPicPr/>
          <p:nvPr/>
        </p:nvPicPr>
        <p:blipFill>
          <a:blip r:embed="rId1"/>
          <a:stretch/>
        </p:blipFill>
        <p:spPr>
          <a:xfrm>
            <a:off x="6715080" y="342900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http://www.biname.be/images/produits/signalisation/barriere.gif"/>
          <p:cNvPicPr/>
          <p:nvPr/>
        </p:nvPicPr>
        <p:blipFill>
          <a:blip r:embed="rId2"/>
          <a:stretch/>
        </p:blipFill>
        <p:spPr>
          <a:xfrm>
            <a:off x="5500800" y="47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  <p:sp>
        <p:nvSpPr>
          <p:cNvPr id="234" name="Tijdelijke aanduiding voor dianummer 7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EEA1-E321-4EA4-93C3-B8402F65E24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kstvak 8"/>
          <p:cNvSpPr/>
          <p:nvPr/>
        </p:nvSpPr>
        <p:spPr>
          <a:xfrm>
            <a:off x="571680" y="4071960"/>
            <a:ext cx="607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3920" indent="-22392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s linten: wit - rood, of geel - zwar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kstvak 9"/>
          <p:cNvSpPr/>
          <p:nvPr/>
        </p:nvSpPr>
        <p:spPr>
          <a:xfrm>
            <a:off x="571680" y="4500720"/>
            <a:ext cx="61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5360" indent="-2253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rood - witte hekken worden ook gebruik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kstvak 11"/>
          <p:cNvSpPr/>
          <p:nvPr/>
        </p:nvSpPr>
        <p:spPr>
          <a:xfrm>
            <a:off x="571680" y="2720880"/>
            <a:ext cx="58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kstvak 12"/>
          <p:cNvSpPr/>
          <p:nvPr/>
        </p:nvSpPr>
        <p:spPr>
          <a:xfrm>
            <a:off x="571680" y="3643200"/>
            <a:ext cx="428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35080" indent="-2350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plakt of geschilderd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8" descr=""/>
          <p:cNvPicPr/>
          <p:nvPr/>
        </p:nvPicPr>
        <p:blipFill>
          <a:blip r:embed="rId1">
            <a:lum bright="-30000"/>
          </a:blip>
          <a:stretch/>
        </p:blipFill>
        <p:spPr>
          <a:xfrm rot="20067600">
            <a:off x="4846320" y="-43956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550044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71320" y="1219320"/>
            <a:ext cx="678636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el-zwarte mar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tr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ven bovenste en/of de onderste trede 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8934-5D23-4962-9516-A2A67FE8DC7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2"/>
          <a:srcRect l="27321" t="40454" r="0" b="41551"/>
          <a:stretch/>
        </p:blipFill>
        <p:spPr>
          <a:xfrm>
            <a:off x="6711840" y="642960"/>
            <a:ext cx="2432160" cy="603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3">
            <a:lum bright="-30000"/>
          </a:blip>
          <a:stretch/>
        </p:blipFill>
        <p:spPr>
          <a:xfrm rot="20067600">
            <a:off x="6440040" y="-296640"/>
            <a:ext cx="2500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le of witte strepen worden ook gebruikt om aan te g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voor het aangeven van een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plosiegevaarlijke zone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, wordt het waarschuwingsbord met de letters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3F33-A5BA-4DBB-AE04-1081F2FAD45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429160" y="4857840"/>
            <a:ext cx="170028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83581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500120"/>
            <a:ext cx="81435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verplicht de Europese Richtlijnen te vol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geving gaat verder </a:t>
            </a:r>
            <a:r>
              <a:rPr b="0" lang="nl-NL" sz="2400" spc="-1" strike="noStrike">
                <a:solidFill>
                  <a:srgbClr val="c0163a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Arbo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rbeidsinspec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313E-128D-464D-B09D-D5BBA2815A9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514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eidsplaatsen en projectloc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680" y="128556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én werknemer moeten ongevallen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kom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eest voorkomende ongeval is onderuitgaa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het lopen doo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normaal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A171-250A-4E3B-BA4A-5BF12AEE674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Afbeelding 7" descr="IMG_5781%20bouwplaats%20entree.jpg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</a:t>
            </a: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ronbestrijd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71680" y="1499760"/>
            <a:ext cx="85723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rg besteden aan ontwerp en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cheiden van mens en gevaa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CDF9-1448-403F-A2C0-EFFE3F39CED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Afbeelding 4" descr="Aquallure%201.jpg"/>
          <p:cNvPicPr/>
          <p:nvPr/>
        </p:nvPicPr>
        <p:blipFill>
          <a:blip r:embed="rId1"/>
          <a:stretch/>
        </p:blipFill>
        <p:spPr>
          <a:xfrm>
            <a:off x="2738520" y="407196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 </a:t>
            </a:r>
            <a:br>
              <a:rPr sz="2800"/>
            </a:b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lichten werknemer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680" y="1500120"/>
            <a:ext cx="83707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elf do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aangegeven, voorziene wegen en paden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0DBF-9A0B-4C22-BC37-368EAB74EE0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ouding en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eigen veiligheid en gezondheid en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ie van a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reventiebel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van ongevallen, gevaren of bijna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78D7-3B1C-4D8E-BF6D-BBBC1BC1D27A}" type="slidenum">
              <a:rPr b="1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71320" y="164268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e werkwijze toe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 de goede manier gebruik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gevaarlijke stoffen, vervoermiddelen en andere 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gebrachte beveilig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onlijke 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6921-BBF2-4EBB-B4F7-13DDCCC894E3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71320" y="499680"/>
            <a:ext cx="815652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163a"/>
                </a:solidFill>
                <a:latin typeface="Arial"/>
              </a:rPr>
              <a:t>rechten van de werknem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breking van werk bij ernstig gevaar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en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8DB8-359B-46D0-B064-A886933BC4EF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4498920" y="3645000"/>
            <a:ext cx="310824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5 Deskundige bijstand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71680" y="1571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moe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een of meer deskundigen aanste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F9E3-AE43-4CE3-8BBF-8F2C0222D12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rcRect l="41175" t="0" r="0" b="0"/>
          <a:stretch/>
        </p:blipFill>
        <p:spPr>
          <a:xfrm>
            <a:off x="7475400" y="0"/>
            <a:ext cx="1668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Bedrijfsgezondheidszor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71680" y="135684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e bedrijfsarts is belangr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is verantwoor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E85B-78E9-4149-95FE-B172F372104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7410600" y="0"/>
            <a:ext cx="1733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6 Toezicht op V+G 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71680" y="1142640"/>
            <a:ext cx="79819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inspectiediensten waaronder de Arbeidsinspe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en rechten van de inspectiediens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ren naleven van de wetgev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en naleving van de w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 onderzoe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illeggen werk bij ernstig 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-verbaal schrijven bij strafbaar f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agen geldige legitimatie werkne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zoeken van alle werkplek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E195-9A69-4514-9E91-AC727FE5C82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7" descr="MPj04373830000[1]"/>
          <p:cNvPicPr/>
          <p:nvPr/>
        </p:nvPicPr>
        <p:blipFill>
          <a:blip r:embed="rId1"/>
          <a:srcRect l="0" t="0" r="35719" b="0"/>
          <a:stretch/>
        </p:blipFill>
        <p:spPr>
          <a:xfrm>
            <a:off x="6934320" y="4495680"/>
            <a:ext cx="17240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7 Milieu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218960"/>
            <a:ext cx="76435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e schadelijke gevolgen van activ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stoot milieubelastende stoff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afvalstromen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doelmatige en correc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erwijdering van afval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1FE1-8336-4D97-8DD6-829D9EFEC56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5" descr="http://www.ivarem.be/images/ladder-van-lansink.GIF"/>
          <p:cNvPicPr/>
          <p:nvPr/>
        </p:nvPicPr>
        <p:blipFill>
          <a:blip r:embed="rId1">
            <a:grayscl/>
          </a:blip>
          <a:stretch/>
        </p:blipFill>
        <p:spPr>
          <a:xfrm>
            <a:off x="6000840" y="-108000"/>
            <a:ext cx="400032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2375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320" y="1499760"/>
            <a:ext cx="8267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bepaling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9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0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D9EA-C8BD-4ED2-9D5E-E68A79D0C70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8 Asbestbepa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 inventar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iet verwerken of be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houdend afval gescheiden afvo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verdacht materiaa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ten onderzoeken door onafhankelijk lab (niet bij werk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houdende producten met gebonden vezels kan iedereen af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7028-7926-43B6-8035-1BA462AEE7E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9 Arbeidstijden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71680" y="12855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x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in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sttijd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orderen dat werken en zorgtaken/gezin gecombineerd kunne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6DC2-F411-41AC-8DE4-8850628452B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3144960" y="4071960"/>
            <a:ext cx="3017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71680" y="1285560"/>
            <a:ext cx="8370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-gecertificeerde uitzendbureaus moeten vooraf goede voorlichting over risicobeheersing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nende organisatie is verantwoordelijk voor bescherming en veilig laten werken van inleenkrach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FAFF-DCC4-430F-9BC2-5341FF2AF1E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3520" y="12189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organisatie informeert  medewerker over eigen beleid, inlenende bedrijf, werk en werkpl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eidsverklaring uitzendorganis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regels inlenende bedrij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ne veiligheid- en gezondheids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onveiligheid en 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 en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unctie-eisen, gevaren, beheersmaatreg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-gebruik, vergunningen en specifieke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A39C-C4F9-4A4A-8DE5-195EC323F85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kstvak 6"/>
          <p:cNvSpPr/>
          <p:nvPr/>
        </p:nvSpPr>
        <p:spPr>
          <a:xfrm>
            <a:off x="1714680" y="548640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e inleenkracht krijgt documentatie mee</a:t>
            </a:r>
            <a:r>
              <a:rPr b="0" i="1" lang="nl-NL" sz="2000" spc="-1" strike="noStrike">
                <a:solidFill>
                  <a:srgbClr val="00ffff"/>
                </a:solidFill>
                <a:latin typeface="Arial"/>
                <a:ea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71400" y="1147680"/>
            <a:ext cx="7227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CB50-CBFC-4B6A-920F-7404C3B952C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kstvak 6"/>
          <p:cNvSpPr/>
          <p:nvPr/>
        </p:nvSpPr>
        <p:spPr>
          <a:xfrm>
            <a:off x="571680" y="1285920"/>
            <a:ext cx="84294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lenende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bedrij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directe instructie over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lden geva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handelen bij noodsitua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edoen met oefeni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inschakelen hulpdien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zet inleenkracht op afgesproken wer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oor nieuwe taken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angeven wat de risico’s en preventiemaatregelen zij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fspraken met uitzendorganisatie over  taakverdeling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wie informeert, instrueert en verstrekt de PB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70722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 Invloed van Europ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828440"/>
            <a:ext cx="79516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lid van de Europese U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ten moeten zo nodig worden aangepa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CE-marke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CE-markering op machines en PB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.b.t. veiligheid voldoen CE-producten aan de betreffende Europese richtl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lleen CE-gemarkeerde arbeidsmiddelen mogen op de markt worden gebracht en worden gebrui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2F5C-491B-4253-B9CF-1DE2499525F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181080" y="-509760"/>
            <a:ext cx="16192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1"/>
          <a:stretch/>
        </p:blipFill>
        <p:spPr>
          <a:xfrm>
            <a:off x="6242040" y="30240"/>
            <a:ext cx="27259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over veilig  en gezond werken</a:t>
            </a:r>
            <a:r>
              <a:rPr b="1" lang="nl-NL" sz="2800" spc="-1" strike="noStrike">
                <a:solidFill>
                  <a:srgbClr val="47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00120"/>
            <a:ext cx="815652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rbeidsomstandighedenwet  is 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angrijkste wet op het gebied v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 en gezondheid bij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werknemers bij het werk bescherm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eteren van de veilig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gezondheid en welzij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alle plaatsen waar 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065D-DD26-40F4-8478-9D24553667F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1320" y="1428480"/>
            <a:ext cx="7143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s én werknemers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geve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an het bedrijf waar je in dienst bent, maar ook degene die jou aanwijzingen geeft, toezicht houdt en middelen verstrekt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nemer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vaste/tijdelijke dienst, uitzendkrachten, stagiairs, vrijwilli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5C39-109D-47E3-9893-6108CF42403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65354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Welzijn in de 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71320" y="1428840"/>
            <a:ext cx="82674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richting werkplek aan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ten op persoonsfacto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eftijd en gesl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, vakmanschap en voer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27FB-2FBA-4F45-AEF8-29EB2E3E7B4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2" name="Tijdelijke aanduiding voor inhoud 3"/>
          <p:cNvSpPr/>
          <p:nvPr/>
        </p:nvSpPr>
        <p:spPr>
          <a:xfrm>
            <a:off x="571680" y="3571920"/>
            <a:ext cx="82674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vloed op eigen werkzaamhe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eentonig werk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62308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Kennis als uitgangspun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320" y="1643040"/>
            <a:ext cx="7886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 aan werknemers  o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GW algem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plekgevaren en veiligheids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schriften en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toets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A9E8-38C1-40B5-A26A-FFB69BC809B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7" name="Tijdelijke aanduiding voor inhoud 3"/>
          <p:cNvSpPr/>
          <p:nvPr/>
        </p:nvSpPr>
        <p:spPr>
          <a:xfrm>
            <a:off x="609480" y="3733920"/>
            <a:ext cx="7013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gever laat zich bijstaan door deskundig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30456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A58F-8A5A-41F4-8398-602B8B7A7D9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358040" y="0"/>
            <a:ext cx="1785960" cy="235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1" name=""/>
          <p:cNvSpPr txBox="1"/>
          <p:nvPr/>
        </p:nvSpPr>
        <p:spPr>
          <a:xfrm>
            <a:off x="571680" y="18396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dat de werknemer veilig werkt en geen gezondheidsschade oploopt door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als de werkgever dat niet goed doet, kan hij gestraft   worden en zal hij de schade aan de werknemer moeten vergoe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Hans Mulder</cp:lastModifiedBy>
  <dcterms:modified xsi:type="dcterms:W3CDTF">2016-10-06T09:07:09Z</dcterms:modified>
  <cp:revision>211</cp:revision>
  <dc:subject/>
  <dc:title>Taak en positie VFP</dc:title>
</cp:coreProperties>
</file>