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95200" y="739800"/>
            <a:ext cx="247644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BD6833-706B-4215-B733-C064EE67099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082F2D-7D65-47F1-94B6-5094C950EE1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2A6AF7-65D1-48FB-B569-7236E5AA720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93F18F-4D7A-48B6-82A8-BC93EE398BD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D91AC9-E8BF-440B-B499-937FCF52B38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2D10E9-596D-4A71-BFCC-FB9FB7FF9FC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5AF80D-7B88-45AF-AD99-62BF391BF17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60F877-5DF9-40FE-ACEE-6C3CBA90851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3CE1E7-C7FE-4D88-8C2F-5948FC8D79D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4F4FCD-121F-4052-BB82-F7F0C39758C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8E1353-C0B3-4C3E-949A-FC46BCE82C8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27AB73-441F-4D7D-B62C-D81C8F560FE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2F8530-AB4E-47D8-8424-698201DDBE6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23F470-F1C9-43DC-8757-CCC3E2CBB45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B997DA-814C-4774-BA20-1E8788BDE8B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ACBFFE-ED11-405A-9DDF-85D8B46879D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6E04F0-7828-49B2-A961-7C7D0EDE739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448B6F-DDDB-48D3-9940-C565CCC30B8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4CB84E-398E-4EF0-8613-E8DE7C186E6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F951F3-DE68-4FE9-B236-080D20A5B19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72109A-8150-474B-9AF2-310F26467D1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F98F02-3357-4B75-A5FF-B4A4684199C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731ED7-E55C-417A-B134-9ED734C9D22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18EFE6-E000-4ADC-881B-D196851C36F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7EE60D-3CE4-4382-A88C-081E89026D6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B45C04-1B38-4C0A-8006-6997327A727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F09-C6C7-42EF-9D68-06AA99BF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2C4-9B74-4962-ABE9-57C8CCE3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329-77A3-4392-B4B6-914D1FE5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568-6F07-4ED0-9706-ACB78E05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7A0-CC03-433C-AEB8-27F6C757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297-B20F-4EDF-83F9-1980F873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DB9-0CFD-4021-9C4E-273A9633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127-5632-4959-B48B-80D06206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03E-0A35-4476-B7DD-2BAD5489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3B9-0222-477B-BFD6-509D1F4D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8EC-EDB2-411A-AA9C-F17391F2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471-0ED4-438B-90B5-14C515AF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856A3B-6E8A-474A-AB5C-F1E19D9C7F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4FB6FE-D832-4ADF-92D5-4DFEFE3307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880" y="96696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2971800"/>
            <a:ext cx="506736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kr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376281-8F14-4D48-B9AD-DF91CC5DA0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534960" y="1011240"/>
          <a:ext cx="6162840" cy="864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011240"/>
                    <a:ext cx="6162840" cy="86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3"/>
          <p:cNvSpPr/>
          <p:nvPr/>
        </p:nvSpPr>
        <p:spPr>
          <a:xfrm rot="16200000">
            <a:off x="1926360" y="828684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-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 rot="16200000">
            <a:off x="1776240" y="592452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rp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 rot="16200000">
            <a:off x="1345680" y="2369160"/>
            <a:ext cx="33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eedse haak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ichzelfsluitende kl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 rot="16200000">
            <a:off x="5662080" y="196020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psch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 rot="16200000">
            <a:off x="5661360" y="409284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tenk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16200000">
            <a:off x="5813640" y="638100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16200000">
            <a:off x="4442040" y="95036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06CBAF-575C-46AA-B498-305D10695E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2880" y="41400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2880" y="1557000"/>
            <a:ext cx="6153120" cy="819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erkte van de staalkabel hangt af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amenstelling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kte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het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de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staalkabels horen certificat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gelden een aantal regel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laan in droge, goed geventileerde ruim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in aanraking laten komen met zuren. 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eren op roest en slij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8AE2C8-B4CD-4CA5-88F7-B3CBDFF2A2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en vernietigen van 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felige spli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rdere draden zijn gebroken (vleesha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één plaats draden gebroken (breukne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buiten verbogen of beschadig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est of slij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BB33D9-5ADA-42C7-B509-B9AFE7A2B9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71440" y="1008000"/>
          <a:ext cx="4427640" cy="70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008000"/>
                    <a:ext cx="4427640" cy="70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4365000" y="6918480"/>
            <a:ext cx="1396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31480" y="4935600"/>
            <a:ext cx="2919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reuk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756600" y="3032280"/>
            <a:ext cx="2856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ogel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27640" y="1584360"/>
            <a:ext cx="32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leesh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E6CAFE-C495-4BEC-A96F-46F9A7C611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oppen, lengen 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40040"/>
            <a:ext cx="6153120" cy="75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oppen en l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eide kanten een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strop heeft een grote lus, een leng een kleine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kern van de stroppen en lengen is van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akt van kunststof of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de hijsband zit een label gena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 is minimaal 5 cm breed en de ogen moeten minimaal 20 cm groot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B2CBFB-766C-47C7-A437-004F605932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bij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hijsband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scherpe h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teveel zo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de hijsband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3F9E47-2344-4729-87F8-9CEA25E286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 zijn ernstig versl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scheure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olie of chemicalië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is iets mis met de metalen onderdelen die aan de hijsband vastzitten (intering, breuk, vervorming, ro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58680" y="7701120"/>
            <a:ext cx="5626440" cy="19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hijsband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gekeurd dienen ze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nie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E3A332-0E77-4F88-AF37-1FCCF9FB0C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pen in samen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82720" y="9150480"/>
            <a:ext cx="5473800" cy="444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82720" y="83120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03500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168720" y="6789600"/>
            <a:ext cx="520560" cy="822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68720" y="564516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168720" y="44258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35600" y="8312040"/>
            <a:ext cx="52092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092400" y="2139840"/>
            <a:ext cx="520920" cy="827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244680" y="236700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598788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3321000" y="701676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3321000" y="45784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321000" y="579744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 flipV="1">
            <a:off x="3016080" y="8463960"/>
            <a:ext cx="901800" cy="672840"/>
          </a:xfrm>
          <a:custGeom>
            <a:avLst/>
            <a:gdLst>
              <a:gd name="textAreaLeft" fmla="*/ 187560 w 901800"/>
              <a:gd name="textAreaRight" fmla="*/ 714240 w 901800"/>
              <a:gd name="textAreaTop" fmla="*/ 140040 h 672840"/>
              <a:gd name="textAreaBottom" fmla="*/ 532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7" y="21600"/>
                </a:lnTo>
                <a:lnTo>
                  <a:pt x="1620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3168720" y="7931160"/>
            <a:ext cx="596880" cy="520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244680" y="8007480"/>
            <a:ext cx="3686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1104840" y="2971440"/>
            <a:ext cx="221004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 flipV="1">
            <a:off x="3390840" y="2895120"/>
            <a:ext cx="274320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1257480" y="5105160"/>
            <a:ext cx="1981080" cy="32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1333440" y="6400440"/>
            <a:ext cx="198144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1333440" y="7389360"/>
            <a:ext cx="182880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3543120" y="5029200"/>
            <a:ext cx="24382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H="1" flipV="1">
            <a:off x="3619080" y="6322680"/>
            <a:ext cx="2210040" cy="22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 flipV="1">
            <a:off x="3695400" y="7389360"/>
            <a:ext cx="213372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3068640" y="916632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4211640" y="764388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2458800" y="64990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cc"/>
                </a:solidFill>
                <a:latin typeface="Arial"/>
              </a:rPr>
              <a:t>7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830400" y="528012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339933"/>
                </a:solidFill>
                <a:latin typeface="Arial"/>
              </a:rPr>
              <a:t>58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382480" y="3443400"/>
            <a:ext cx="721440" cy="305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cc99"/>
                </a:solidFill>
                <a:latin typeface="Arial"/>
              </a:rPr>
              <a:t>52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152520" y="31989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cc99"/>
                </a:solidFill>
                <a:latin typeface="Arial"/>
              </a:rPr>
              <a:t>30 </a:t>
            </a:r>
            <a:r>
              <a:rPr b="0" lang="nl-NL" sz="1600" spc="-1" strike="noStrike" baseline="30000">
                <a:solidFill>
                  <a:srgbClr val="00cc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228480" y="518004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339933"/>
                </a:solidFill>
                <a:latin typeface="Arial"/>
              </a:rPr>
              <a:t>60 </a:t>
            </a:r>
            <a:r>
              <a:rPr b="0" lang="nl-NL" sz="1600" spc="-1" strike="noStrike" baseline="30000">
                <a:solidFill>
                  <a:srgbClr val="3399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228480" y="63993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ffcc"/>
                </a:solidFill>
                <a:latin typeface="Arial"/>
              </a:rPr>
              <a:t>90 </a:t>
            </a:r>
            <a:r>
              <a:rPr b="0" lang="nl-NL" sz="1600" spc="-1" strike="noStrike" baseline="30000">
                <a:solidFill>
                  <a:srgbClr val="00ff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3228480" y="761688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0033"/>
                </a:solidFill>
                <a:latin typeface="Arial"/>
              </a:rPr>
              <a:t>120 </a:t>
            </a:r>
            <a:r>
              <a:rPr b="0" lang="nl-NL" sz="1600" spc="-1" strike="noStrike" baseline="30000">
                <a:solidFill>
                  <a:srgbClr val="ff00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71646C-DE5C-47B3-8B5B-2615B4D1A3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soorten touw: natuur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kunst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waar touw aan blootgesteld kan wo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ssieve stoffen en chemical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Jzerroest en vo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licht en droo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rpe hoeken aa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6400" y="7778880"/>
            <a:ext cx="6007320" cy="1892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uw mag niet gebruikt word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ten die zwaarder zijn dan 1000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53D694-EB8E-4445-B7F3-8EC995564F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van 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ij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 met olie en chemical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kleuring door ro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er bij het opendraaien van het touw poeder uitko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D9F965-F8BF-4802-A1EB-E60160F009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en &amp;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ste regel: het is verboden te hijsen met iets dat daar niet voor is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en van soorten hijskra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biele 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venloopkranen en portaal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laad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uw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49200" y="2444760"/>
            <a:ext cx="6540480" cy="1589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een hijskraan is een 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t is ingericht en uitgerust i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aatsen van vrijhangende l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C47D8F-4D00-4F98-9938-78FF842445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k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2880" y="2133720"/>
            <a:ext cx="6153120" cy="73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één keer per jaar worden geïnspec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regelmatig worden beproef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aan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een repa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etting, eens per 4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het gebruik van tak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aak nooit op de punt be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 niet overbelasten en inspecteren voor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constateerde overbelasting direct laten inspec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06400" y="8389800"/>
            <a:ext cx="5702400" cy="1355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delingse trekkracht is levensgevaar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B3847D-E5B7-40FB-BDE7-107FA081F8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2880" y="1406160"/>
            <a:ext cx="6153120" cy="82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juiste til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gever moet kijken naar de mogelijke gevaren van tillen (RI&amp;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hulpmiddelen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ang, magneet, zuign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werkmethoden (kranen, vorkheftrucks e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d 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F67C2F-3F15-468D-A6F6-E55FE3618A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Inge Nagle\Mijn documenten\Mijn afbeeldingen\houding.bmp"/>
          <p:cNvPicPr/>
          <p:nvPr/>
        </p:nvPicPr>
        <p:blipFill>
          <a:blip r:embed="rId1"/>
          <a:stretch/>
        </p:blipFill>
        <p:spPr>
          <a:xfrm>
            <a:off x="685800" y="380880"/>
            <a:ext cx="5838840" cy="421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838080" y="5181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UT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C0C3A7-0E63-40AC-B63C-0E2BD5DFC5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Documents and Settings\Inge Nagle\Mijn documenten\Mijn afbeeldingen\houding1.bmp"/>
          <p:cNvPicPr/>
          <p:nvPr/>
        </p:nvPicPr>
        <p:blipFill>
          <a:blip r:embed="rId1"/>
          <a:stretch/>
        </p:blipFill>
        <p:spPr>
          <a:xfrm>
            <a:off x="700200" y="2743200"/>
            <a:ext cx="5838840" cy="449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609480" y="4572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NK AAN JE RU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IL JU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FFB518-0618-4776-882C-98BB29E16A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ikelen, uitglijden en verst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2880" y="2055960"/>
            <a:ext cx="6153120" cy="74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isico’s kunnen worden weg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aanpak (ontwerp, reparatie, opruimen, inrichting bouwpla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 (kleurmarkering, kleine afzetting zoals palen met kettingen ertu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(veiligheidsschoenen e.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7800" y="2139840"/>
            <a:ext cx="593100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ofdzaak van struikelen, uitglij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is een niet-egal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ladde ondergr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datum 2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4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A99185-4ECB-4E96-BB7D-1E58EE2C93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ps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12800" y="2895480"/>
            <a:ext cx="5972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503FDB-734E-485B-89E6-00B9807040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3048120"/>
            <a:ext cx="609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6A2243-9FDA-41F6-A4DD-96AFC6BC5F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machinericht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hijskranen moeten voldo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Europ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richtlijn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Één onderdeel van de machine kan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een aandrijfmechanisme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heeft een bedieningsschakelaar of vermogens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3AAA4C-26F3-41FF-AC35-22BB366579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880" y="26172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uring van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2880" y="1481040"/>
            <a:ext cx="6153120" cy="819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kranen voldoen 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wettelijke eisen z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stgelegd 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bo-besl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N-nor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I bladen Arbeidsinsp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de kraan behoort Kraanbo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tabellen en -grafieken 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ertifica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de kraandrij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t over de nodige vakken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bewij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gistratieboek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D8E28C-417F-4414-849B-D06E2C963C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&amp;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2090520"/>
            <a:ext cx="6153120" cy="72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rootste risico bij hijsen is 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len van de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maatregelen diene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den geno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gereedschap dient gekeurd te zijn en sterk genoeg voor de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atie tussen kraandrijver en degene die de last aanslaat en begeleidt (rigger) dient goed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ndkracht 6 en meer mag er niet worden geh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grond moet stev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controleren van materi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DBB092-084C-42D8-AE1C-DF513CEB8C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2880" y="339840"/>
            <a:ext cx="615312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,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79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 kettingwerk wordt versta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l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b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54120" y="7550280"/>
            <a:ext cx="6083280" cy="212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kettingwerk dient een max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sting te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4AF2EE-160A-4CC8-A1C4-AC18E6F061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aat bij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880" y="2744280"/>
            <a:ext cx="6153120" cy="67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het certificaat van de hijsketting dient het volgende te staa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werk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ef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oei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istratie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2C59CC-763B-4445-82EA-65C1C28249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regels voor Hijsket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i bouten van sluitingen helemaal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st nooit de punt van de 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niet beschadi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hamer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9:00:13Z</dcterms:created>
  <dc:creator>Hajo Kleijburg</dc:creator>
  <dc:description>Revisie 0</dc:description>
  <dc:language>en-US</dc:language>
  <cp:lastModifiedBy>Hans Mulder</cp:lastModifiedBy>
  <cp:lastPrinted>2000-04-30T14:23:00Z</cp:lastPrinted>
  <dcterms:modified xsi:type="dcterms:W3CDTF">2016-10-03T10:34:54Z</dcterms:modified>
  <cp:revision>18</cp:revision>
  <dc:subject>Les 6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