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.wmf" ContentType="image/x-wmf"/>
  <Override PartName="/ppt/media/image29.png" ContentType="image/png"/>
  <Override PartName="/ppt/media/image43.png" ContentType="image/png"/>
  <Override PartName="/ppt/media/image3.wmf" ContentType="image/x-wmf"/>
  <Override PartName="/ppt/media/image32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46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8.png" ContentType="image/png"/>
  <Override PartName="/ppt/media/image38.png" ContentType="image/png"/>
  <Override PartName="/ppt/media/image12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7.png" ContentType="image/png"/>
  <Override PartName="/ppt/media/image40.wmf" ContentType="image/x-wmf"/>
  <Override PartName="/ppt/media/image37.png" ContentType="image/png"/>
  <Override PartName="/ppt/media/image6.png" ContentType="image/png"/>
  <Override PartName="/ppt/media/image3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0CC8-F612-42A6-AC9C-53DAE80AA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D4F1-8C95-4D8D-91E6-957AA522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0B5E-962E-4675-9DBB-536969E34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6280-367C-4DED-ACD6-83B8283E8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DFC0-A1D3-4D00-BEAB-061542BAB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05BD-32FE-43EE-9D9F-98A998C4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B084E-0B42-4F51-8C8A-FBAEB985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1A0A-8EFC-4281-A46E-E46C1943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EF5A-B288-49D0-A022-D7D31D60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18BDA-6F3F-4E64-9413-46CA9D58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6E180-83CA-4862-B0F1-158BA81A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24AE-12E5-46B4-9E87-64F03EEF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4BBB1-F476-428F-B7BA-6705623C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9933-A82D-46F1-8695-540C2EE9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6BB5-2549-41AE-AF96-C6762D54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5660A-F3B5-4197-B571-BA366A92B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3FE3-233A-4763-B5CB-9321C73EA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7E5A9-62D3-4FA7-91F9-93765037D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E8065-ED81-43F7-BE8F-39D27A29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E115D-3F36-45D9-ABFC-FDA7BCFC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1DB21-1A3D-4976-BBD1-551FD467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85D2C-8597-4F01-AC7B-411AB997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1C81-5B0F-451F-A6A8-8388FC59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01364-9B3A-44DE-9A3B-BA7946CB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AD6A2-35A1-48E0-9915-A3086200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4D1D4-39C5-4FED-8DC1-E84961EC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AB90F-549E-40C3-9EA0-FD2EEFAA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8C48B-B7D8-4A60-9538-30F70207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DB8A7-1620-49F4-BB97-FB40AF64B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598A7-C2F4-49B2-8419-7F2648E81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925F-6E1D-4EC4-B8DA-9D02B394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A9BE-1C63-438D-A9CE-93132279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F211-8A7B-4E03-98B1-E45369D1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EF79-9727-442B-BDEC-1F0FF806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137A-3767-4F61-9483-5646A833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0DA5-42EC-4D84-847A-2D14C3A3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0B12-3199-4DBB-859E-8C7152FAE819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0998-44AA-43CA-9C5D-FD61D87B8B79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2ED1-ACB6-4154-8BDD-FB383C63529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erckebosch.nl/html/home.php" TargetMode="External"/><Relationship Id="rId3" Type="http://schemas.openxmlformats.org/officeDocument/2006/relationships/hyperlink" Target="http://www.kerckebosch.nl/html/home.php" TargetMode="External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7.png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0.png"/><Relationship Id="rId12" Type="http://schemas.openxmlformats.org/officeDocument/2006/relationships/image" Target="../media/image19.wmf"/><Relationship Id="rId13" Type="http://schemas.openxmlformats.org/officeDocument/2006/relationships/image" Target="../media/image19.wmf"/><Relationship Id="rId14" Type="http://schemas.openxmlformats.org/officeDocument/2006/relationships/image" Target="../media/image19.wmf"/><Relationship Id="rId15" Type="http://schemas.openxmlformats.org/officeDocument/2006/relationships/image" Target="../media/image19.wmf"/><Relationship Id="rId16" Type="http://schemas.openxmlformats.org/officeDocument/2006/relationships/image" Target="../media/image19.wmf"/><Relationship Id="rId17" Type="http://schemas.openxmlformats.org/officeDocument/2006/relationships/image" Target="../media/image19.wmf"/><Relationship Id="rId18" Type="http://schemas.openxmlformats.org/officeDocument/2006/relationships/image" Target="../media/image19.wmf"/><Relationship Id="rId19" Type="http://schemas.openxmlformats.org/officeDocument/2006/relationships/image" Target="../media/image19.wmf"/><Relationship Id="rId20" Type="http://schemas.openxmlformats.org/officeDocument/2006/relationships/image" Target="../media/image20.png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image" Target="../media/image34.png"/><Relationship Id="rId16" Type="http://schemas.openxmlformats.org/officeDocument/2006/relationships/image" Target="../media/image35.png"/><Relationship Id="rId17" Type="http://schemas.openxmlformats.org/officeDocument/2006/relationships/image" Target="../media/image36.png"/><Relationship Id="rId18" Type="http://schemas.openxmlformats.org/officeDocument/2006/relationships/image" Target="../media/image37.png"/><Relationship Id="rId19" Type="http://schemas.openxmlformats.org/officeDocument/2006/relationships/image" Target="../media/image38.png"/><Relationship Id="rId20" Type="http://schemas.openxmlformats.org/officeDocument/2006/relationships/image" Target="../media/image39.png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40.wmf"/><Relationship Id="rId4" Type="http://schemas.openxmlformats.org/officeDocument/2006/relationships/image" Target="../media/image10.png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41.png"/><Relationship Id="rId4" Type="http://schemas.openxmlformats.org/officeDocument/2006/relationships/image" Target="../media/image7.png"/><Relationship Id="rId5" Type="http://schemas.openxmlformats.org/officeDocument/2006/relationships/image" Target="../media/image42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5">
            <a:hlinkClick r:id="rId2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AutoShape 7">
            <a:hlinkClick r:id="rId3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ijdelijke aanduiding voor dianumm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C1D8-5917-4DD4-A620-E9B84EE5869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itel 4"/>
          <p:cNvSpPr/>
          <p:nvPr/>
        </p:nvSpPr>
        <p:spPr>
          <a:xfrm>
            <a:off x="642960" y="571680"/>
            <a:ext cx="8020080" cy="36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bb2d"/>
                </a:solidFill>
                <a:latin typeface="Arial"/>
                <a:ea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b800"/>
                </a:solidFill>
                <a:latin typeface="Arial"/>
                <a:ea typeface="Arial"/>
              </a:rPr>
              <a:t>Hoofdstuk 3</a:t>
            </a:r>
            <a:br>
              <a:rPr sz="4400"/>
            </a:br>
            <a:r>
              <a:rPr b="1" lang="en-US" sz="4400" spc="-1" strike="noStrike">
                <a:solidFill>
                  <a:srgbClr val="44b800"/>
                </a:solidFill>
                <a:latin typeface="Arial"/>
                <a:ea typeface="Arial"/>
              </a:rPr>
              <a:t>Veiligheidsmotivatie,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b800"/>
                </a:solidFill>
                <a:latin typeface="Arial"/>
                <a:ea typeface="Arial"/>
              </a:rPr>
              <a:t>leiderschap en veilig werkgedrag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9F1E-FB4B-4A84-973B-5A448476400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71680" y="14997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uwe medewerker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lgemene voorlicht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odmaatreg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ldingsprocedur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t te doen bij een ongev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BM-gebrui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plek inf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5 VGM-instructi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41F8-72FD-4605-8A5D-299475D5464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71680" y="1499760"/>
            <a:ext cx="8370720" cy="16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ste structuur en regelma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bereid, agenda en versl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breng van iedere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5 VGM-overle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F744-3708-4A3B-BE90-9DE8827AC00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571680" y="1285560"/>
            <a:ext cx="83325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werken volgens veiligheidsvoorschrif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kaar aanspreken op onveilig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grijpen bij onveilige situati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agen stellen bij onduidelijkhe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leidinggevende stimuleert dit door voorbeeld gedra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zicht  te houden en te corrig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kening te houden met de inbreng v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kundigen en medewerk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tuigende en onderbouwde instructies te gev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6 Gewenst gedra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6A52-D686-4CE9-A9B6-09CBE333B88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05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7 Gedrag beïnvloeden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16" name="Tekstvak 6"/>
          <p:cNvGrpSpPr/>
          <p:nvPr/>
        </p:nvGrpSpPr>
        <p:grpSpPr>
          <a:xfrm>
            <a:off x="249120" y="1047600"/>
            <a:ext cx="1378080" cy="689040"/>
            <a:chOff x="249120" y="1047600"/>
            <a:chExt cx="1378080" cy="689040"/>
          </a:xfrm>
        </p:grpSpPr>
        <p:pic>
          <p:nvPicPr>
            <p:cNvPr id="317" name="Tekstvak 6" descr=""/>
            <p:cNvPicPr/>
            <p:nvPr/>
          </p:nvPicPr>
          <p:blipFill>
            <a:blip r:embed="rId2"/>
            <a:stretch/>
          </p:blipFill>
          <p:spPr>
            <a:xfrm>
              <a:off x="249120" y="1047600"/>
              <a:ext cx="13780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428760" y="11430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oel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" name="Tekstvak 7"/>
          <p:cNvGrpSpPr/>
          <p:nvPr/>
        </p:nvGrpSpPr>
        <p:grpSpPr>
          <a:xfrm>
            <a:off x="249120" y="2120760"/>
            <a:ext cx="1463760" cy="689040"/>
            <a:chOff x="249120" y="2120760"/>
            <a:chExt cx="1463760" cy="689040"/>
          </a:xfrm>
        </p:grpSpPr>
        <p:pic>
          <p:nvPicPr>
            <p:cNvPr id="320" name="Tekstvak 7" descr=""/>
            <p:cNvPicPr/>
            <p:nvPr/>
          </p:nvPicPr>
          <p:blipFill>
            <a:blip r:embed="rId3"/>
            <a:stretch/>
          </p:blipFill>
          <p:spPr>
            <a:xfrm>
              <a:off x="249120" y="2120760"/>
              <a:ext cx="146376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428760" y="221472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asis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2" name="Tekstvak 8"/>
          <p:cNvGrpSpPr/>
          <p:nvPr/>
        </p:nvGrpSpPr>
        <p:grpSpPr>
          <a:xfrm>
            <a:off x="228600" y="3352680"/>
            <a:ext cx="1784160" cy="1066680"/>
            <a:chOff x="228600" y="3352680"/>
            <a:chExt cx="1784160" cy="1066680"/>
          </a:xfrm>
        </p:grpSpPr>
        <p:pic>
          <p:nvPicPr>
            <p:cNvPr id="323" name="Tekstvak 8" descr=""/>
            <p:cNvPicPr/>
            <p:nvPr/>
          </p:nvPicPr>
          <p:blipFill>
            <a:blip r:embed="rId4"/>
            <a:stretch/>
          </p:blipFill>
          <p:spPr>
            <a:xfrm>
              <a:off x="228600" y="3352680"/>
              <a:ext cx="17841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416160" y="3448080"/>
              <a:ext cx="149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ategie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25" name="Groep 15" descr=""/>
          <p:cNvPicPr/>
          <p:nvPr/>
        </p:nvPicPr>
        <p:blipFill>
          <a:blip r:embed="rId5"/>
          <a:stretch/>
        </p:blipFill>
        <p:spPr>
          <a:xfrm>
            <a:off x="2798640" y="2151000"/>
            <a:ext cx="2565360" cy="590760"/>
          </a:xfrm>
          <a:prstGeom prst="rect">
            <a:avLst/>
          </a:prstGeom>
          <a:ln w="0">
            <a:noFill/>
          </a:ln>
        </p:spPr>
      </p:pic>
      <p:grpSp>
        <p:nvGrpSpPr>
          <p:cNvPr id="326" name="Tekstvak 9"/>
          <p:cNvGrpSpPr/>
          <p:nvPr/>
        </p:nvGrpSpPr>
        <p:grpSpPr>
          <a:xfrm>
            <a:off x="249120" y="4681440"/>
            <a:ext cx="1457280" cy="695520"/>
            <a:chOff x="249120" y="4681440"/>
            <a:chExt cx="1457280" cy="695520"/>
          </a:xfrm>
        </p:grpSpPr>
        <p:pic>
          <p:nvPicPr>
            <p:cNvPr id="327" name="Tekstvak 9" descr=""/>
            <p:cNvPicPr/>
            <p:nvPr/>
          </p:nvPicPr>
          <p:blipFill>
            <a:blip r:embed="rId6"/>
            <a:stretch/>
          </p:blipFill>
          <p:spPr>
            <a:xfrm>
              <a:off x="249120" y="4681440"/>
              <a:ext cx="145728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428760" y="477684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cties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9" name="Tekstvak 10"/>
          <p:cNvSpPr/>
          <p:nvPr/>
        </p:nvSpPr>
        <p:spPr>
          <a:xfrm>
            <a:off x="3146400" y="1071720"/>
            <a:ext cx="371484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veiliger  werkgedra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kstvak 12"/>
          <p:cNvSpPr/>
          <p:nvPr/>
        </p:nvSpPr>
        <p:spPr>
          <a:xfrm>
            <a:off x="1905120" y="3357720"/>
            <a:ext cx="1806480" cy="947160"/>
          </a:xfrm>
          <a:prstGeom prst="rect">
            <a:avLst/>
          </a:prstGeom>
          <a:solidFill>
            <a:srgbClr val="ee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benadruk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succes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1" name="Groep 19" descr=""/>
          <p:cNvPicPr/>
          <p:nvPr/>
        </p:nvPicPr>
        <p:blipFill>
          <a:blip r:embed="rId7"/>
          <a:stretch/>
        </p:blipFill>
        <p:spPr>
          <a:xfrm>
            <a:off x="5303880" y="2152800"/>
            <a:ext cx="2560680" cy="590400"/>
          </a:xfrm>
          <a:prstGeom prst="rect">
            <a:avLst/>
          </a:prstGeom>
          <a:ln w="0">
            <a:noFill/>
          </a:ln>
        </p:spPr>
      </p:pic>
      <p:sp>
        <p:nvSpPr>
          <p:cNvPr id="332" name="Tekstvak 27"/>
          <p:cNvSpPr/>
          <p:nvPr/>
        </p:nvSpPr>
        <p:spPr>
          <a:xfrm>
            <a:off x="2071800" y="4776840"/>
            <a:ext cx="164304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acti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strategie 1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Tekstvak 29"/>
          <p:cNvSpPr/>
          <p:nvPr/>
        </p:nvSpPr>
        <p:spPr>
          <a:xfrm>
            <a:off x="3581280" y="3357720"/>
            <a:ext cx="1844640" cy="947160"/>
          </a:xfrm>
          <a:prstGeom prst="rect">
            <a:avLst/>
          </a:prstGeom>
          <a:solidFill>
            <a:srgbClr val="ee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verminder nadel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34" name="Rechte verbindingslijn met pijl 30"/>
          <p:cNvCxnSpPr>
            <a:endCxn id="330" idx="0"/>
          </p:cNvCxnSpPr>
          <p:nvPr/>
        </p:nvCxnSpPr>
        <p:spPr>
          <a:xfrm flipH="1">
            <a:off x="2807640" y="2738520"/>
            <a:ext cx="1253160" cy="619920"/>
          </a:xfrm>
          <a:prstGeom prst="straightConnector1">
            <a:avLst/>
          </a:prstGeom>
          <a:ln w="76320">
            <a:solidFill>
              <a:srgbClr val="44b800"/>
            </a:solidFill>
            <a:miter/>
            <a:tailEnd len="med" type="arrow" w="med"/>
          </a:ln>
        </p:spPr>
      </p:cxnSp>
      <p:cxnSp>
        <p:nvCxnSpPr>
          <p:cNvPr id="335" name="Rechte verbindingslijn met pijl 31"/>
          <p:cNvCxnSpPr/>
          <p:nvPr/>
        </p:nvCxnSpPr>
        <p:spPr>
          <a:xfrm>
            <a:off x="4143240" y="2738520"/>
            <a:ext cx="535680" cy="619920"/>
          </a:xfrm>
          <a:prstGeom prst="straightConnector1">
            <a:avLst/>
          </a:prstGeom>
          <a:ln w="76320">
            <a:solidFill>
              <a:srgbClr val="44b800"/>
            </a:solidFill>
            <a:miter/>
            <a:tailEnd len="med" type="arrow" w="med"/>
          </a:ln>
        </p:spPr>
      </p:cxnSp>
      <p:cxnSp>
        <p:nvCxnSpPr>
          <p:cNvPr id="336" name="Rechte verbindingslijn met pijl 37"/>
          <p:cNvCxnSpPr>
            <a:endCxn id="337" idx="0"/>
          </p:cNvCxnSpPr>
          <p:nvPr/>
        </p:nvCxnSpPr>
        <p:spPr>
          <a:xfrm>
            <a:off x="6642720" y="2738520"/>
            <a:ext cx="1641960" cy="619920"/>
          </a:xfrm>
          <a:prstGeom prst="straightConnector1">
            <a:avLst/>
          </a:prstGeom>
          <a:ln w="76320">
            <a:solidFill>
              <a:srgbClr val="44b800"/>
            </a:solidFill>
            <a:miter/>
            <a:tailEnd len="med" type="arrow" w="med"/>
          </a:ln>
        </p:spPr>
      </p:cxnSp>
      <p:cxnSp>
        <p:nvCxnSpPr>
          <p:cNvPr id="338" name="Rechte verbindingslijn met pijl 38"/>
          <p:cNvCxnSpPr>
            <a:endCxn id="339" idx="0"/>
          </p:cNvCxnSpPr>
          <p:nvPr/>
        </p:nvCxnSpPr>
        <p:spPr>
          <a:xfrm flipH="1">
            <a:off x="6476400" y="2738520"/>
            <a:ext cx="143640" cy="619920"/>
          </a:xfrm>
          <a:prstGeom prst="straightConnector1">
            <a:avLst/>
          </a:prstGeom>
          <a:ln w="76320">
            <a:solidFill>
              <a:srgbClr val="44b800"/>
            </a:solidFill>
            <a:miter/>
            <a:tailEnd len="med" type="arrow" w="med"/>
          </a:ln>
        </p:spPr>
      </p:cxnSp>
      <p:sp>
        <p:nvSpPr>
          <p:cNvPr id="339" name="Tekstvak 40"/>
          <p:cNvSpPr/>
          <p:nvPr/>
        </p:nvSpPr>
        <p:spPr>
          <a:xfrm>
            <a:off x="5334120" y="3357720"/>
            <a:ext cx="2286000" cy="947160"/>
          </a:xfrm>
          <a:prstGeom prst="rect">
            <a:avLst/>
          </a:prstGeom>
          <a:solidFill>
            <a:srgbClr val="ee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gevolg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benadrukk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Tekstvak 41"/>
          <p:cNvSpPr/>
          <p:nvPr/>
        </p:nvSpPr>
        <p:spPr>
          <a:xfrm>
            <a:off x="7572240" y="3357720"/>
            <a:ext cx="1425600" cy="947160"/>
          </a:xfrm>
          <a:prstGeom prst="rect">
            <a:avLst/>
          </a:prstGeom>
          <a:solidFill>
            <a:srgbClr val="ee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moeilijk mak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Tekstvak 47"/>
          <p:cNvSpPr/>
          <p:nvPr/>
        </p:nvSpPr>
        <p:spPr>
          <a:xfrm>
            <a:off x="3786120" y="4786200"/>
            <a:ext cx="1643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acti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strategie 2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Tekstvak 48"/>
          <p:cNvSpPr/>
          <p:nvPr/>
        </p:nvSpPr>
        <p:spPr>
          <a:xfrm>
            <a:off x="5572080" y="4786200"/>
            <a:ext cx="1928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acti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strategie 3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Tekstvak 49"/>
          <p:cNvSpPr/>
          <p:nvPr/>
        </p:nvSpPr>
        <p:spPr>
          <a:xfrm>
            <a:off x="7543800" y="4724280"/>
            <a:ext cx="1600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acti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strategie 4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6718-D0AE-4A60-92B6-FE0A00928B2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143000" y="1828440"/>
            <a:ext cx="371808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ucces benadruk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beeldgedra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kmansch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ard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ef bespre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idelijke instructies ge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Strategische acties bevorderen veilig gedra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6" name="Tekstvak 6"/>
          <p:cNvSpPr/>
          <p:nvPr/>
        </p:nvSpPr>
        <p:spPr>
          <a:xfrm>
            <a:off x="1000080" y="100008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timuleer veilighei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Tijdelijke aanduiding voor inhoud 4"/>
          <p:cNvSpPr/>
          <p:nvPr/>
        </p:nvSpPr>
        <p:spPr>
          <a:xfrm>
            <a:off x="5003640" y="1785960"/>
            <a:ext cx="385452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2. nadelen verminder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anteerbare voorschrift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reikbare veiligheids-    voorziening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comfortabele PBM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tijd voor veilig werk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4463-4277-49CE-8D9B-E3F647D5848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762120" y="1785960"/>
            <a:ext cx="409896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gevolgen benadruk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eer ove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preek gevolgen van ongeva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f instructies over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veilig han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veilige situ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Strategische acties bevorderen veilig gedra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1" name="Tekstvak 6"/>
          <p:cNvSpPr/>
          <p:nvPr/>
        </p:nvSpPr>
        <p:spPr>
          <a:xfrm>
            <a:off x="1000080" y="100008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rem onveilighei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Tijdelijke aanduiding voor inhoud 4"/>
          <p:cNvSpPr/>
          <p:nvPr/>
        </p:nvSpPr>
        <p:spPr>
          <a:xfrm>
            <a:off x="4800600" y="1785960"/>
            <a:ext cx="414036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maak het moeilij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mheiningen/afzetting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aak afzetten beveiliging onmogelijk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erwijder slecht   gereedschap en materiaal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ancties bij onveilig gedrag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52EE-A68E-4517-8E1D-664A70920FD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785880" y="1143000"/>
            <a:ext cx="4857840" cy="44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aag toestemm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m de tij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at om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én perso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ke risico’s genome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schriften nageleef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preek  + en  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k afspra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s corr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8 OOG-ronde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6" name="Tekstvak 6"/>
          <p:cNvSpPr/>
          <p:nvPr/>
        </p:nvSpPr>
        <p:spPr>
          <a:xfrm>
            <a:off x="5003640" y="1143000"/>
            <a:ext cx="383544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Arial"/>
              </a:rPr>
              <a:t>letten op: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rde/netheid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ebruik gereedschap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ouding, plek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erkuitvoering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empo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D062-4989-4E16-A72B-9F8D55E8049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71680" y="999720"/>
            <a:ext cx="83325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óór het werk, liefst op de werkpl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opdrachtgevers en aannem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een werktea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ijdens een toolbo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wisseling van ploe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lichtingen afstemmen op niveau werknem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gestemd op de werkzaamhe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aktisch en begrijpelijk (J&amp;J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9 Veiligheid besprek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39FB-1CD6-4FF6-B195-522EE055DB2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99680" y="1071360"/>
            <a:ext cx="86439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risicovol werk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en veiligheidsmaatregelen volgens afspraak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 checken, zo nodig ingrij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werkplekinspec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 met 2 (of 3) perso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ten op middelen, opstellingen beschermings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ook handelingen, procedures volgen, zie OO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orteer tekorten, verbeteracties en de verantwoordelij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andacht voor belasting van medewerk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kom schade, verzuim en arbeidsongeschikt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 op lichamelijke en mentale bela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10 Controle en toezich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3975-1FCA-4B71-B58D-DD82676961B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71680" y="1571760"/>
            <a:ext cx="7968960" cy="26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hamelijke of fysieke belas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ische belasting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ynamische bela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ale belas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gonom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11 Overbelast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1320" y="571320"/>
            <a:ext cx="8343720" cy="57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 Leiderschap en werkgedra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71320" y="1071720"/>
            <a:ext cx="83581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 en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GM-beleid en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eutelrol van de leidinggeven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atorische inspanningen om veilig gedrag te bevord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GM-overleg en instruc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merken van gewenst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drag beïnvloe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G-ron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9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lichting en oplei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0 Controle en toezich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1 Aandacht voor lichamelijke en mentale belas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298D-F21B-47BF-96AD-5D6BF3D0817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AD01-1B61-4A7F-9F09-11C5EFF77C5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571680" y="1066320"/>
            <a:ext cx="78739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lichamelijke of fysieke belas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angrijke factore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uding, bewe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panning / werk- en rusttij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ongunstig zij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ng zitten of staan in dezelfde houding (statische belastin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el kracht leveren, zoals bij traplopen en zwaar tillen, trillingen en terugkerende bewegingen (dynamische belastin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ogelijke gevolge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moeidheid, spierpijn, kramp, schade aan gewrichten bij dynamische bela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572320" cy="71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11 Overbelast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0870-F6F5-47DB-A1D6-303FF094434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571680" y="766800"/>
            <a:ext cx="83325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zittend en staand 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 mogelijk afwiss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an bij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chtuitoefening, onvoldoende beenruim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elmatig opstaan en laag, ver of hoog rei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ij zittend 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un bovenbenen (zitvlak) en schouders (leuning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rg voor goede rugst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andmatig til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hankelijk van krachten en duur, vooral ook rugbela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liever hulpmiddelen of beperk belasting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or samenwerken of extra pauz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rg voor goede til-instructie en gezondheidskundige beoordel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46288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Praktijkvoorbeeld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Mentale belast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71680" y="928440"/>
            <a:ext cx="83325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druk (regelmogelijkheden / regelvereist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mpetenties (taak / capaciteit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sfeer (relaties collega’s en leidinggevend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ysische omstandighe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(on)zekerhei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chterliggend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frastructuur en uitrust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rsoonlijkheidskenmerke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D96D-48DE-4040-BCA6-D1BD8F1D769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Ergonomische benader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571680" y="1500120"/>
            <a:ext cx="8370720" cy="33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 ook op langere termijn goed te kunnen werken, is een goede werkomgeving met comfort wenselij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op signalen, klachten en nieuwe ontwikkel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gonomen zorgen voor een mensgericht (her)ontwerp van werkplekk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e houden naast lichamelijke en mentale belasting rekening met licht, geluid, klimaat en trill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9C92-ADAC-41AD-8994-0AD866B7427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9FD2-E6AE-4764-8F1A-C8C1916A061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Wolk 9"/>
          <p:cNvSpPr/>
          <p:nvPr/>
        </p:nvSpPr>
        <p:spPr>
          <a:xfrm>
            <a:off x="857160" y="762120"/>
            <a:ext cx="7429680" cy="4857480"/>
          </a:xfrm>
          <a:custGeom>
            <a:avLst/>
            <a:gdLst>
              <a:gd name="textAreaLeft" fmla="*/ 1023840 w 7429680"/>
              <a:gd name="textAreaRight" fmla="*/ 5877360 w 7429680"/>
              <a:gd name="textAreaTop" fmla="*/ 733320 h 4857480"/>
              <a:gd name="textAreaBottom" fmla="*/ 3898800 h 48574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fbf"/>
          </a:solidFill>
          <a:ln w="40320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Tekstvak 6"/>
          <p:cNvGrpSpPr/>
          <p:nvPr/>
        </p:nvGrpSpPr>
        <p:grpSpPr>
          <a:xfrm>
            <a:off x="3133800" y="853920"/>
            <a:ext cx="1633320" cy="609840"/>
            <a:chOff x="3133800" y="853920"/>
            <a:chExt cx="1633320" cy="609840"/>
          </a:xfrm>
        </p:grpSpPr>
        <p:pic>
          <p:nvPicPr>
            <p:cNvPr id="175" name="Tekstvak 6" descr=""/>
            <p:cNvPicPr/>
            <p:nvPr/>
          </p:nvPicPr>
          <p:blipFill>
            <a:blip r:embed="rId2"/>
            <a:stretch/>
          </p:blipFill>
          <p:spPr>
            <a:xfrm>
              <a:off x="3133800" y="853920"/>
              <a:ext cx="16333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3286080" y="928800"/>
              <a:ext cx="142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ahoma"/>
                </a:rPr>
                <a:t>bedrijf: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" name="Tekstvak 10"/>
          <p:cNvGrpSpPr/>
          <p:nvPr/>
        </p:nvGrpSpPr>
        <p:grpSpPr>
          <a:xfrm>
            <a:off x="2206800" y="2193840"/>
            <a:ext cx="2877840" cy="689040"/>
            <a:chOff x="2206800" y="2193840"/>
            <a:chExt cx="2877840" cy="689040"/>
          </a:xfrm>
        </p:grpSpPr>
        <p:pic>
          <p:nvPicPr>
            <p:cNvPr id="178" name="Tekstvak 10" descr=""/>
            <p:cNvPicPr/>
            <p:nvPr/>
          </p:nvPicPr>
          <p:blipFill>
            <a:blip r:embed="rId3"/>
            <a:stretch/>
          </p:blipFill>
          <p:spPr>
            <a:xfrm>
              <a:off x="2206800" y="2193840"/>
              <a:ext cx="28778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2386080" y="2286000"/>
              <a:ext cx="264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Tahoma"/>
                </a:rPr>
                <a:t>inspanningen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0" name="Tekstvak 8"/>
          <p:cNvGrpSpPr/>
          <p:nvPr/>
        </p:nvGrpSpPr>
        <p:grpSpPr>
          <a:xfrm>
            <a:off x="2962440" y="1620720"/>
            <a:ext cx="1665000" cy="689040"/>
            <a:chOff x="2962440" y="1620720"/>
            <a:chExt cx="1665000" cy="689040"/>
          </a:xfrm>
        </p:grpSpPr>
        <p:pic>
          <p:nvPicPr>
            <p:cNvPr id="181" name="Tekstvak 8" descr=""/>
            <p:cNvPicPr/>
            <p:nvPr/>
          </p:nvPicPr>
          <p:blipFill>
            <a:blip r:embed="rId4"/>
            <a:stretch/>
          </p:blipFill>
          <p:spPr>
            <a:xfrm>
              <a:off x="2962440" y="1620720"/>
              <a:ext cx="166500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3143160" y="171468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Tahoma"/>
                </a:rPr>
                <a:t>beleid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Wolk 16"/>
          <p:cNvSpPr/>
          <p:nvPr/>
        </p:nvSpPr>
        <p:spPr>
          <a:xfrm>
            <a:off x="5029200" y="3000240"/>
            <a:ext cx="1471680" cy="1428840"/>
          </a:xfrm>
          <a:custGeom>
            <a:avLst/>
            <a:gdLst>
              <a:gd name="textAreaLeft" fmla="*/ 202680 w 1471680"/>
              <a:gd name="textAreaRight" fmla="*/ 1164240 w 1471680"/>
              <a:gd name="textAreaTop" fmla="*/ 215640 h 1428840"/>
              <a:gd name="textAreaBottom" fmla="*/ 1146960 h 14288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Wolk 15"/>
          <p:cNvSpPr/>
          <p:nvPr/>
        </p:nvSpPr>
        <p:spPr>
          <a:xfrm>
            <a:off x="3992400" y="2928960"/>
            <a:ext cx="2073600" cy="1928880"/>
          </a:xfrm>
          <a:custGeom>
            <a:avLst/>
            <a:gdLst>
              <a:gd name="textAreaLeft" fmla="*/ 285840 w 2073600"/>
              <a:gd name="textAreaRight" fmla="*/ 1640520 w 2073600"/>
              <a:gd name="textAreaTop" fmla="*/ 291240 h 1928880"/>
              <a:gd name="textAreaBottom" fmla="*/ 1548360 h 19288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Wolk 17"/>
          <p:cNvSpPr/>
          <p:nvPr/>
        </p:nvSpPr>
        <p:spPr>
          <a:xfrm rot="2026200">
            <a:off x="1433520" y="3270240"/>
            <a:ext cx="2071800" cy="1928880"/>
          </a:xfrm>
          <a:custGeom>
            <a:avLst/>
            <a:gdLst>
              <a:gd name="textAreaLeft" fmla="*/ 285480 w 2071800"/>
              <a:gd name="textAreaRight" fmla="*/ 1639080 w 2071800"/>
              <a:gd name="textAreaTop" fmla="*/ 291240 h 1928880"/>
              <a:gd name="textAreaBottom" fmla="*/ 1548360 h 19288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Wolk 12"/>
          <p:cNvSpPr/>
          <p:nvPr/>
        </p:nvSpPr>
        <p:spPr>
          <a:xfrm>
            <a:off x="2000160" y="3000240"/>
            <a:ext cx="3429000" cy="2357640"/>
          </a:xfrm>
          <a:custGeom>
            <a:avLst/>
            <a:gdLst>
              <a:gd name="textAreaLeft" fmla="*/ 472320 w 3429000"/>
              <a:gd name="textAreaRight" fmla="*/ 2712600 w 3429000"/>
              <a:gd name="textAreaTop" fmla="*/ 356040 h 2357640"/>
              <a:gd name="textAreaBottom" fmla="*/ 1892520 h 23576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Tekstvak 13"/>
          <p:cNvGrpSpPr/>
          <p:nvPr/>
        </p:nvGrpSpPr>
        <p:grpSpPr>
          <a:xfrm>
            <a:off x="2481120" y="3371760"/>
            <a:ext cx="2603520" cy="498600"/>
            <a:chOff x="2481120" y="3371760"/>
            <a:chExt cx="2603520" cy="498600"/>
          </a:xfrm>
        </p:grpSpPr>
        <p:pic>
          <p:nvPicPr>
            <p:cNvPr id="188" name="Tekstvak 13" descr=""/>
            <p:cNvPicPr/>
            <p:nvPr/>
          </p:nvPicPr>
          <p:blipFill>
            <a:blip r:embed="rId5"/>
            <a:stretch/>
          </p:blipFill>
          <p:spPr>
            <a:xfrm>
              <a:off x="2481120" y="3371760"/>
              <a:ext cx="2603520" cy="4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2600280" y="3429000"/>
              <a:ext cx="24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d6"/>
                  </a:solidFill>
                  <a:latin typeface="Arial"/>
                  <a:ea typeface="Tahoma"/>
                </a:rPr>
                <a:t>uitvoeringsteam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 txBox="1"/>
          <p:nvPr/>
        </p:nvSpPr>
        <p:spPr>
          <a:xfrm>
            <a:off x="2314080" y="3785760"/>
            <a:ext cx="271476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ilig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PIJL-RECHTS 7"/>
          <p:cNvGrpSpPr/>
          <p:nvPr/>
        </p:nvGrpSpPr>
        <p:grpSpPr>
          <a:xfrm>
            <a:off x="3475080" y="1298520"/>
            <a:ext cx="291960" cy="457200"/>
            <a:chOff x="3475080" y="1298520"/>
            <a:chExt cx="291960" cy="457200"/>
          </a:xfrm>
        </p:grpSpPr>
        <p:pic>
          <p:nvPicPr>
            <p:cNvPr id="192" name="PIJL-RECHTS 7" descr=""/>
            <p:cNvPicPr/>
            <p:nvPr/>
          </p:nvPicPr>
          <p:blipFill>
            <a:blip r:embed="rId6"/>
            <a:stretch/>
          </p:blipFill>
          <p:spPr>
            <a:xfrm>
              <a:off x="3475080" y="1298520"/>
              <a:ext cx="2919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 rot="6108000">
              <a:off x="3461400" y="1437120"/>
              <a:ext cx="36216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9D79-C2DC-4E7E-9947-1E1C55E2E63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Picture 2" descr="C:\Documents and Settings\gerard\Local Settings\Temporary Internet Files\Content.IE5\4W83JHJS\MCj04339320000[1].png"/>
          <p:cNvPicPr/>
          <p:nvPr/>
        </p:nvPicPr>
        <p:blipFill>
          <a:blip r:embed="rId2"/>
          <a:stretch/>
        </p:blipFill>
        <p:spPr>
          <a:xfrm>
            <a:off x="5003640" y="64296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C:\Documents and Settings\gerard\Local Settings\Temporary Internet Files\Content.IE5\4W83JHJS\MCj04339320000[1].png"/>
          <p:cNvPicPr/>
          <p:nvPr/>
        </p:nvPicPr>
        <p:blipFill>
          <a:blip r:embed="rId3"/>
          <a:stretch/>
        </p:blipFill>
        <p:spPr>
          <a:xfrm>
            <a:off x="1643040" y="1643040"/>
            <a:ext cx="1000080" cy="1428840"/>
          </a:xfrm>
          <a:prstGeom prst="rect">
            <a:avLst/>
          </a:prstGeom>
          <a:ln w="0">
            <a:noFill/>
          </a:ln>
        </p:spPr>
      </p:pic>
      <p:sp>
        <p:nvSpPr>
          <p:cNvPr id="197" name="Tekstvak 9"/>
          <p:cNvSpPr/>
          <p:nvPr/>
        </p:nvSpPr>
        <p:spPr>
          <a:xfrm>
            <a:off x="500040" y="285840"/>
            <a:ext cx="39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b800"/>
                </a:solidFill>
                <a:latin typeface="Arial"/>
              </a:rPr>
              <a:t>veilig gedrag…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2" descr="C:\Documents and Settings\gerard\Local Settings\Temporary Internet Files\Content.IE5\4W83JHJS\MCj04339320000[1].png"/>
          <p:cNvPicPr/>
          <p:nvPr/>
        </p:nvPicPr>
        <p:blipFill>
          <a:blip r:embed="rId4"/>
          <a:stretch/>
        </p:blipFill>
        <p:spPr>
          <a:xfrm rot="1263600">
            <a:off x="6075360" y="4231800"/>
            <a:ext cx="898560" cy="2000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C:\Documents and Settings\gerard\Local Settings\Temporary Internet Files\Content.IE5\4W83JHJS\MCj04339320000[1].png"/>
          <p:cNvPicPr/>
          <p:nvPr/>
        </p:nvPicPr>
        <p:blipFill>
          <a:blip r:embed="rId5">
            <a:lum bright="-32000"/>
          </a:blip>
          <a:stretch/>
        </p:blipFill>
        <p:spPr>
          <a:xfrm>
            <a:off x="7429680" y="2500200"/>
            <a:ext cx="1099800" cy="1428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C:\Documents and Settings\gerard\Local Settings\Temporary Internet Files\Content.IE5\4W83JHJS\MCj04339320000[1].png"/>
          <p:cNvPicPr/>
          <p:nvPr/>
        </p:nvPicPr>
        <p:blipFill>
          <a:blip r:embed="rId6"/>
          <a:stretch/>
        </p:blipFill>
        <p:spPr>
          <a:xfrm flipH="1" rot="20294400">
            <a:off x="1864800" y="4317840"/>
            <a:ext cx="1214640" cy="1428840"/>
          </a:xfrm>
          <a:prstGeom prst="rect">
            <a:avLst/>
          </a:prstGeom>
          <a:ln w="0">
            <a:noFill/>
          </a:ln>
        </p:spPr>
      </p:pic>
      <p:grpSp>
        <p:nvGrpSpPr>
          <p:cNvPr id="201" name="Ovale toelichting 13"/>
          <p:cNvGrpSpPr/>
          <p:nvPr/>
        </p:nvGrpSpPr>
        <p:grpSpPr>
          <a:xfrm>
            <a:off x="2998800" y="3608280"/>
            <a:ext cx="2060640" cy="1324080"/>
            <a:chOff x="2998800" y="3608280"/>
            <a:chExt cx="2060640" cy="1324080"/>
          </a:xfrm>
        </p:grpSpPr>
        <p:pic>
          <p:nvPicPr>
            <p:cNvPr id="202" name="Ovale toelichting 13" descr=""/>
            <p:cNvPicPr/>
            <p:nvPr/>
          </p:nvPicPr>
          <p:blipFill>
            <a:blip r:embed="rId7"/>
            <a:stretch/>
          </p:blipFill>
          <p:spPr>
            <a:xfrm>
              <a:off x="2998800" y="3608280"/>
              <a:ext cx="206064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3659040" y="3821040"/>
              <a:ext cx="111456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" name="Ovale toelichting 14"/>
          <p:cNvGrpSpPr/>
          <p:nvPr/>
        </p:nvGrpSpPr>
        <p:grpSpPr>
          <a:xfrm>
            <a:off x="2335320" y="2109960"/>
            <a:ext cx="2077920" cy="1176120"/>
            <a:chOff x="2335320" y="2109960"/>
            <a:chExt cx="2077920" cy="1176120"/>
          </a:xfrm>
        </p:grpSpPr>
        <p:pic>
          <p:nvPicPr>
            <p:cNvPr id="205" name="Ovale toelichting 14" descr=""/>
            <p:cNvPicPr/>
            <p:nvPr/>
          </p:nvPicPr>
          <p:blipFill>
            <a:blip r:embed="rId8"/>
            <a:stretch/>
          </p:blipFill>
          <p:spPr>
            <a:xfrm>
              <a:off x="2335320" y="2109960"/>
              <a:ext cx="207792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3260880" y="2300400"/>
              <a:ext cx="91116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Ovale toelichting 15"/>
          <p:cNvGrpSpPr/>
          <p:nvPr/>
        </p:nvGrpSpPr>
        <p:grpSpPr>
          <a:xfrm>
            <a:off x="5151600" y="3078000"/>
            <a:ext cx="2535120" cy="1208160"/>
            <a:chOff x="5151600" y="3078000"/>
            <a:chExt cx="2535120" cy="1208160"/>
          </a:xfrm>
        </p:grpSpPr>
        <p:pic>
          <p:nvPicPr>
            <p:cNvPr id="208" name="Ovale toelichting 15" descr=""/>
            <p:cNvPicPr/>
            <p:nvPr/>
          </p:nvPicPr>
          <p:blipFill>
            <a:blip r:embed="rId9"/>
            <a:stretch/>
          </p:blipFill>
          <p:spPr>
            <a:xfrm>
              <a:off x="5151600" y="3078000"/>
              <a:ext cx="2535120" cy="12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5403960" y="3422520"/>
              <a:ext cx="9111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Ovale toelichting 16"/>
          <p:cNvGrpSpPr/>
          <p:nvPr/>
        </p:nvGrpSpPr>
        <p:grpSpPr>
          <a:xfrm>
            <a:off x="4943520" y="4322880"/>
            <a:ext cx="1469880" cy="725400"/>
            <a:chOff x="4943520" y="4322880"/>
            <a:chExt cx="1469880" cy="725400"/>
          </a:xfrm>
        </p:grpSpPr>
        <p:pic>
          <p:nvPicPr>
            <p:cNvPr id="211" name="Ovale toelichting 16" descr=""/>
            <p:cNvPicPr/>
            <p:nvPr/>
          </p:nvPicPr>
          <p:blipFill>
            <a:blip r:embed="rId10"/>
            <a:stretch/>
          </p:blipFill>
          <p:spPr>
            <a:xfrm>
              <a:off x="4943520" y="4322880"/>
              <a:ext cx="146988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5129280" y="4441680"/>
              <a:ext cx="60336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Ovale toelichting 17"/>
          <p:cNvGrpSpPr/>
          <p:nvPr/>
        </p:nvGrpSpPr>
        <p:grpSpPr>
          <a:xfrm>
            <a:off x="4511520" y="1401840"/>
            <a:ext cx="1401840" cy="1743120"/>
            <a:chOff x="4511520" y="1401840"/>
            <a:chExt cx="1401840" cy="1743120"/>
          </a:xfrm>
        </p:grpSpPr>
        <p:pic>
          <p:nvPicPr>
            <p:cNvPr id="214" name="Ovale toelichting 17" descr=""/>
            <p:cNvPicPr/>
            <p:nvPr/>
          </p:nvPicPr>
          <p:blipFill>
            <a:blip r:embed="rId11"/>
            <a:stretch/>
          </p:blipFill>
          <p:spPr>
            <a:xfrm>
              <a:off x="4511520" y="1401840"/>
              <a:ext cx="140184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4761000" y="2279520"/>
              <a:ext cx="9111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Tekstvak 18"/>
          <p:cNvSpPr/>
          <p:nvPr/>
        </p:nvSpPr>
        <p:spPr>
          <a:xfrm>
            <a:off x="5003640" y="435780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ff"/>
                </a:solidFill>
                <a:latin typeface="Arial Narrow"/>
              </a:rPr>
              <a:t>oh!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kstvak 19"/>
          <p:cNvSpPr/>
          <p:nvPr/>
        </p:nvSpPr>
        <p:spPr>
          <a:xfrm>
            <a:off x="3214800" y="2286000"/>
            <a:ext cx="107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k volg precie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 regel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kstvak 21"/>
          <p:cNvSpPr/>
          <p:nvPr/>
        </p:nvSpPr>
        <p:spPr>
          <a:xfrm>
            <a:off x="3571920" y="3786120"/>
            <a:ext cx="16095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d0dff"/>
                </a:solidFill>
                <a:latin typeface="Arial"/>
              </a:rPr>
              <a:t>stumperds!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d0dff"/>
                </a:solidFill>
                <a:latin typeface="Arial"/>
              </a:rPr>
              <a:t>gewoon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d0dff"/>
                </a:solidFill>
                <a:latin typeface="Arial"/>
              </a:rPr>
              <a:t>doorpakken !!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kstvak 22"/>
          <p:cNvSpPr/>
          <p:nvPr/>
        </p:nvSpPr>
        <p:spPr>
          <a:xfrm>
            <a:off x="4714920" y="2214720"/>
            <a:ext cx="107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e moet hier goed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pletten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kstvak 23"/>
          <p:cNvSpPr/>
          <p:nvPr/>
        </p:nvSpPr>
        <p:spPr>
          <a:xfrm>
            <a:off x="5286240" y="3357720"/>
            <a:ext cx="134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d0dff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d0dff"/>
                </a:solidFill>
                <a:latin typeface="Arial"/>
              </a:rPr>
              <a:t>ik heb m’n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d0dff"/>
                </a:solidFill>
                <a:latin typeface="Arial"/>
              </a:rPr>
              <a:t>eigen regel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5861-BFEF-4AFD-884F-9A1E6B6E136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Wolk 7"/>
          <p:cNvSpPr/>
          <p:nvPr/>
        </p:nvSpPr>
        <p:spPr>
          <a:xfrm>
            <a:off x="1214280" y="749160"/>
            <a:ext cx="6715440" cy="5359680"/>
          </a:xfrm>
          <a:custGeom>
            <a:avLst/>
            <a:gdLst>
              <a:gd name="textAreaLeft" fmla="*/ 925560 w 6715440"/>
              <a:gd name="textAreaRight" fmla="*/ 5312520 w 6715440"/>
              <a:gd name="textAreaTop" fmla="*/ 809280 h 5359680"/>
              <a:gd name="textAreaBottom" fmla="*/ 4302000 h 53596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Picture 2" descr="C:\Documents and Settings\gerard\Local Settings\Temporary Internet Files\Content.IE5\4W83JHJS\MCj04339320000[1].png"/>
          <p:cNvPicPr/>
          <p:nvPr/>
        </p:nvPicPr>
        <p:blipFill>
          <a:blip r:embed="rId2"/>
          <a:stretch/>
        </p:blipFill>
        <p:spPr>
          <a:xfrm flipH="1" rot="587400">
            <a:off x="3842640" y="4295880"/>
            <a:ext cx="1071720" cy="1428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C:\Documents and Settings\gerard\Local Settings\Temporary Internet Files\Content.IE5\4W83JHJS\MCj04339320000[1].png"/>
          <p:cNvPicPr/>
          <p:nvPr/>
        </p:nvPicPr>
        <p:blipFill>
          <a:blip r:embed="rId3"/>
          <a:stretch/>
        </p:blipFill>
        <p:spPr>
          <a:xfrm>
            <a:off x="2428920" y="4286160"/>
            <a:ext cx="1214280" cy="14288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C:\Documents and Settings\gerard\Local Settings\Temporary Internet Files\Content.IE5\4W83JHJS\MCj04339320000[1].png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5029200" y="4000680"/>
            <a:ext cx="78588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C:\Documents and Settings\gerard\Local Settings\Temporary Internet Files\Content.IE5\4W83JHJS\MCj04339320000[1].png"/>
          <p:cNvPicPr/>
          <p:nvPr/>
        </p:nvPicPr>
        <p:blipFill>
          <a:blip r:embed="rId5"/>
          <a:stretch/>
        </p:blipFill>
        <p:spPr>
          <a:xfrm rot="382800">
            <a:off x="6071760" y="3429000"/>
            <a:ext cx="642960" cy="20001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C:\Documents and Settings\gerard\Local Settings\Temporary Internet Files\Content.IE5\4W83JHJS\MCj04339320000[1].png"/>
          <p:cNvPicPr/>
          <p:nvPr/>
        </p:nvPicPr>
        <p:blipFill>
          <a:blip r:embed="rId6"/>
          <a:stretch/>
        </p:blipFill>
        <p:spPr>
          <a:xfrm rot="21005400">
            <a:off x="3286080" y="3214440"/>
            <a:ext cx="785880" cy="14284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Documents and Settings\gerard\Local Settings\Temporary Internet Files\Content.IE5\4W83JHJS\MCj04339320000[1].png"/>
          <p:cNvPicPr/>
          <p:nvPr/>
        </p:nvPicPr>
        <p:blipFill>
          <a:blip r:embed="rId7"/>
          <a:stretch/>
        </p:blipFill>
        <p:spPr>
          <a:xfrm>
            <a:off x="1643040" y="3643200"/>
            <a:ext cx="1000080" cy="1428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C:\Documents and Settings\gerard\Local Settings\Temporary Internet Files\Content.IE5\4W83JHJS\MCj04339320000[1].png"/>
          <p:cNvPicPr/>
          <p:nvPr/>
        </p:nvPicPr>
        <p:blipFill>
          <a:blip r:embed="rId8">
            <a:lum bright="-32000"/>
          </a:blip>
          <a:stretch/>
        </p:blipFill>
        <p:spPr>
          <a:xfrm>
            <a:off x="5357880" y="2714760"/>
            <a:ext cx="1100160" cy="14284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C:\Documents and Settings\gerard\Local Settings\Temporary Internet Files\Content.IE5\4W83JHJS\MCj04339320000[1].png"/>
          <p:cNvPicPr/>
          <p:nvPr/>
        </p:nvPicPr>
        <p:blipFill>
          <a:blip r:embed="rId9"/>
          <a:stretch/>
        </p:blipFill>
        <p:spPr>
          <a:xfrm>
            <a:off x="6572160" y="2714760"/>
            <a:ext cx="1071720" cy="1428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C:\Documents and Settings\gerard\Local Settings\Temporary Internet Files\Content.IE5\SH0PLZ11\MPj02160520000[1].jpg"/>
          <p:cNvPicPr/>
          <p:nvPr/>
        </p:nvPicPr>
        <p:blipFill>
          <a:blip r:embed="rId10"/>
          <a:stretch/>
        </p:blipFill>
        <p:spPr>
          <a:xfrm>
            <a:off x="3852720" y="1494000"/>
            <a:ext cx="1621080" cy="21571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C:\Documents and Settings\gerard\Local Settings\Temporary Internet Files\Content.IE5\4W83JHJS\MCj04339320000[1].png"/>
          <p:cNvPicPr/>
          <p:nvPr/>
        </p:nvPicPr>
        <p:blipFill>
          <a:blip r:embed="rId11"/>
          <a:stretch/>
        </p:blipFill>
        <p:spPr>
          <a:xfrm>
            <a:off x="4286160" y="3000240"/>
            <a:ext cx="1042920" cy="1897200"/>
          </a:xfrm>
          <a:prstGeom prst="rect">
            <a:avLst/>
          </a:prstGeom>
          <a:ln w="0">
            <a:noFill/>
          </a:ln>
        </p:spPr>
      </p:pic>
      <p:sp>
        <p:nvSpPr>
          <p:cNvPr id="233" name="Ovale toelichting 18"/>
          <p:cNvSpPr/>
          <p:nvPr/>
        </p:nvSpPr>
        <p:spPr>
          <a:xfrm>
            <a:off x="5029200" y="1071720"/>
            <a:ext cx="1971720" cy="1214280"/>
          </a:xfrm>
          <a:prstGeom prst="wedgeEllipseCallout">
            <a:avLst>
              <a:gd name="adj1" fmla="val -72171"/>
              <a:gd name="adj2" fmla="val 64851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Ovale toelichting 19"/>
          <p:cNvSpPr/>
          <p:nvPr/>
        </p:nvSpPr>
        <p:spPr>
          <a:xfrm flipH="1">
            <a:off x="2642400" y="1428840"/>
            <a:ext cx="1538280" cy="642960"/>
          </a:xfrm>
          <a:prstGeom prst="wedgeEllipseCallout">
            <a:avLst>
              <a:gd name="adj1" fmla="val -72171"/>
              <a:gd name="adj2" fmla="val 64851"/>
            </a:avLst>
          </a:prstGeom>
          <a:solidFill>
            <a:srgbClr val="00b0f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wij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2"/>
          <a:stretch/>
        </p:blipFill>
        <p:spPr>
          <a:xfrm rot="3629400">
            <a:off x="3199320" y="4186800"/>
            <a:ext cx="970200" cy="2923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13"/>
          <a:stretch/>
        </p:blipFill>
        <p:spPr>
          <a:xfrm flipH="1" rot="14430600">
            <a:off x="2144520" y="4358880"/>
            <a:ext cx="650880" cy="5464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"/>
          <p:cNvPicPr/>
          <p:nvPr/>
        </p:nvPicPr>
        <p:blipFill>
          <a:blip r:embed="rId14"/>
          <a:stretch/>
        </p:blipFill>
        <p:spPr>
          <a:xfrm flipH="1" rot="17535600">
            <a:off x="2980440" y="5059440"/>
            <a:ext cx="649080" cy="546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15"/>
          <a:stretch/>
        </p:blipFill>
        <p:spPr>
          <a:xfrm flipH="1" rot="15644400">
            <a:off x="4430520" y="4859280"/>
            <a:ext cx="650880" cy="546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"/>
          <p:cNvPicPr/>
          <p:nvPr/>
        </p:nvPicPr>
        <p:blipFill>
          <a:blip r:embed="rId16">
            <a:lum bright="-4000"/>
          </a:blip>
          <a:stretch/>
        </p:blipFill>
        <p:spPr>
          <a:xfrm flipH="1" rot="15643800">
            <a:off x="4529880" y="3783600"/>
            <a:ext cx="1036800" cy="8697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17">
            <a:lum contrast="78000"/>
          </a:blip>
          <a:stretch/>
        </p:blipFill>
        <p:spPr>
          <a:xfrm flipH="1" rot="7727400">
            <a:off x="5073120" y="4789080"/>
            <a:ext cx="419040" cy="412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18"/>
          <a:stretch/>
        </p:blipFill>
        <p:spPr>
          <a:xfrm flipH="1" rot="11916000">
            <a:off x="6716880" y="3573000"/>
            <a:ext cx="649080" cy="5461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"/>
          <p:cNvPicPr/>
          <p:nvPr/>
        </p:nvPicPr>
        <p:blipFill>
          <a:blip r:embed="rId19">
            <a:lum contrast="74000"/>
          </a:blip>
          <a:stretch/>
        </p:blipFill>
        <p:spPr>
          <a:xfrm flipH="1" rot="11916600">
            <a:off x="5927400" y="4446360"/>
            <a:ext cx="651240" cy="546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"/>
          <p:cNvPicPr/>
          <p:nvPr/>
        </p:nvPicPr>
        <p:blipFill>
          <a:blip r:embed="rId20"/>
          <a:stretch/>
        </p:blipFill>
        <p:spPr>
          <a:xfrm>
            <a:off x="5492880" y="3419640"/>
            <a:ext cx="768240" cy="628560"/>
          </a:xfrm>
          <a:prstGeom prst="rect">
            <a:avLst/>
          </a:prstGeom>
          <a:ln w="0">
            <a:noFill/>
          </a:ln>
        </p:spPr>
      </p:pic>
      <p:sp>
        <p:nvSpPr>
          <p:cNvPr id="244" name="Tekstvak 28"/>
          <p:cNvSpPr/>
          <p:nvPr/>
        </p:nvSpPr>
        <p:spPr>
          <a:xfrm>
            <a:off x="5562720" y="1355760"/>
            <a:ext cx="150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d6"/>
                </a:solidFill>
                <a:latin typeface="Arial"/>
              </a:rPr>
              <a:t>ons bedrijf…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kstvak 29"/>
          <p:cNvSpPr/>
          <p:nvPr/>
        </p:nvSpPr>
        <p:spPr>
          <a:xfrm>
            <a:off x="571680" y="214200"/>
            <a:ext cx="621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b800"/>
                </a:solidFill>
                <a:latin typeface="Arial"/>
                <a:ea typeface="Tahoma"/>
              </a:rPr>
              <a:t>sleutelrol leidinggevend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87EE-23DA-4E3B-BD07-45E2C105279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Wolk 7"/>
          <p:cNvSpPr/>
          <p:nvPr/>
        </p:nvSpPr>
        <p:spPr>
          <a:xfrm>
            <a:off x="1214280" y="749160"/>
            <a:ext cx="6715440" cy="5359680"/>
          </a:xfrm>
          <a:custGeom>
            <a:avLst/>
            <a:gdLst>
              <a:gd name="textAreaLeft" fmla="*/ 925560 w 6715440"/>
              <a:gd name="textAreaRight" fmla="*/ 5312520 w 6715440"/>
              <a:gd name="textAreaTop" fmla="*/ 809280 h 5359680"/>
              <a:gd name="textAreaBottom" fmla="*/ 4302000 h 53596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Picture 2" descr="C:\Documents and Settings\gerard\Local Settings\Temporary Internet Files\Content.IE5\4W83JHJS\MCj04339320000[1].png"/>
          <p:cNvPicPr/>
          <p:nvPr/>
        </p:nvPicPr>
        <p:blipFill>
          <a:blip r:embed="rId2"/>
          <a:stretch/>
        </p:blipFill>
        <p:spPr>
          <a:xfrm>
            <a:off x="3724200" y="4206960"/>
            <a:ext cx="1311480" cy="16034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C:\Documents and Settings\gerard\Local Settings\Temporary Internet Files\Content.IE5\4W83JHJS\MCj04339320000[1].png"/>
          <p:cNvPicPr/>
          <p:nvPr/>
        </p:nvPicPr>
        <p:blipFill>
          <a:blip r:embed="rId3"/>
          <a:stretch/>
        </p:blipFill>
        <p:spPr>
          <a:xfrm>
            <a:off x="2419200" y="4280040"/>
            <a:ext cx="1231920" cy="14443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" descr="C:\Documents and Settings\gerard\Local Settings\Temporary Internet Files\Content.IE5\4W83JHJS\MCj04339320000[1].png"/>
          <p:cNvPicPr/>
          <p:nvPr/>
        </p:nvPicPr>
        <p:blipFill>
          <a:blip r:embed="rId4"/>
          <a:stretch/>
        </p:blipFill>
        <p:spPr>
          <a:xfrm>
            <a:off x="5022720" y="3992400"/>
            <a:ext cx="798480" cy="11592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C:\Documents and Settings\gerard\Local Settings\Temporary Internet Files\Content.IE5\4W83JHJS\MCj04339320000[1].png"/>
          <p:cNvPicPr/>
          <p:nvPr/>
        </p:nvPicPr>
        <p:blipFill>
          <a:blip r:embed="rId5"/>
          <a:stretch/>
        </p:blipFill>
        <p:spPr>
          <a:xfrm>
            <a:off x="5956200" y="3395520"/>
            <a:ext cx="871560" cy="20671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C:\Documents and Settings\gerard\Local Settings\Temporary Internet Files\Content.IE5\4W83JHJS\MCj04339320000[1].png"/>
          <p:cNvPicPr/>
          <p:nvPr/>
        </p:nvPicPr>
        <p:blipFill>
          <a:blip r:embed="rId6"/>
          <a:stretch/>
        </p:blipFill>
        <p:spPr>
          <a:xfrm>
            <a:off x="3164040" y="3151080"/>
            <a:ext cx="1029960" cy="15541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C:\Documents and Settings\gerard\Local Settings\Temporary Internet Files\Content.IE5\4W83JHJS\MCj04339320000[1].png"/>
          <p:cNvPicPr/>
          <p:nvPr/>
        </p:nvPicPr>
        <p:blipFill>
          <a:blip r:embed="rId7"/>
          <a:stretch/>
        </p:blipFill>
        <p:spPr>
          <a:xfrm>
            <a:off x="1639800" y="3638520"/>
            <a:ext cx="1011240" cy="1440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" descr="C:\Documents and Settings\gerard\Local Settings\Temporary Internet Files\Content.IE5\4W83JHJS\MCj04339320000[1].png"/>
          <p:cNvPicPr/>
          <p:nvPr/>
        </p:nvPicPr>
        <p:blipFill>
          <a:blip r:embed="rId8"/>
          <a:stretch/>
        </p:blipFill>
        <p:spPr>
          <a:xfrm>
            <a:off x="5353200" y="2706840"/>
            <a:ext cx="1108080" cy="14443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C:\Documents and Settings\gerard\Local Settings\Temporary Internet Files\Content.IE5\4W83JHJS\MCj04339320000[1].png"/>
          <p:cNvPicPr/>
          <p:nvPr/>
        </p:nvPicPr>
        <p:blipFill>
          <a:blip r:embed="rId9"/>
          <a:stretch/>
        </p:blipFill>
        <p:spPr>
          <a:xfrm>
            <a:off x="6566040" y="2706840"/>
            <a:ext cx="1083960" cy="14443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C:\Documents and Settings\gerard\Local Settings\Temporary Internet Files\Content.IE5\SH0PLZ11\MPj02160520000[1].jpg"/>
          <p:cNvPicPr/>
          <p:nvPr/>
        </p:nvPicPr>
        <p:blipFill>
          <a:blip r:embed="rId10"/>
          <a:stretch/>
        </p:blipFill>
        <p:spPr>
          <a:xfrm>
            <a:off x="3852720" y="1494000"/>
            <a:ext cx="1621080" cy="21571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C:\Documents and Settings\gerard\Local Settings\Temporary Internet Files\Content.IE5\4W83JHJS\MCj04339320000[1].png"/>
          <p:cNvPicPr/>
          <p:nvPr/>
        </p:nvPicPr>
        <p:blipFill>
          <a:blip r:embed="rId11"/>
          <a:stretch/>
        </p:blipFill>
        <p:spPr>
          <a:xfrm>
            <a:off x="4280040" y="2992320"/>
            <a:ext cx="1054080" cy="1908360"/>
          </a:xfrm>
          <a:prstGeom prst="rect">
            <a:avLst/>
          </a:prstGeom>
          <a:ln w="0">
            <a:noFill/>
          </a:ln>
        </p:spPr>
      </p:pic>
      <p:sp>
        <p:nvSpPr>
          <p:cNvPr id="258" name="Ovale toelichting 18"/>
          <p:cNvSpPr/>
          <p:nvPr/>
        </p:nvSpPr>
        <p:spPr>
          <a:xfrm>
            <a:off x="5029200" y="1071720"/>
            <a:ext cx="1971720" cy="1214280"/>
          </a:xfrm>
          <a:prstGeom prst="wedgeEllipseCallout">
            <a:avLst>
              <a:gd name="adj1" fmla="val -72171"/>
              <a:gd name="adj2" fmla="val 64851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Ovale toelichting 19"/>
          <p:cNvSpPr/>
          <p:nvPr/>
        </p:nvSpPr>
        <p:spPr>
          <a:xfrm flipH="1">
            <a:off x="2642400" y="1428840"/>
            <a:ext cx="1538280" cy="642960"/>
          </a:xfrm>
          <a:prstGeom prst="wedgeEllipseCallout">
            <a:avLst>
              <a:gd name="adj1" fmla="val -72171"/>
              <a:gd name="adj2" fmla="val 64851"/>
            </a:avLst>
          </a:prstGeom>
          <a:solidFill>
            <a:srgbClr val="00b0f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j..,,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2"/>
          <a:stretch/>
        </p:blipFill>
        <p:spPr>
          <a:xfrm>
            <a:off x="3309840" y="3833640"/>
            <a:ext cx="749520" cy="10004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13"/>
          <a:stretch/>
        </p:blipFill>
        <p:spPr>
          <a:xfrm>
            <a:off x="2066760" y="4206960"/>
            <a:ext cx="804960" cy="846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"/>
          <p:cNvPicPr/>
          <p:nvPr/>
        </p:nvPicPr>
        <p:blipFill>
          <a:blip r:embed="rId14"/>
          <a:stretch/>
        </p:blipFill>
        <p:spPr>
          <a:xfrm>
            <a:off x="2919240" y="4925880"/>
            <a:ext cx="768600" cy="816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" descr=""/>
          <p:cNvPicPr/>
          <p:nvPr/>
        </p:nvPicPr>
        <p:blipFill>
          <a:blip r:embed="rId15"/>
          <a:stretch/>
        </p:blipFill>
        <p:spPr>
          <a:xfrm>
            <a:off x="4425840" y="4761000"/>
            <a:ext cx="658800" cy="744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16"/>
          <a:stretch/>
        </p:blipFill>
        <p:spPr>
          <a:xfrm>
            <a:off x="4529160" y="3633840"/>
            <a:ext cx="1036440" cy="1170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"/>
          <p:cNvPicPr/>
          <p:nvPr/>
        </p:nvPicPr>
        <p:blipFill>
          <a:blip r:embed="rId17"/>
          <a:stretch/>
        </p:blipFill>
        <p:spPr>
          <a:xfrm>
            <a:off x="4986360" y="4694400"/>
            <a:ext cx="596880" cy="5968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"/>
          <p:cNvPicPr/>
          <p:nvPr/>
        </p:nvPicPr>
        <p:blipFill>
          <a:blip r:embed="rId18"/>
          <a:stretch/>
        </p:blipFill>
        <p:spPr>
          <a:xfrm>
            <a:off x="6638760" y="3481560"/>
            <a:ext cx="804960" cy="7300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" descr=""/>
          <p:cNvPicPr/>
          <p:nvPr/>
        </p:nvPicPr>
        <p:blipFill>
          <a:blip r:embed="rId19"/>
          <a:stretch/>
        </p:blipFill>
        <p:spPr>
          <a:xfrm>
            <a:off x="5851440" y="4352760"/>
            <a:ext cx="804960" cy="736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" descr=""/>
          <p:cNvPicPr/>
          <p:nvPr/>
        </p:nvPicPr>
        <p:blipFill>
          <a:blip r:embed="rId20"/>
          <a:stretch/>
        </p:blipFill>
        <p:spPr>
          <a:xfrm>
            <a:off x="5492880" y="3419640"/>
            <a:ext cx="768240" cy="628560"/>
          </a:xfrm>
          <a:prstGeom prst="rect">
            <a:avLst/>
          </a:prstGeom>
          <a:ln w="0">
            <a:noFill/>
          </a:ln>
        </p:spPr>
      </p:pic>
      <p:sp>
        <p:nvSpPr>
          <p:cNvPr id="269" name="Tekstvak 28"/>
          <p:cNvSpPr/>
          <p:nvPr/>
        </p:nvSpPr>
        <p:spPr>
          <a:xfrm>
            <a:off x="5586480" y="1355760"/>
            <a:ext cx="150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ffff"/>
                </a:solidFill>
                <a:latin typeface="Arial"/>
              </a:rPr>
              <a:t>ons bedrijf..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kstvak 29"/>
          <p:cNvSpPr/>
          <p:nvPr/>
        </p:nvSpPr>
        <p:spPr>
          <a:xfrm>
            <a:off x="609480" y="214200"/>
            <a:ext cx="4672080" cy="3750480"/>
          </a:xfrm>
          <a:prstGeom prst="rect">
            <a:avLst/>
          </a:prstGeom>
          <a:solidFill>
            <a:srgbClr val="ffffff"/>
          </a:solidFill>
          <a:ln cap="rnd" w="57240">
            <a:solidFill>
              <a:srgbClr val="44b8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b800"/>
                </a:solidFill>
                <a:latin typeface="Arial"/>
                <a:ea typeface="Tahoma"/>
              </a:rPr>
              <a:t>sleutelrol leidinggevend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heeft info over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7120" indent="-284040">
              <a:lnSpc>
                <a:spcPct val="100000"/>
              </a:lnSpc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de medewerker, zijn werk en werkomstandighed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7120" indent="-284040">
              <a:lnSpc>
                <a:spcPct val="100000"/>
              </a:lnSpc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bepaalt de werkwijze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7120" indent="-284040">
              <a:lnSpc>
                <a:spcPct val="100000"/>
              </a:lnSpc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houdt toezicht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7120" indent="-284040">
              <a:lnSpc>
                <a:spcPct val="100000"/>
              </a:lnSpc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corrigeert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1151-D9BD-4A96-A883-6F160ED9F8A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Picture 2" descr="C:\Documents and Settings\gerard\Local Settings\Temporary Internet Files\Content.IE5\SH0PLZ11\MPj02160520000[1].jpg"/>
          <p:cNvPicPr/>
          <p:nvPr/>
        </p:nvPicPr>
        <p:blipFill>
          <a:blip r:embed="rId2"/>
          <a:stretch/>
        </p:blipFill>
        <p:spPr>
          <a:xfrm>
            <a:off x="3925800" y="353880"/>
            <a:ext cx="1621080" cy="21574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"/>
          <p:cNvPicPr/>
          <p:nvPr/>
        </p:nvPicPr>
        <p:blipFill>
          <a:blip r:embed="rId3"/>
          <a:stretch/>
        </p:blipFill>
        <p:spPr>
          <a:xfrm>
            <a:off x="3857760" y="1643040"/>
            <a:ext cx="1822320" cy="2149560"/>
          </a:xfrm>
          <a:prstGeom prst="rect">
            <a:avLst/>
          </a:prstGeom>
          <a:ln w="0">
            <a:noFill/>
          </a:ln>
        </p:spPr>
      </p:pic>
      <p:sp>
        <p:nvSpPr>
          <p:cNvPr id="274" name="Gekromde PIJL-RECHTS 8"/>
          <p:cNvSpPr/>
          <p:nvPr/>
        </p:nvSpPr>
        <p:spPr>
          <a:xfrm>
            <a:off x="2286000" y="857160"/>
            <a:ext cx="1571760" cy="3714840"/>
          </a:xfrm>
          <a:custGeom>
            <a:avLst/>
            <a:gdLst>
              <a:gd name="textAreaLeft" fmla="*/ 210600 w 1571760"/>
              <a:gd name="textAreaRight" fmla="*/ 1361160 w 1571760"/>
              <a:gd name="textAreaTop" fmla="*/ 781200 h 3714840"/>
              <a:gd name="textAreaBottom" fmla="*/ 2737080 h 371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087" stAng="-5400000" swAng="-5400000"/>
                <a:lnTo>
                  <a:pt x="0" y="11372"/>
                </a:lnTo>
                <a:arcTo wR="21600" hR="9087" stAng="10800000" swAng="-3507558"/>
                <a:lnTo>
                  <a:pt x="16200" y="21311"/>
                </a:lnTo>
                <a:lnTo>
                  <a:pt x="21600" y="19316"/>
                </a:lnTo>
                <a:lnTo>
                  <a:pt x="16200" y="16742"/>
                </a:lnTo>
                <a:lnTo>
                  <a:pt x="16200" y="17884"/>
                </a:lnTo>
                <a:arcTo wR="21600" hR="9087" stAng="7292442" swAng="3324442"/>
                <a:lnTo>
                  <a:pt x="171" y="10229"/>
                </a:lnTo>
                <a:arcTo wR="21600" hR="9087" stAng="-10616884" swAng="5216884"/>
                <a:close/>
              </a:path>
              <a:path fill="darkenLess" w="21600" h="21600">
                <a:moveTo>
                  <a:pt x="21600" y="0"/>
                </a:moveTo>
                <a:arcTo wR="21600" hR="9087" stAng="-5400000" swAng="-5400000"/>
                <a:lnTo>
                  <a:pt x="0" y="9087"/>
                </a:lnTo>
                <a:arcTo wR="21600" hR="9087" stAng="10800000" swAng="-183116"/>
                <a:lnTo>
                  <a:pt x="171" y="10229"/>
                </a:lnTo>
                <a:arcTo wR="21600" hR="9087" stAng="-10616884" swAng="5216884"/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Picture 2" descr="C:\Documents and Settings\gerard\Local Settings\Temporary Internet Files\Content.IE5\4W83JHJS\MCj04339320000[1].png"/>
          <p:cNvPicPr/>
          <p:nvPr/>
        </p:nvPicPr>
        <p:blipFill>
          <a:blip r:embed="rId4"/>
          <a:stretch/>
        </p:blipFill>
        <p:spPr>
          <a:xfrm>
            <a:off x="3786120" y="3214800"/>
            <a:ext cx="1932120" cy="25765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"/>
          <p:cNvPicPr/>
          <p:nvPr/>
        </p:nvPicPr>
        <p:blipFill>
          <a:blip r:embed="rId5"/>
          <a:stretch/>
        </p:blipFill>
        <p:spPr>
          <a:xfrm flipH="1" rot="11916600">
            <a:off x="4282560" y="4731840"/>
            <a:ext cx="651240" cy="546120"/>
          </a:xfrm>
          <a:prstGeom prst="rect">
            <a:avLst/>
          </a:prstGeom>
          <a:ln w="0">
            <a:noFill/>
          </a:ln>
        </p:spPr>
      </p:pic>
      <p:sp>
        <p:nvSpPr>
          <p:cNvPr id="277" name="Gekromde PIJL-RECHTS 13"/>
          <p:cNvSpPr/>
          <p:nvPr/>
        </p:nvSpPr>
        <p:spPr>
          <a:xfrm flipH="1">
            <a:off x="5643000" y="928800"/>
            <a:ext cx="1285560" cy="3714480"/>
          </a:xfrm>
          <a:custGeom>
            <a:avLst/>
            <a:gdLst>
              <a:gd name="textAreaLeft" fmla="*/ 172080 w 1285560"/>
              <a:gd name="textAreaRight" fmla="*/ 1113480 w 1285560"/>
              <a:gd name="textAreaTop" fmla="*/ 807840 h 3714480"/>
              <a:gd name="textAreaBottom" fmla="*/ 2745720 h 371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398" stAng="-5400000" swAng="-5400000"/>
                <a:lnTo>
                  <a:pt x="0" y="11268"/>
                </a:lnTo>
                <a:arcTo wR="21600" hR="9398" stAng="10800000" swAng="-3558819"/>
                <a:lnTo>
                  <a:pt x="16200" y="21302"/>
                </a:lnTo>
                <a:lnTo>
                  <a:pt x="21600" y="19731"/>
                </a:lnTo>
                <a:lnTo>
                  <a:pt x="16200" y="17564"/>
                </a:lnTo>
                <a:lnTo>
                  <a:pt x="16200" y="18498"/>
                </a:lnTo>
                <a:arcTo wR="21600" hR="9398" stAng="7241181" swAng="3409361"/>
                <a:lnTo>
                  <a:pt x="107" y="10333"/>
                </a:lnTo>
                <a:arcTo wR="21600" hR="9398" stAng="-10650542" swAng="5250542"/>
                <a:close/>
              </a:path>
              <a:path fill="darkenLess" w="21600" h="21600">
                <a:moveTo>
                  <a:pt x="21600" y="0"/>
                </a:moveTo>
                <a:arcTo wR="21600" hR="9398" stAng="-5400000" swAng="-5400000"/>
                <a:lnTo>
                  <a:pt x="0" y="9398"/>
                </a:lnTo>
                <a:arcTo wR="21600" hR="9398" stAng="10800000" swAng="-149458"/>
                <a:lnTo>
                  <a:pt x="107" y="10333"/>
                </a:lnTo>
                <a:arcTo wR="21600" hR="9398" stAng="-10650542" swAng="5250542"/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kstvak 14"/>
          <p:cNvSpPr/>
          <p:nvPr/>
        </p:nvSpPr>
        <p:spPr>
          <a:xfrm>
            <a:off x="609480" y="857160"/>
            <a:ext cx="2033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wat wil je? kijk zelf.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dat moet,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want…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wel veilig,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dat doe ik zelf ook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kstvak 15"/>
          <p:cNvSpPr/>
          <p:nvPr/>
        </p:nvSpPr>
        <p:spPr>
          <a:xfrm>
            <a:off x="6929280" y="285840"/>
            <a:ext cx="2214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k vind dat jij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 veiligheid betreft 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rijp ik wel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 ook niet perfect 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ar…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B16F-604D-468A-8910-D641467A4C8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Wolk 9"/>
          <p:cNvSpPr/>
          <p:nvPr/>
        </p:nvSpPr>
        <p:spPr>
          <a:xfrm>
            <a:off x="714240" y="785880"/>
            <a:ext cx="7429680" cy="4857840"/>
          </a:xfrm>
          <a:custGeom>
            <a:avLst/>
            <a:gdLst>
              <a:gd name="textAreaLeft" fmla="*/ 1023840 w 7429680"/>
              <a:gd name="textAreaRight" fmla="*/ 5877360 w 7429680"/>
              <a:gd name="textAreaTop" fmla="*/ 733320 h 4857840"/>
              <a:gd name="textAreaBottom" fmla="*/ 3899160 h 48578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fbf"/>
          </a:solidFill>
          <a:ln w="40320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Tekstvak 6"/>
          <p:cNvGrpSpPr/>
          <p:nvPr/>
        </p:nvGrpSpPr>
        <p:grpSpPr>
          <a:xfrm>
            <a:off x="3133800" y="853920"/>
            <a:ext cx="1633320" cy="609840"/>
            <a:chOff x="3133800" y="853920"/>
            <a:chExt cx="1633320" cy="609840"/>
          </a:xfrm>
        </p:grpSpPr>
        <p:pic>
          <p:nvPicPr>
            <p:cNvPr id="283" name="Tekstvak 6" descr=""/>
            <p:cNvPicPr/>
            <p:nvPr/>
          </p:nvPicPr>
          <p:blipFill>
            <a:blip r:embed="rId2"/>
            <a:stretch/>
          </p:blipFill>
          <p:spPr>
            <a:xfrm>
              <a:off x="3133800" y="853920"/>
              <a:ext cx="16333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3286080" y="928800"/>
              <a:ext cx="142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ff"/>
                  </a:solidFill>
                  <a:latin typeface="Arial"/>
                  <a:ea typeface="Tahoma"/>
                </a:rPr>
                <a:t>bedrijf: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5" name="Tekstvak 10"/>
          <p:cNvGrpSpPr/>
          <p:nvPr/>
        </p:nvGrpSpPr>
        <p:grpSpPr>
          <a:xfrm>
            <a:off x="1127160" y="2120760"/>
            <a:ext cx="6284880" cy="871560"/>
            <a:chOff x="1127160" y="2120760"/>
            <a:chExt cx="6284880" cy="871560"/>
          </a:xfrm>
        </p:grpSpPr>
        <p:pic>
          <p:nvPicPr>
            <p:cNvPr id="286" name="Tekstvak 10" descr=""/>
            <p:cNvPicPr/>
            <p:nvPr/>
          </p:nvPicPr>
          <p:blipFill>
            <a:blip r:embed="rId3"/>
            <a:stretch/>
          </p:blipFill>
          <p:spPr>
            <a:xfrm>
              <a:off x="1127160" y="2120760"/>
              <a:ext cx="62848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214280" y="2214720"/>
              <a:ext cx="614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Tahoma"/>
                </a:rPr>
                <a:t> </a:t>
              </a:r>
              <a:r>
                <a:rPr b="0" lang="en-US" sz="2800" spc="-1" strike="noStrike">
                  <a:solidFill>
                    <a:srgbClr val="0000b3"/>
                  </a:solidFill>
                  <a:latin typeface="Arial"/>
                  <a:ea typeface="Tahoma"/>
                </a:rPr>
                <a:t>organisatorische inspanningen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8" name="Tekstvak 8"/>
          <p:cNvGrpSpPr/>
          <p:nvPr/>
        </p:nvGrpSpPr>
        <p:grpSpPr>
          <a:xfrm>
            <a:off x="2962440" y="1620720"/>
            <a:ext cx="1665000" cy="689040"/>
            <a:chOff x="2962440" y="1620720"/>
            <a:chExt cx="1665000" cy="689040"/>
          </a:xfrm>
        </p:grpSpPr>
        <p:pic>
          <p:nvPicPr>
            <p:cNvPr id="289" name="Tekstvak 8" descr=""/>
            <p:cNvPicPr/>
            <p:nvPr/>
          </p:nvPicPr>
          <p:blipFill>
            <a:blip r:embed="rId4"/>
            <a:stretch/>
          </p:blipFill>
          <p:spPr>
            <a:xfrm>
              <a:off x="2962440" y="1620720"/>
              <a:ext cx="166500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3143160" y="171468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ffff"/>
                  </a:solidFill>
                  <a:latin typeface="Arial"/>
                  <a:ea typeface="Tahoma"/>
                </a:rPr>
                <a:t>beleid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1" name="Wolk 16"/>
          <p:cNvSpPr/>
          <p:nvPr/>
        </p:nvSpPr>
        <p:spPr>
          <a:xfrm>
            <a:off x="5029200" y="3000240"/>
            <a:ext cx="1471680" cy="1428840"/>
          </a:xfrm>
          <a:custGeom>
            <a:avLst/>
            <a:gdLst>
              <a:gd name="textAreaLeft" fmla="*/ 202680 w 1471680"/>
              <a:gd name="textAreaRight" fmla="*/ 1164240 w 1471680"/>
              <a:gd name="textAreaTop" fmla="*/ 215640 h 1428840"/>
              <a:gd name="textAreaBottom" fmla="*/ 1146960 h 14288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Wolk 15"/>
          <p:cNvSpPr/>
          <p:nvPr/>
        </p:nvSpPr>
        <p:spPr>
          <a:xfrm>
            <a:off x="3992400" y="2928960"/>
            <a:ext cx="2073600" cy="1928880"/>
          </a:xfrm>
          <a:custGeom>
            <a:avLst/>
            <a:gdLst>
              <a:gd name="textAreaLeft" fmla="*/ 285840 w 2073600"/>
              <a:gd name="textAreaRight" fmla="*/ 1640520 w 2073600"/>
              <a:gd name="textAreaTop" fmla="*/ 291240 h 1928880"/>
              <a:gd name="textAreaBottom" fmla="*/ 1548360 h 19288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Wolk 17"/>
          <p:cNvSpPr/>
          <p:nvPr/>
        </p:nvSpPr>
        <p:spPr>
          <a:xfrm rot="2026200">
            <a:off x="1433520" y="3270240"/>
            <a:ext cx="2071800" cy="1928880"/>
          </a:xfrm>
          <a:custGeom>
            <a:avLst/>
            <a:gdLst>
              <a:gd name="textAreaLeft" fmla="*/ 285480 w 2071800"/>
              <a:gd name="textAreaRight" fmla="*/ 1639080 w 2071800"/>
              <a:gd name="textAreaTop" fmla="*/ 291240 h 1928880"/>
              <a:gd name="textAreaBottom" fmla="*/ 1548360 h 19288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Wolk 12"/>
          <p:cNvSpPr/>
          <p:nvPr/>
        </p:nvSpPr>
        <p:spPr>
          <a:xfrm>
            <a:off x="2000160" y="3000240"/>
            <a:ext cx="3429000" cy="2357640"/>
          </a:xfrm>
          <a:custGeom>
            <a:avLst/>
            <a:gdLst>
              <a:gd name="textAreaLeft" fmla="*/ 472320 w 3429000"/>
              <a:gd name="textAreaRight" fmla="*/ 2712600 w 3429000"/>
              <a:gd name="textAreaTop" fmla="*/ 356040 h 2357640"/>
              <a:gd name="textAreaBottom" fmla="*/ 1892520 h 23576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Tekstvak 13"/>
          <p:cNvGrpSpPr/>
          <p:nvPr/>
        </p:nvGrpSpPr>
        <p:grpSpPr>
          <a:xfrm>
            <a:off x="2494080" y="3365640"/>
            <a:ext cx="2590560" cy="504720"/>
            <a:chOff x="2494080" y="3365640"/>
            <a:chExt cx="2590560" cy="504720"/>
          </a:xfrm>
        </p:grpSpPr>
        <p:pic>
          <p:nvPicPr>
            <p:cNvPr id="296" name="Tekstvak 13" descr=""/>
            <p:cNvPicPr/>
            <p:nvPr/>
          </p:nvPicPr>
          <p:blipFill>
            <a:blip r:embed="rId5"/>
            <a:stretch/>
          </p:blipFill>
          <p:spPr>
            <a:xfrm>
              <a:off x="2494080" y="3365640"/>
              <a:ext cx="25905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2600280" y="3429000"/>
              <a:ext cx="242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7ffff"/>
                  </a:solidFill>
                  <a:latin typeface="Arial"/>
                  <a:ea typeface="Tahoma"/>
                </a:rPr>
                <a:t>uitvoeringsteam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 txBox="1"/>
          <p:nvPr/>
        </p:nvSpPr>
        <p:spPr>
          <a:xfrm>
            <a:off x="2590920" y="4038480"/>
            <a:ext cx="271440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Arial"/>
              </a:rPr>
              <a:t>veilig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9" name="PIJL-RECHTS 7"/>
          <p:cNvGrpSpPr/>
          <p:nvPr/>
        </p:nvGrpSpPr>
        <p:grpSpPr>
          <a:xfrm>
            <a:off x="3475080" y="1298520"/>
            <a:ext cx="291960" cy="457200"/>
            <a:chOff x="3475080" y="1298520"/>
            <a:chExt cx="291960" cy="457200"/>
          </a:xfrm>
        </p:grpSpPr>
        <p:pic>
          <p:nvPicPr>
            <p:cNvPr id="300" name="PIJL-RECHTS 7" descr=""/>
            <p:cNvPicPr/>
            <p:nvPr/>
          </p:nvPicPr>
          <p:blipFill>
            <a:blip r:embed="rId6"/>
            <a:stretch/>
          </p:blipFill>
          <p:spPr>
            <a:xfrm>
              <a:off x="3475080" y="1298520"/>
              <a:ext cx="2919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 rot="6108000">
              <a:off x="3461400" y="1437120"/>
              <a:ext cx="36216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E192-FD03-4E5C-8C7E-8D517F807DB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571680" y="1499760"/>
            <a:ext cx="83707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asisvoorwaard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soneelsselectie en begeleiding: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iste man op de juiste plaa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roductie: werk, team en risico’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continue inspann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servaties veiligheidsgedra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structureerd overle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handelen klachten en v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4 Organisatorische inspanning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17:14Z</dcterms:modified>
  <cp:revision>271</cp:revision>
  <dc:subject/>
  <dc:title>Taak en positie VFP</dc:title>
</cp:coreProperties>
</file>