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77F59-1667-4046-A42C-751E29CF2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8DA6E-6361-450D-9787-08504AC37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75E50-AC3D-47EE-9083-1D5162886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BDA28-66A9-469D-82A0-04DE769F5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9FFFC-5516-4C54-98B0-E7EE27D57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F81C1-9E98-4408-B2E8-741BFC2F8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54C0A-4A33-410D-B9F9-9567EBB73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F8136-7A7C-47AC-A629-E37DFE807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A61E5-9D20-45D8-ABDC-2092D1ACE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9D273-0AA9-462F-802A-62981CAAF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ECAFB-2644-468F-B9EF-AD673C6EC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C52E7-BE48-4418-928E-AC341D1C1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cc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8FA55-0793-4712-9C35-D27C67D0B0D2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160" y="500040"/>
            <a:ext cx="79246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33cc33"/>
                </a:solidFill>
                <a:latin typeface="Arial"/>
              </a:rPr>
              <a:t>VCA Basisveiligheid </a:t>
            </a:r>
            <a:br>
              <a:rPr sz="2000"/>
            </a:br>
            <a:br>
              <a:rPr sz="2000"/>
            </a:br>
            <a:r>
              <a:rPr b="1" lang="nl-NL" sz="4400" spc="-1" strike="noStrike">
                <a:solidFill>
                  <a:srgbClr val="00cc00"/>
                </a:solidFill>
                <a:latin typeface="Arial"/>
              </a:rPr>
              <a:t>Hoofdstuk 4 </a:t>
            </a:r>
            <a:br>
              <a:rPr sz="4400"/>
            </a:br>
            <a:r>
              <a:rPr b="1" lang="nl-NL" sz="4400" spc="-1" strike="noStrike">
                <a:solidFill>
                  <a:srgbClr val="00cc00"/>
                </a:solidFill>
                <a:latin typeface="Arial"/>
              </a:rPr>
              <a:t>Brand en explosie</a:t>
            </a:r>
            <a:endParaRPr b="0" lang="en-US" sz="4400" spc="-1" strike="noStrike">
              <a:solidFill>
                <a:srgbClr val="33cc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4.4 Brandbaarheid van stoffen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ene stof brandt gemakkelijker dan de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nde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loeistoffen: vlampunt is maat voor brandgevaa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laag vlampunt </a:t>
            </a:r>
            <a:r>
              <a:rPr b="0" lang="nl-NL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hoog brandgevaa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lampunt </a:t>
            </a:r>
            <a:r>
              <a:rPr b="1" i="1" lang="nl-NL" sz="2400" spc="-1" strike="noStrike">
                <a:solidFill>
                  <a:srgbClr val="000000"/>
                </a:solidFill>
                <a:latin typeface="Arial"/>
              </a:rPr>
              <a:t>of de ‘ontvlammingstemperatuur’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cc0000"/>
                </a:solidFill>
                <a:latin typeface="Arial"/>
              </a:rPr>
              <a:t>laagste temperatuur</a:t>
            </a:r>
            <a:r>
              <a:rPr b="0" lang="nl-NL" sz="2200" spc="-1" strike="noStrike">
                <a:solidFill>
                  <a:srgbClr val="47ffff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aarbij vloeistof zoveel </a:t>
            </a:r>
            <a:r>
              <a:rPr b="0" lang="nl-NL" sz="2200" spc="-1" strike="noStrike">
                <a:solidFill>
                  <a:srgbClr val="cc0000"/>
                </a:solidFill>
                <a:latin typeface="Arial"/>
              </a:rPr>
              <a:t>ontvlambare damp</a:t>
            </a:r>
            <a:r>
              <a:rPr b="0" lang="nl-NL" sz="2200" spc="-1" strike="noStrike">
                <a:solidFill>
                  <a:srgbClr val="47ffff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ntwikkelt, dat deze in de aanwezige lucht onder </a:t>
            </a:r>
            <a:r>
              <a:rPr b="0" lang="nl-NL" sz="2200" spc="-1" strike="noStrike">
                <a:solidFill>
                  <a:srgbClr val="cc0000"/>
                </a:solidFill>
                <a:latin typeface="Arial"/>
              </a:rPr>
              <a:t>normale luchtomstandigheden</a:t>
            </a:r>
            <a:r>
              <a:rPr b="0" lang="nl-NL" sz="2200" spc="-1" strike="noStrike">
                <a:solidFill>
                  <a:srgbClr val="47ffff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et een vlam of vonk </a:t>
            </a:r>
            <a:r>
              <a:rPr b="0" lang="nl-NL" sz="2200" spc="-1" strike="noStrike">
                <a:solidFill>
                  <a:srgbClr val="cc0000"/>
                </a:solidFill>
                <a:latin typeface="Arial"/>
              </a:rPr>
              <a:t>aangestoken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kan wor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nzine kan bij vorst aangestoken worden (vlampunt onder - 20 °C)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petroleum kan niet bij kamertemperatuur aangestoken worden, vlampunt boven + 30 °C,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nzine is dus veel brandgevaarlijker!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6" descr=""/>
          <p:cNvPicPr/>
          <p:nvPr/>
        </p:nvPicPr>
        <p:blipFill>
          <a:blip r:embed="rId1"/>
          <a:srcRect l="20482" t="0" r="29468" b="0"/>
          <a:stretch/>
        </p:blipFill>
        <p:spPr>
          <a:xfrm>
            <a:off x="7786800" y="0"/>
            <a:ext cx="1357200" cy="163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4.4 Brandbaarheid van stoffen (2)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elfontbrandingstemperatuur: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aagste temperatuur waarbij een stof spontaan ontbran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zonder enig hulpmiddel,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ij normale luchtomstandighe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ontstekingsenergie is hier geen vonk of vlam, maar de hoge temperatuur zel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4.5 Blussen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rincipes van bluss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randstof uitschakelen / verwijde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armte uitschakelen door afkoe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tstekingsbron wegne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uurstof verdringen of de toegang tot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randstof verhinde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grijpen in de chemische reactie van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brand (negatieve kataly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5" descr=""/>
          <p:cNvPicPr/>
          <p:nvPr/>
        </p:nvPicPr>
        <p:blipFill>
          <a:blip r:embed="rId1"/>
          <a:stretch/>
        </p:blipFill>
        <p:spPr>
          <a:xfrm>
            <a:off x="6715080" y="82440"/>
            <a:ext cx="2212920" cy="163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Indeling brandklassen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CEB76BD7-4227-447F-B5C8-D5C14D2928CF" descr="5A8DB082-2839-484A-B0AB-DACCFFD08C53@profit"/>
          <p:cNvPicPr/>
          <p:nvPr/>
        </p:nvPicPr>
        <p:blipFill>
          <a:blip r:embed="rId1"/>
          <a:stretch/>
        </p:blipFill>
        <p:spPr>
          <a:xfrm>
            <a:off x="216000" y="3068640"/>
            <a:ext cx="8640720" cy="191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4.6 Blusmiddelen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5800" y="1447920"/>
          <a:ext cx="7772400" cy="4616280"/>
        </p:xfrm>
        <a:graphic>
          <a:graphicData uri="http://schemas.openxmlformats.org/drawingml/2006/table">
            <a:tbl>
              <a:tblPr/>
              <a:tblGrid>
                <a:gridCol w="2062080"/>
                <a:gridCol w="2476440"/>
                <a:gridCol w="3233880"/>
              </a:tblGrid>
              <a:tr h="340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lusmiddel</a:t>
                      </a:r>
                      <a:endParaRPr b="1" lang="en-US" sz="16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rking</a:t>
                      </a:r>
                      <a:endParaRPr b="1" lang="en-US" sz="16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ort brand</a:t>
                      </a:r>
                      <a:endParaRPr b="1" lang="en-US" sz="16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2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ter</a:t>
                      </a:r>
                      <a:endParaRPr b="1" lang="en-US" sz="16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koelend</a:t>
                      </a:r>
                      <a:endParaRPr b="1" lang="en-US" sz="16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oom verdringt zuurstof</a:t>
                      </a:r>
                      <a:endParaRPr b="1" lang="en-US" sz="16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(vaste stoffen)</a:t>
                      </a:r>
                      <a:endParaRPr b="1" lang="en-US" sz="16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9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huim</a:t>
                      </a:r>
                      <a:endParaRPr b="1" lang="en-US" sz="16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koelend</a:t>
                      </a:r>
                      <a:endParaRPr b="1" lang="en-US" sz="16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luit zuurstoftoevoer af</a:t>
                      </a:r>
                      <a:endParaRPr b="1" lang="en-US" sz="16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(vaste stoffen)</a:t>
                      </a:r>
                      <a:endParaRPr b="1" lang="en-US" sz="16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 (vloeistoffen)</a:t>
                      </a:r>
                      <a:endParaRPr b="1" lang="en-US" sz="16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and</a:t>
                      </a:r>
                      <a:endParaRPr b="1" lang="en-US" sz="16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luit zuurstoftoevoer af</a:t>
                      </a:r>
                      <a:endParaRPr b="1" lang="en-US" sz="16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 (vloeistoffen op de grond)</a:t>
                      </a:r>
                      <a:endParaRPr b="1" lang="en-US" sz="16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4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lusdeken</a:t>
                      </a:r>
                      <a:endParaRPr b="1" lang="en-US" sz="16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dringt zuurstof</a:t>
                      </a:r>
                      <a:endParaRPr b="1" lang="en-US" sz="16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(bij personen)</a:t>
                      </a:r>
                      <a:endParaRPr b="1" lang="en-US" sz="16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17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luspoeder</a:t>
                      </a:r>
                      <a:endParaRPr b="1" lang="en-US" sz="16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mt verbrandingsreactie</a:t>
                      </a:r>
                      <a:endParaRPr b="1" lang="en-US" sz="16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(vaste stoffen)</a:t>
                      </a:r>
                      <a:endParaRPr b="1" lang="en-US" sz="16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 (vloeistoffen)</a:t>
                      </a:r>
                      <a:endParaRPr b="1" lang="en-US" sz="16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 (gassen)</a:t>
                      </a:r>
                      <a:endParaRPr b="1" lang="en-US" sz="16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 (metalen)</a:t>
                      </a:r>
                      <a:endParaRPr b="1" lang="en-US" sz="16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9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</a:t>
                      </a:r>
                      <a:r>
                        <a:rPr b="1" lang="nl-BE" sz="1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1" lang="en-US" sz="16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koelend</a:t>
                      </a:r>
                      <a:endParaRPr b="1" lang="en-US" sz="16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dringt zuurstof</a:t>
                      </a:r>
                      <a:endParaRPr b="1" lang="en-US" sz="16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 (vloeistoffen)</a:t>
                      </a:r>
                      <a:endParaRPr b="1" lang="en-US" sz="16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 (elektriciteitsinstallaties)</a:t>
                      </a:r>
                      <a:endParaRPr b="1" lang="en-US" sz="16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4.7 Handelend optreden bij brand</a:t>
            </a:r>
            <a:br>
              <a:rPr sz="2800"/>
            </a:b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      - lees de aanwijzingen -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pic>
        <p:nvPicPr>
          <p:cNvPr id="77" name="Picture 6" descr="http://www.brandweer.borger-odoorn.info/images/146_1.jpg"/>
          <p:cNvPicPr/>
          <p:nvPr/>
        </p:nvPicPr>
        <p:blipFill>
          <a:blip r:embed="rId1"/>
          <a:stretch/>
        </p:blipFill>
        <p:spPr>
          <a:xfrm>
            <a:off x="2827440" y="1981080"/>
            <a:ext cx="312876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4.7 Handelend optreden bij brand</a:t>
            </a:r>
            <a:br>
              <a:rPr sz="2800"/>
            </a:b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      - lees de aanwijzingen – (2)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pic>
        <p:nvPicPr>
          <p:cNvPr id="79" name="Picture 10" descr="http://www.manroy.nl/ontruimingsplan.gif"/>
          <p:cNvPicPr/>
          <p:nvPr/>
        </p:nvPicPr>
        <p:blipFill>
          <a:blip r:embed="rId1"/>
          <a:stretch/>
        </p:blipFill>
        <p:spPr>
          <a:xfrm>
            <a:off x="1828800" y="198108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4.7 Handelend optreden bij brand (3)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org voor je eigen veiligh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ld de brand zo snel mogelij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aarschuw de mensen in de omgev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luit deuren en ra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reng mensen in veiligh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lus de brand 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als je het kunt en dat verantwoord is…..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kies het juiste blusmidd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richt op het brandende voorwerp, niet op de vlamm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lijf opletten, het vuur kan weer aanwakker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4"/>
          <p:cNvSpPr/>
          <p:nvPr/>
        </p:nvSpPr>
        <p:spPr>
          <a:xfrm>
            <a:off x="1515960" y="5867280"/>
            <a:ext cx="640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cc0000"/>
                </a:solidFill>
                <a:latin typeface="Arial"/>
                <a:ea typeface="Arial"/>
              </a:rPr>
              <a:t>bij brandwonden zo snel mogelijk koelen </a:t>
            </a:r>
            <a:r>
              <a:rPr b="0" i="1" lang="nl-NL" sz="2000" spc="-1" strike="noStrike">
                <a:solidFill>
                  <a:srgbClr val="cc0000"/>
                </a:solidFill>
                <a:latin typeface="Wingdings"/>
                <a:ea typeface="Wingdings"/>
              </a:rPr>
              <a:t></a:t>
            </a:r>
            <a:r>
              <a:rPr b="0" i="1" lang="nl-NL" sz="2000" spc="-1" strike="noStrike">
                <a:solidFill>
                  <a:srgbClr val="cc0000"/>
                </a:solidFill>
                <a:latin typeface="Arial"/>
                <a:ea typeface="Arial"/>
              </a:rPr>
              <a:t> 15 minuten</a:t>
            </a: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4. Brand en explosie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cc0000"/>
                </a:solidFill>
                <a:latin typeface="Arial"/>
              </a:rPr>
              <a:t>“</a:t>
            </a:r>
            <a:r>
              <a:rPr b="0" i="1" lang="nl-NL" sz="2400" spc="-1" strike="noStrike">
                <a:solidFill>
                  <a:srgbClr val="cc0000"/>
                </a:solidFill>
                <a:latin typeface="Arial"/>
              </a:rPr>
              <a:t>brand is vuur waar het niet thuis hoort…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cc33"/>
                </a:solidFill>
                <a:latin typeface="Arial"/>
              </a:rPr>
              <a:t>voorkomen en schade beper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randen en explosies zijn ernstige bedreiging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p bijv. raffinaderijen en chemische fabrieken is brand zeer ernsti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randen en explosies voorkomen of beperke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eet hoe ze kunnen ontstaa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eet hoe je moet optred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eet wat van belang is voor bluss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4. Brand en explosie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4.1  Gevaren voor brand en explos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4.2  Gevaren tijdens een br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4.3  Ontstaan van brand en explos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4.4  Brandbaarheid van stoff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4.5  Blus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4.6  Blusmidde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4.7  Handelend optreden bij br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4.1 Gevaren voor brand en explosie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drijfsbranden komen heel veel voor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fabrieken en werkplaats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egvervoer (bijv. vrachtwagens met propaan)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transporten van licht ontvlambare product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akreparati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inkelpanden, opslagloodsen, jachthave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zwembaden, hotels, disco’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el slachtoff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norme scha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6" descr="http://www.morgenpost.de/multimedia/archive/00382/sei_Unfall_BM_Berli_382094b.jpg"/>
          <p:cNvPicPr/>
          <p:nvPr/>
        </p:nvPicPr>
        <p:blipFill>
          <a:blip r:embed="rId1"/>
          <a:stretch/>
        </p:blipFill>
        <p:spPr>
          <a:xfrm>
            <a:off x="5562720" y="4648320"/>
            <a:ext cx="2143080" cy="157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4.2 Gevaren tijdens een brand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dreiging door vuurcontact, hitte en ro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ittestraling belemmert bluswe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xplosies mogelijk door ontsteking en opwar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varen van rook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lemmert vlucht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ifti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tijgt op (lichter dan lucht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rspreidt zich in een gebouw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4.3 Ontstaan van brand of explosie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or een brand of explosie is tegelijk nodi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cc0000"/>
                </a:solidFill>
                <a:latin typeface="Arial"/>
              </a:rPr>
              <a:t>brandbare st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cc0000"/>
                </a:solidFill>
                <a:latin typeface="Arial"/>
              </a:rPr>
              <a:t>zuurst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cc0000"/>
                </a:solidFill>
                <a:latin typeface="Arial"/>
              </a:rPr>
              <a:t>ontstekingsenerg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33cc33"/>
                </a:solidFill>
                <a:latin typeface="Arial"/>
              </a:rPr>
              <a:t>(</a:t>
            </a:r>
            <a:r>
              <a:rPr b="0" lang="nl-NL" sz="2400" spc="-1" strike="noStrike">
                <a:solidFill>
                  <a:srgbClr val="33cc33"/>
                </a:solidFill>
                <a:latin typeface="Arial"/>
              </a:rPr>
              <a:t>de branddriehoe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tstaan van brand hangt af van aanwezigheid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an brandbare stof en aanwezigheid van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‘ontstekingsenergie’ (vlammetje of von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5" descr=""/>
          <p:cNvPicPr/>
          <p:nvPr/>
        </p:nvPicPr>
        <p:blipFill>
          <a:blip r:embed="rId1"/>
          <a:stretch/>
        </p:blipFill>
        <p:spPr>
          <a:xfrm>
            <a:off x="5108400" y="2498760"/>
            <a:ext cx="2949840" cy="23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Ontstekingsenergie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tstekingsenergie wordt geleverd door een ontstekingsbr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en mogelijke ontstekingsbr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en vonk van handgereedschap of las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et oppervla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oge temperatuu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pen vuur en stralingswarm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Brand en explosie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en explosie is een “bliksemsnelle” br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verbrandingsgassen komen vrij als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en drukgolf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en drukgolf is verwoeste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upersnelle verbranding alleen bij ideale omstandighe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randbare stof en zuurstof heel goed gemengd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e verhouding tussen brandbare stof en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zuurstof moet goed zij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ijvoorbeeld: propaan-luchtmengsel kan niet exploderen bij een concentratie onder 2,1% en niet boven 9,5%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propaan-luchtmengsels kunnen alleen exploderen bij een concentratie tussen 2,1% en 9,5% propaan in de luch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Explosiegrenzen en explosiegebied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pic>
        <p:nvPicPr>
          <p:cNvPr id="59" name="Picture 9" descr="http://www.arbobert.nl/images/290Expl1.jpg"/>
          <p:cNvPicPr/>
          <p:nvPr/>
        </p:nvPicPr>
        <p:blipFill>
          <a:blip r:embed="rId1"/>
          <a:stretch/>
        </p:blipFill>
        <p:spPr>
          <a:xfrm>
            <a:off x="685800" y="2476440"/>
            <a:ext cx="7772400" cy="3695760"/>
          </a:xfrm>
          <a:prstGeom prst="rect">
            <a:avLst/>
          </a:prstGeom>
          <a:ln w="0">
            <a:noFill/>
          </a:ln>
        </p:spPr>
      </p:pic>
      <p:sp>
        <p:nvSpPr>
          <p:cNvPr id="60" name="Tekstvak 9"/>
          <p:cNvSpPr/>
          <p:nvPr/>
        </p:nvSpPr>
        <p:spPr>
          <a:xfrm>
            <a:off x="685800" y="2209680"/>
            <a:ext cx="792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te ‘arm’ mengsel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te ‘rijk’ mengsel </a:t>
            </a: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1" name="PIJL-OMHOOG 7"/>
          <p:cNvSpPr/>
          <p:nvPr/>
        </p:nvSpPr>
        <p:spPr>
          <a:xfrm rot="16200000">
            <a:off x="1159560" y="1278720"/>
            <a:ext cx="642960" cy="128592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2" name="PIJL-OMHOOG 8"/>
          <p:cNvSpPr/>
          <p:nvPr/>
        </p:nvSpPr>
        <p:spPr>
          <a:xfrm rot="5400000">
            <a:off x="6564600" y="1283400"/>
            <a:ext cx="642960" cy="1428840"/>
          </a:xfrm>
          <a:prstGeom prst="upArrow">
            <a:avLst>
              <a:gd name="adj1" fmla="val 50000"/>
              <a:gd name="adj2" fmla="val 50001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1T12:38:54Z</dcterms:created>
  <dc:creator>jrijdes</dc:creator>
  <dc:description/>
  <dc:language>en-US</dc:language>
  <cp:lastModifiedBy>Mechteld de Coo</cp:lastModifiedBy>
  <dcterms:modified xsi:type="dcterms:W3CDTF">2015-10-01T08:35:03Z</dcterms:modified>
  <cp:revision>124</cp:revision>
  <dc:subject/>
  <dc:title>PowerPoint-presentatie</dc:title>
</cp:coreProperties>
</file>