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1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560-9F83-40C0-9A79-70DCA50E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FE0-E34B-4895-86C1-8E57DBBA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777A8-F75C-4E36-966B-038A4C7F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FAF7D-5637-4F35-B30A-EA13BB5A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9567E-D540-4FD4-970D-4686D5A8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607DE-F94D-43CC-ACDF-6685C007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CD982-307E-4CF9-B4DE-A950E446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8EB0A-813B-44CD-90BC-DE517956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196B2-9B21-4332-809A-8B2AC321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C864B-CEB6-4730-9F34-64A7B5BD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53674-1A72-45F4-B4A7-10A57E47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F7F44-E602-469E-8D1E-C59F3688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BA5-EB8F-44C6-A7FC-39823141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21CEB-3DFA-4058-B58F-E77C9667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330BF-7E3F-4576-B33C-C3AA2E11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B8551-9F82-4765-887B-3EAC4B02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5DAD5-7458-4C19-A81E-7ECDF75E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D5135-F95F-490A-BD76-05EA2F26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53777-0806-410F-A4E0-B5AC9342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1C70E-6D68-43A6-BCC0-2AC99F5C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C1B88-745E-43D1-A63A-795DA747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B1E34-4B88-46D1-8DE6-38A703B6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9A350-B0A8-4BE0-AC63-1444375B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61E-26AB-41CA-8F82-DAD130CE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00EE3-CDF8-4DC8-963A-3E580611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94CAC-290D-4237-ABC3-24C4B5E3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7BC6A-B6CB-4598-991B-CF5F2602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A86AB-EBBF-471D-8963-1F852A83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1E72F-8D3F-4AA0-A896-184F09D4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A3FF0-AEA3-494A-A518-B9B41DBB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A8E1C-FCBC-4A27-B318-7FB668A8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CF3A4-D7E6-42B0-82BB-56D08BE5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C655D-885B-44CC-BD40-81A74C62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68ADE-9C52-40E3-AB39-854A71B9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F154-4DD8-4A62-82F9-CEE15B24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299C6-1C7C-4C45-BB38-AC1A63BD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0942D-AE6D-469F-BE7A-50CAD3AD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0A56F-D39B-4412-819C-02D2B6A0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2DD27-9E12-4314-B960-889F9449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A77F8-C431-44D7-824F-A208F2ED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0658D-4B4F-488B-B793-C0FCB1BA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AE657-99E2-494E-BA98-801C479D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D825F-3C14-472B-805E-6316B451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A8E1C-4BCE-484F-A3F3-CCFA8B59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3FFFE-0B48-4967-A051-5599AAC0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471F-32A7-4542-989E-02FC7BB0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B91A3-4EFB-4679-A4DD-6B7AA4EB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69A42-C2F9-448A-A314-2930FA95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24754-8441-41FB-AD81-B7A55EE1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96F4B-AFFE-4AFA-B9EC-AA984C4A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DA249-0A27-45F3-B3CB-8831EF63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B7EA-8441-4446-9519-56903B54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C58A-E361-47B4-AD3A-48BA87E8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0094-2F0A-40DE-8FCD-011AA1CB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3E2F-4ABB-4DDE-963F-D23C7B92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15C5-DFB4-4689-A07F-149DABB6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12C-948D-4C9D-946F-D51EBDE3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E420-F0AA-450A-BAB3-F174F9CF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F647-BC0C-4721-8A24-22C39C63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59B8-2250-4F01-ACB0-760B5EDB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E90E-8307-496D-B8E2-8D7E9070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7E6C-389F-48DF-A29D-B3573213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8DF14-4076-40BB-A265-2F11622B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E6D97-19EC-425B-A5DE-E47D2F4F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D543-BCE3-4F71-BDB9-BAC68612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69DE-4700-4518-A605-F6CCAC1C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C9078-198C-4E38-8BA3-76F2A442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0F5-9482-4FC1-84A7-050C8EA2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5ED19-8B85-4BF6-9E80-290444BA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7E3B3-6ADD-4B5F-8D0A-F0BE0517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DB4DC-8FC6-4DFE-9F6C-17872EB0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FCD21-51C2-454E-8EB9-48477B27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A73DD-3AA0-43F9-8CAB-D64B64DC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AFD05-0D35-4C77-AD3D-F633656F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4203D-061D-443F-A4B0-BEF8F954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F05E1-09AB-450B-887F-634C969B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2AA0D-3EA3-43E5-80FA-9E104DA0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591EC-CC74-412A-85BD-31D46954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DFC-DA85-4053-B2CC-D18730C1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431EB-476C-470F-9352-4A19867D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6AE13-2737-4F53-826F-78C7CCE9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089ED-2179-4D58-8A27-CFD51730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7EAF0-4B86-41DE-B114-CF9D9AFE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6A949-378F-49B9-B546-DDCB7158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8947A-8E52-4A45-A402-49FC81C2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AC5CE-8346-47E3-B878-8DDC2F76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A82C-8632-4C0C-93B2-D645E031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4B5E3-392E-49A4-9B1F-69FAA2AC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9FA1C-9EE1-4DB2-810E-C3C908B7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AA9-F3DE-481C-9F21-AFC6790F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38756-BA12-4886-814F-C059F654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A2768-A196-4559-998C-295EA56E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A5811-3022-4AFB-B2E4-8AE7AF9D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85B0D-B7F6-488C-A934-9DF29228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00F08-63DF-4089-A7ED-DD31C6D3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E3FCB-8729-4018-8796-9CBC6AA7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3D1B0-EAD0-49BC-92E9-851EDC36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69398-2D4C-43FF-9F94-F144A3F4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0B96E-FA96-4B6B-AE0E-7C2A3336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EDB3D-52BA-4E15-93AD-B3E9B30E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F46-4246-44C6-B22A-C5C13D22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58FFF-C864-4434-B4B1-554A6A10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839FA-02EE-4699-98A3-0AE7A9D7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86860-0D66-45DB-BE3D-1DF01C09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9EBD8-6640-487A-97A4-577DB678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E5FC9-22AD-40F1-BDA5-7D8846D0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C5948-5BFB-477D-B039-10173F67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CADE0-2756-4A5D-9153-A3AD5047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177FB-657B-4F9E-AF2C-916DCD4A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1B522-3D65-4323-93CB-B3A8FA14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10A7D-647F-411A-BAD5-8C4545C1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CE1-7A4A-4CF1-A44C-77DF1890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93904-3B5B-40DA-B5A3-82232371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57ECF-BFFC-4A9E-8BEF-6430DBAA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A4745-3F95-4761-973D-7F0553DE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154C8-9745-411D-884A-9173AA98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86B32-5FF3-45D0-AAC7-8C1420A2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62C44-DDC2-4EF9-8EB2-CB12A24F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F4A36-F465-4B31-926D-4BA8C557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FA9C2-5746-41A8-ACAA-DF8A1904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E8EEB-1DB7-40D3-B282-01B203F2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35F78-D792-441B-83E1-D87BD950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504-CE47-4142-9003-D426F991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C1216-596E-4BB6-BF56-D759CEA8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B5B62-B313-43F5-B7E6-16380744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8D5D1-FC52-4C81-B2DC-BF60ED15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A21E2-6F6B-4919-AD2C-8686016D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375E0-2033-4AEE-BF66-00AF1352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C6765-859B-40DE-87F5-DB75BC93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FC654-3A6D-4ECF-8E63-BD9E307B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6CF5E-759C-41F3-9CA8-799E3BAA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BE2E5-C8A1-4E82-92FD-C3F4F142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66519-173C-4B93-91ED-68DDB33F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245-74BA-493D-AFDD-C16DBDEF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2C825-7D4D-4343-ADE9-DEC19065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65F6B-35F6-4ED6-A56E-2330FFD7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3E386-6FB7-40E7-BD23-37301335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7129C-5ECF-426A-92B2-A6ED1089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EA97D-84F2-42D4-AC87-4F3B3AAD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84AC2-5CFC-4A0D-9430-55D67CBD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E91F8-8B16-48A9-9A6B-7166BEB5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E5B2A-F2D8-4452-A6E3-AEC6AC0B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4E15F-E75F-42F4-B388-B1611A6F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A784B-79E9-4970-A162-9627515B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1B8A-9EFE-4C7E-9A0B-82D33A77AF2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39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81EF-B579-405A-8752-027AD7E4468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4117-495E-4E98-9152-5D1431C1454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6327-4873-43F8-A210-12383C1C637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E7D9-E29F-48CB-9400-DAA18DFA2FD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20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22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282A-8ACB-45F1-9AE6-8EC982288F2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0C5D-32D1-4B4A-BA48-F144A7EC385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BEC2-DF29-413B-A001-33A591AD9F6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1431-F03E-4AA9-872B-66275694150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AADC-F788-4039-8059-A9BA7A930E1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F6A3-41CD-4EA8-8471-F6D90F72F0E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DB80-1EB1-4CAA-8C8D-52DEA7A3BE7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9680" y="571680"/>
            <a:ext cx="8358120" cy="40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a911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Hoofdstuk 7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Managementsysteem en certificatie:</a:t>
            </a:r>
            <a:br>
              <a:rPr sz="4400"/>
            </a:b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2aa911"/>
                </a:solidFill>
                <a:latin typeface="Arial"/>
                <a:ea typeface="Tahoma"/>
              </a:rPr>
              <a:t>het fundament van V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329B-48E2-4234-AD06-F651209383B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B03A-97EE-4FDD-9C7D-3C8B07BD67E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6" name="Groep 8"/>
          <p:cNvGrpSpPr/>
          <p:nvPr/>
        </p:nvGrpSpPr>
        <p:grpSpPr>
          <a:xfrm>
            <a:off x="1285920" y="1071360"/>
            <a:ext cx="2954160" cy="4818240"/>
            <a:chOff x="1285920" y="1071360"/>
            <a:chExt cx="2954160" cy="4818240"/>
          </a:xfrm>
        </p:grpSpPr>
        <p:sp>
          <p:nvSpPr>
            <p:cNvPr id="617" name="Parallellogram 6"/>
            <p:cNvSpPr/>
            <p:nvPr/>
          </p:nvSpPr>
          <p:spPr>
            <a:xfrm flipH="1" rot="5400000">
              <a:off x="1636200" y="997560"/>
              <a:ext cx="2122200" cy="2269080"/>
            </a:xfrm>
            <a:prstGeom prst="parallelogram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8" name="Rechthoek 5" descr=""/>
            <p:cNvPicPr/>
            <p:nvPr/>
          </p:nvPicPr>
          <p:blipFill>
            <a:blip r:embed="rId2"/>
            <a:stretch/>
          </p:blipFill>
          <p:spPr>
            <a:xfrm>
              <a:off x="1285920" y="1611360"/>
              <a:ext cx="2954160" cy="427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Tekstvak 7"/>
          <p:cNvSpPr/>
          <p:nvPr/>
        </p:nvSpPr>
        <p:spPr>
          <a:xfrm>
            <a:off x="5143680" y="1428840"/>
            <a:ext cx="3000240" cy="3812040"/>
          </a:xfrm>
          <a:prstGeom prst="rect">
            <a:avLst/>
          </a:prstGeom>
          <a:noFill/>
          <a:ln w="2844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stel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e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akverde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62F0-3AE5-4AC5-93C5-98E5F1F82CB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kstvak 5"/>
          <p:cNvSpPr/>
          <p:nvPr/>
        </p:nvSpPr>
        <p:spPr>
          <a:xfrm>
            <a:off x="571680" y="1285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oel actiepla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rgen dat vastgestelde risico’s bi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IE en 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worden beheerst door doeltreffende 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kstvak 6"/>
          <p:cNvSpPr/>
          <p:nvPr/>
        </p:nvSpPr>
        <p:spPr>
          <a:xfrm>
            <a:off x="571680" y="335772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V&amp;G-actieplan beva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tregelen/ac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uitvoering (mensen, middelen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lanning en eindtij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antwoordelij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aluatie (ook t.a.v. doe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77BE-D11D-4EA6-A1E2-6119454A152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7.5 Taakrisicoanalyse (TRA)</a:t>
            </a:r>
            <a:br>
              <a:rPr sz="2800"/>
            </a:b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en Laatste Minuut RisicoAnalyse (LMRA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6" name="Tekstvak 5"/>
          <p:cNvSpPr/>
          <p:nvPr/>
        </p:nvSpPr>
        <p:spPr>
          <a:xfrm>
            <a:off x="571680" y="182880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dat je goede maatregelen kunt treffen,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oet je eerst de risico’s analys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eker als er geen goede veiligheidsprocedures zij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826A-FD32-4103-9B69-7B362A88EBD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kstvak 4"/>
          <p:cNvSpPr/>
          <p:nvPr/>
        </p:nvSpPr>
        <p:spPr>
          <a:xfrm>
            <a:off x="571680" y="417600"/>
            <a:ext cx="857232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T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 nieuwe machines, projecten of voorafgaand aan werkvergunning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ok bij nieuwbouw, verbouw of inzetten van stagiairs, uitzendkrachten en jong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A-karwei opsplitsen in taken en die weer in taakstapp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er taakstap de risico’s en de noodzakelijke (extra) beheersmaatregelen vast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 nodig maatregelen aanpassen/nieuwe TRA uitvoeren al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ndities zijn veranderd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et werkplan niet meer uitvoerbaar is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installatie niet meer drukvrij of spanningsvrij is  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 juiste middelen of gereedschappen niet beschikbaar zij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73E8-2DFD-4CBE-9D63-D009D06970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0" y="5929200"/>
            <a:ext cx="714240" cy="495360"/>
          </a:xfrm>
          <a:prstGeom prst="rect">
            <a:avLst/>
          </a:prstGeom>
          <a:ln w="0">
            <a:noFill/>
          </a:ln>
        </p:spPr>
      </p:pic>
      <p:sp>
        <p:nvSpPr>
          <p:cNvPr id="631" name="Tekstvak 4"/>
          <p:cNvSpPr/>
          <p:nvPr/>
        </p:nvSpPr>
        <p:spPr>
          <a:xfrm>
            <a:off x="571680" y="511200"/>
            <a:ext cx="85723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uit te voeren risicocheck door de uitvoerende direct voor aanvang van zijn werkzaamheden bij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nieuwe taa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erandering van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en ook bij routinematige werkzaamhed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oel is dat werk zo nodig wordt gestopt en eerst de beheersmaatregelen worden getroff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middelen die worden gebruik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aandachtspuntenkaa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werkcheckc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stop-check-go card …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LMR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9743-2D4F-4E83-A1F0-680C5FAA296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Rechthoek 7"/>
          <p:cNvSpPr/>
          <p:nvPr/>
        </p:nvSpPr>
        <p:spPr>
          <a:xfrm>
            <a:off x="3571920" y="100008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of werkcheckcard gebruiken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7" descr="Scannen0001"/>
          <p:cNvPicPr/>
          <p:nvPr/>
        </p:nvPicPr>
        <p:blipFill>
          <a:blip r:embed="rId2"/>
          <a:srcRect l="3501" t="1212" r="19563" b="15335"/>
          <a:stretch/>
        </p:blipFill>
        <p:spPr>
          <a:xfrm>
            <a:off x="857160" y="107172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Scannen0002"/>
          <p:cNvPicPr/>
          <p:nvPr/>
        </p:nvPicPr>
        <p:blipFill>
          <a:blip r:embed="rId3"/>
          <a:srcRect l="0" t="15349" r="62584" b="6527"/>
          <a:stretch/>
        </p:blipFill>
        <p:spPr>
          <a:xfrm rot="983400">
            <a:off x="6754680" y="2332080"/>
            <a:ext cx="1600200" cy="2463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Scannen0003"/>
          <p:cNvPicPr/>
          <p:nvPr/>
        </p:nvPicPr>
        <p:blipFill>
          <a:blip r:embed="rId4"/>
          <a:srcRect l="0" t="5832" r="0" b="21877"/>
          <a:stretch/>
        </p:blipFill>
        <p:spPr>
          <a:xfrm>
            <a:off x="3286080" y="2500200"/>
            <a:ext cx="2779920" cy="3543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2" descr="Scannen0005"/>
          <p:cNvPicPr/>
          <p:nvPr/>
        </p:nvPicPr>
        <p:blipFill>
          <a:blip r:embed="rId5"/>
          <a:srcRect l="0" t="0" r="4502" b="0"/>
          <a:stretch/>
        </p:blipFill>
        <p:spPr>
          <a:xfrm rot="17194200">
            <a:off x="6323760" y="2753280"/>
            <a:ext cx="250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956C-E1F7-4E66-8A5F-334E556AD99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6 Incidenten registre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1" name="Tekstvak 6"/>
          <p:cNvSpPr/>
          <p:nvPr/>
        </p:nvSpPr>
        <p:spPr>
          <a:xfrm>
            <a:off x="609480" y="137160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 registreren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ciden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na-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situa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handel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kstvak 7"/>
          <p:cNvSpPr/>
          <p:nvPr/>
        </p:nvSpPr>
        <p:spPr>
          <a:xfrm>
            <a:off x="571680" y="4000680"/>
            <a:ext cx="70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arom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gevens vastleggen voor de overheid en als basis voor bedrijfsbeleid om ervan te kunnen l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F0BC-189C-4958-83D7-C7B5BC4A878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7 Ongevallenonderzoe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5" name="Tekstvak 7"/>
          <p:cNvSpPr/>
          <p:nvPr/>
        </p:nvSpPr>
        <p:spPr>
          <a:xfrm>
            <a:off x="571680" y="9748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aststellen en wegnemen van de oorzaken van een ongeval voorkomt herha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kstvak 8"/>
          <p:cNvSpPr/>
          <p:nvPr/>
        </p:nvSpPr>
        <p:spPr>
          <a:xfrm>
            <a:off x="2786040" y="2049480"/>
            <a:ext cx="2624040" cy="2598840"/>
          </a:xfrm>
          <a:prstGeom prst="rect">
            <a:avLst/>
          </a:prstGeom>
          <a:solidFill>
            <a:srgbClr val="60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derzoek 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at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s.m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to’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standig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kstvak 10"/>
          <p:cNvSpPr/>
          <p:nvPr/>
        </p:nvSpPr>
        <p:spPr>
          <a:xfrm>
            <a:off x="1357200" y="5072040"/>
            <a:ext cx="23576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alyseren en combine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kstvak 11"/>
          <p:cNvSpPr/>
          <p:nvPr/>
        </p:nvSpPr>
        <p:spPr>
          <a:xfrm>
            <a:off x="785880" y="3714840"/>
            <a:ext cx="1714320" cy="94716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uigen ho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9" name="Rechte verbindingslijn met pijl 13"/>
          <p:cNvCxnSpPr>
            <a:endCxn id="647" idx="0"/>
          </p:cNvCxnSpPr>
          <p:nvPr/>
        </p:nvCxnSpPr>
        <p:spPr>
          <a:xfrm>
            <a:off x="1787400" y="4714920"/>
            <a:ext cx="750240" cy="35784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0" name="Rechte verbindingslijn met pijl 15"/>
          <p:cNvCxnSpPr/>
          <p:nvPr/>
        </p:nvCxnSpPr>
        <p:spPr>
          <a:xfrm flipH="1">
            <a:off x="2714400" y="4714920"/>
            <a:ext cx="1072080" cy="28656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1" name="Rechte verbindingslijn met pijl 18"/>
          <p:cNvCxnSpPr>
            <a:stCxn id="647" idx="3"/>
            <a:endCxn id="652" idx="1"/>
          </p:cNvCxnSpPr>
          <p:nvPr/>
        </p:nvCxnSpPr>
        <p:spPr>
          <a:xfrm flipV="1">
            <a:off x="3714840" y="4990320"/>
            <a:ext cx="1838880" cy="5547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3" name="Tekstvak 21"/>
          <p:cNvSpPr/>
          <p:nvPr/>
        </p:nvSpPr>
        <p:spPr>
          <a:xfrm>
            <a:off x="609480" y="2362320"/>
            <a:ext cx="20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onderzoek-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pla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kstvak 22"/>
          <p:cNvSpPr/>
          <p:nvPr/>
        </p:nvSpPr>
        <p:spPr>
          <a:xfrm>
            <a:off x="5572080" y="4071960"/>
            <a:ext cx="3038400" cy="1800360"/>
          </a:xfrm>
          <a:prstGeom prst="rect">
            <a:avLst/>
          </a:prstGeom>
          <a:solidFill>
            <a:srgbClr val="c4c4c4"/>
          </a:solidFill>
          <a:ln w="38160">
            <a:solidFill>
              <a:srgbClr val="000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it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bevel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BB8A-9FE1-4077-9B25-75499A791CE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6" name="Tekstvak 4"/>
          <p:cNvSpPr/>
          <p:nvPr/>
        </p:nvSpPr>
        <p:spPr>
          <a:xfrm>
            <a:off x="642960" y="164304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rocedures bekend stel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rganiseren van de noodhul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D9AF-2E96-4386-84B4-E8586E7CED3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2)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59" name="Groep 5" descr=""/>
          <p:cNvPicPr/>
          <p:nvPr/>
        </p:nvPicPr>
        <p:blipFill>
          <a:blip r:embed="rId2"/>
          <a:stretch/>
        </p:blipFill>
        <p:spPr>
          <a:xfrm>
            <a:off x="963720" y="1352520"/>
            <a:ext cx="3705120" cy="4037040"/>
          </a:xfrm>
          <a:prstGeom prst="rect">
            <a:avLst/>
          </a:prstGeom>
          <a:ln w="0">
            <a:noFill/>
          </a:ln>
        </p:spPr>
      </p:pic>
      <p:sp>
        <p:nvSpPr>
          <p:cNvPr id="660" name="Tekstvak 8"/>
          <p:cNvSpPr/>
          <p:nvPr/>
        </p:nvSpPr>
        <p:spPr>
          <a:xfrm>
            <a:off x="5018040" y="223344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ijving van maatregelen en voorzieningen om in noodsituaties effectief te kunnen optre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kstvak 9"/>
          <p:cNvSpPr/>
          <p:nvPr/>
        </p:nvSpPr>
        <p:spPr>
          <a:xfrm>
            <a:off x="4929120" y="4929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t noodplan staan ook de noodproced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 Managementsysteem en certifica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99680" y="135684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n van veiligheid met een syste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A, wat is het, hoe werkt h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systeem: risicobeheersing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ids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&amp;G-actie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en VCA checklist: TRA en LM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incidenten registr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ongevallenonderzo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oorbereiding 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67D4-344D-4DBB-BD13-EC4A2F6F43A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E92B-10E2-4888-AB8D-93DADA2FD91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00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4" name="Tekstvak 4"/>
          <p:cNvSpPr/>
          <p:nvPr/>
        </p:nvSpPr>
        <p:spPr>
          <a:xfrm>
            <a:off x="928800" y="1285920"/>
            <a:ext cx="5214960" cy="70344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noodprocedur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kstvak 5"/>
          <p:cNvSpPr/>
          <p:nvPr/>
        </p:nvSpPr>
        <p:spPr>
          <a:xfrm>
            <a:off x="609480" y="2895480"/>
            <a:ext cx="24768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mel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ngeval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noodsitua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alarmeren van hulpdiens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kstvak 6"/>
          <p:cNvSpPr/>
          <p:nvPr/>
        </p:nvSpPr>
        <p:spPr>
          <a:xfrm>
            <a:off x="3195720" y="2895480"/>
            <a:ext cx="28764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ulpverlen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EHB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orzaak /dreiging wegnem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kstvak 7"/>
          <p:cNvSpPr/>
          <p:nvPr/>
        </p:nvSpPr>
        <p:spPr>
          <a:xfrm>
            <a:off x="6215040" y="2895480"/>
            <a:ext cx="2548080" cy="314100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plattegron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waarschuw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verzamel-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 plaats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efeningen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(min.1x per jaar, met derden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hte verbindingslijn 9"/>
          <p:cNvSpPr/>
          <p:nvPr/>
        </p:nvSpPr>
        <p:spPr>
          <a:xfrm flipV="1">
            <a:off x="1828800" y="1981080"/>
            <a:ext cx="1108080" cy="85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hte verbindingslijn 12"/>
          <p:cNvSpPr/>
          <p:nvPr/>
        </p:nvSpPr>
        <p:spPr>
          <a:xfrm>
            <a:off x="3536280" y="1996920"/>
            <a:ext cx="19080" cy="136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hte verbindingslijn 14"/>
          <p:cNvSpPr/>
          <p:nvPr/>
        </p:nvSpPr>
        <p:spPr>
          <a:xfrm>
            <a:off x="5429160" y="1928880"/>
            <a:ext cx="1608120" cy="95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kstvak 16"/>
          <p:cNvSpPr/>
          <p:nvPr/>
        </p:nvSpPr>
        <p:spPr>
          <a:xfrm>
            <a:off x="3286080" y="2286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itreiken 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007A-F1A3-4E03-AF20-47851296635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Tekstvak 5"/>
          <p:cNvSpPr/>
          <p:nvPr/>
        </p:nvSpPr>
        <p:spPr>
          <a:xfrm>
            <a:off x="609480" y="928800"/>
            <a:ext cx="82486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in het noodplan staat ook verdere info m.b.t. de noodorganisati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ikbare hulpbro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voorzieningen en menskracht in ei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e en exter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V (bedrijfshulpverlen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 verplichte organis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EHBO, bestrijden beginnende brand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en oefenen van optreden volgens het draaib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eel voorberei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 personeel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6" name="Afbeelding 7" descr="back_bhv.jpg"/>
          <p:cNvPicPr/>
          <p:nvPr/>
        </p:nvPicPr>
        <p:blipFill>
          <a:blip r:embed="rId2"/>
          <a:srcRect l="25877" t="10844" r="6838" b="34966"/>
          <a:stretch/>
        </p:blipFill>
        <p:spPr>
          <a:xfrm>
            <a:off x="7072200" y="78588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4AF2-7686-414B-A459-BCE8B217F6C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kstvak 3"/>
          <p:cNvSpPr/>
          <p:nvPr/>
        </p:nvSpPr>
        <p:spPr>
          <a:xfrm>
            <a:off x="571680" y="1373040"/>
            <a:ext cx="82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s je zaken regelt, wil je graag dat wat je georganiseerd hebt, in stand blijft en dat je niet de volgende dag opnieuw met hetzelfde moet begi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an kom je niet vooruit!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en managementsysteem is een hulpmiddel om wel vooruit te kom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steeds voldoen aan wettelijke eisen, bijvoorbeeld Arbow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ook afspraken nakomen die zijn gemaakt, zoals certificeringen, c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een sleutelrol, maar dan moet er wel sprake zijn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duidelijk bele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it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voorwaarden als tijd, geld e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0F4E-461E-4CCD-8B2C-FA628BFCD0F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00040" y="1077480"/>
            <a:ext cx="850104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M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cklist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nne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lijst met beheersingseisen  om risico’s te voorkomen als aannemers werk uitvoeren in situaties met verhoogd risico, zoals in de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certificaat is een keurmerk dat aantoont dat het bedrijf de VCA-regels toep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hecklist VCA 2008/05 kent 3 niveaus van certificer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4929-77FD-42A1-91BD-91E51305606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71320" y="1077480"/>
            <a:ext cx="84294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asis van de beheersing is voldoende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CA vereis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kopleid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opleiding VCA basisveiligheid voor uitvoere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VOL voor operationeel leidinggeve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 voor hoogrisicotaken volgens de SSVV opleidingengi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leidingen en medische gegevens kunnen worden aangetoond met een veiligheidspaspoort 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nal safety logboek (PS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1E09-3BC1-4580-A8A8-36164D0F398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-7668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61760" y="1066320"/>
            <a:ext cx="7799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 van beleid is te zorgen voor planning van de preventie-uit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aat om een goede voorbereiding en leren van je ervarin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wordt weergegeven met de Deming-cirk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69C2-8638-432E-B752-A7333AAFEA5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ebogen pijl 4"/>
          <p:cNvGrpSpPr/>
          <p:nvPr/>
        </p:nvGrpSpPr>
        <p:grpSpPr>
          <a:xfrm>
            <a:off x="2651040" y="3749760"/>
            <a:ext cx="1049400" cy="895320"/>
            <a:chOff x="2651040" y="3749760"/>
            <a:chExt cx="1049400" cy="895320"/>
          </a:xfrm>
        </p:grpSpPr>
        <p:pic>
          <p:nvPicPr>
            <p:cNvPr id="586" name="Gebogen pijl 4" descr=""/>
            <p:cNvPicPr/>
            <p:nvPr/>
          </p:nvPicPr>
          <p:blipFill>
            <a:blip r:embed="rId2"/>
            <a:stretch/>
          </p:blipFill>
          <p:spPr>
            <a:xfrm>
              <a:off x="2651040" y="3749760"/>
              <a:ext cx="10494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14760" y="378612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ebogen pijl 5"/>
          <p:cNvGrpSpPr/>
          <p:nvPr/>
        </p:nvGrpSpPr>
        <p:grpSpPr>
          <a:xfrm>
            <a:off x="2541600" y="5273640"/>
            <a:ext cx="903240" cy="1041480"/>
            <a:chOff x="2541600" y="5273640"/>
            <a:chExt cx="903240" cy="1041480"/>
          </a:xfrm>
        </p:grpSpPr>
        <p:pic>
          <p:nvPicPr>
            <p:cNvPr id="589" name="Gebogen pijl 5" descr=""/>
            <p:cNvPicPr/>
            <p:nvPr/>
          </p:nvPicPr>
          <p:blipFill>
            <a:blip r:embed="rId3"/>
            <a:stretch/>
          </p:blipFill>
          <p:spPr>
            <a:xfrm>
              <a:off x="2541600" y="5273640"/>
              <a:ext cx="9032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16200000">
              <a:off x="2530440" y="5383440"/>
              <a:ext cx="9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Gebogen pijl 6"/>
          <p:cNvGrpSpPr/>
          <p:nvPr/>
        </p:nvGrpSpPr>
        <p:grpSpPr>
          <a:xfrm>
            <a:off x="4584600" y="5394240"/>
            <a:ext cx="1041480" cy="897120"/>
            <a:chOff x="4584600" y="5394240"/>
            <a:chExt cx="1041480" cy="897120"/>
          </a:xfrm>
        </p:grpSpPr>
        <p:pic>
          <p:nvPicPr>
            <p:cNvPr id="592" name="Gebogen pijl 6" descr=""/>
            <p:cNvPicPr/>
            <p:nvPr/>
          </p:nvPicPr>
          <p:blipFill>
            <a:blip r:embed="rId4"/>
            <a:stretch/>
          </p:blipFill>
          <p:spPr>
            <a:xfrm>
              <a:off x="4584600" y="5394240"/>
              <a:ext cx="10414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 rot="10800000">
              <a:off x="4643280" y="5428800"/>
              <a:ext cx="928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ebogen pijl 7"/>
          <p:cNvGrpSpPr/>
          <p:nvPr/>
        </p:nvGrpSpPr>
        <p:grpSpPr>
          <a:xfrm>
            <a:off x="4724280" y="3822840"/>
            <a:ext cx="901800" cy="1035000"/>
            <a:chOff x="4724280" y="3822840"/>
            <a:chExt cx="901800" cy="1035000"/>
          </a:xfrm>
        </p:grpSpPr>
        <p:pic>
          <p:nvPicPr>
            <p:cNvPr id="595" name="Gebogen pijl 7" descr=""/>
            <p:cNvPicPr/>
            <p:nvPr/>
          </p:nvPicPr>
          <p:blipFill>
            <a:blip r:embed="rId5"/>
            <a:stretch/>
          </p:blipFill>
          <p:spPr>
            <a:xfrm>
              <a:off x="4724280" y="3822840"/>
              <a:ext cx="9018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 rot="5400000">
              <a:off x="4714560" y="392904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Tekstvak 9"/>
          <p:cNvGrpSpPr/>
          <p:nvPr/>
        </p:nvGrpSpPr>
        <p:grpSpPr>
          <a:xfrm>
            <a:off x="3584520" y="3621240"/>
            <a:ext cx="1182600" cy="688680"/>
            <a:chOff x="3584520" y="3621240"/>
            <a:chExt cx="1182600" cy="688680"/>
          </a:xfrm>
        </p:grpSpPr>
        <p:pic>
          <p:nvPicPr>
            <p:cNvPr id="598" name="Tekstvak 9" descr=""/>
            <p:cNvPicPr/>
            <p:nvPr/>
          </p:nvPicPr>
          <p:blipFill>
            <a:blip r:embed="rId6"/>
            <a:stretch/>
          </p:blipFill>
          <p:spPr>
            <a:xfrm>
              <a:off x="3584520" y="3621240"/>
              <a:ext cx="11826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3643200" y="371484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Tekstvak 10"/>
          <p:cNvGrpSpPr/>
          <p:nvPr/>
        </p:nvGrpSpPr>
        <p:grpSpPr>
          <a:xfrm>
            <a:off x="4511520" y="4694400"/>
            <a:ext cx="1670040" cy="688680"/>
            <a:chOff x="4511520" y="4694400"/>
            <a:chExt cx="1670040" cy="688680"/>
          </a:xfrm>
        </p:grpSpPr>
        <p:pic>
          <p:nvPicPr>
            <p:cNvPr id="601" name="Tekstvak 10" descr=""/>
            <p:cNvPicPr/>
            <p:nvPr/>
          </p:nvPicPr>
          <p:blipFill>
            <a:blip r:embed="rId7"/>
            <a:stretch/>
          </p:blipFill>
          <p:spPr>
            <a:xfrm>
              <a:off x="4511520" y="4694400"/>
              <a:ext cx="16700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572000" y="478620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eck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Tekstvak 11"/>
          <p:cNvGrpSpPr/>
          <p:nvPr/>
        </p:nvGrpSpPr>
        <p:grpSpPr>
          <a:xfrm>
            <a:off x="1798560" y="4621320"/>
            <a:ext cx="1670040" cy="689040"/>
            <a:chOff x="1798560" y="4621320"/>
            <a:chExt cx="1670040" cy="689040"/>
          </a:xfrm>
        </p:grpSpPr>
        <p:pic>
          <p:nvPicPr>
            <p:cNvPr id="604" name="Tekstvak 11" descr=""/>
            <p:cNvPicPr/>
            <p:nvPr/>
          </p:nvPicPr>
          <p:blipFill>
            <a:blip r:embed="rId8"/>
            <a:stretch/>
          </p:blipFill>
          <p:spPr>
            <a:xfrm>
              <a:off x="1798560" y="4621320"/>
              <a:ext cx="1670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857240" y="471492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6" name="Tekstvak 13"/>
          <p:cNvGrpSpPr/>
          <p:nvPr/>
        </p:nvGrpSpPr>
        <p:grpSpPr>
          <a:xfrm>
            <a:off x="3438360" y="5767560"/>
            <a:ext cx="1189080" cy="688680"/>
            <a:chOff x="3438360" y="5767560"/>
            <a:chExt cx="1189080" cy="688680"/>
          </a:xfrm>
        </p:grpSpPr>
        <p:pic>
          <p:nvPicPr>
            <p:cNvPr id="607" name="Tekstvak 13" descr=""/>
            <p:cNvPicPr/>
            <p:nvPr/>
          </p:nvPicPr>
          <p:blipFill>
            <a:blip r:embed="rId9"/>
            <a:stretch/>
          </p:blipFill>
          <p:spPr>
            <a:xfrm>
              <a:off x="3438360" y="5767560"/>
              <a:ext cx="11890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3500280" y="585792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act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71680" y="990360"/>
            <a:ext cx="857232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systematische beheersing wordt veelal bedrijfsbreed aangepak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managementsysteem bevat de beschrijving van de uitgangspunten, regels, procedures en documenten die worden ingezet om de doelstellingen van het bedrijf te real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kwijls is er een KAM-systeem (Kwaliteit Arbo Milieu)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wettelijk verplichte RIE is daarin opgenomen: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VCA eis 2.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ze bestaat ui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iceren van de gevare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ntaris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42AE-61D9-49D6-9D1E-4AC2BE2A25E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1BDF-3D9C-4845-8669-37CB86F5B2E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kstvak 4"/>
          <p:cNvSpPr/>
          <p:nvPr/>
        </p:nvSpPr>
        <p:spPr>
          <a:xfrm>
            <a:off x="1357200" y="1246320"/>
            <a:ext cx="6643800" cy="329328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nkele van de 47 VCA checklist-eisen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&amp;G-actie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T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M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incidentregistrati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ngevallenonderzoe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oorbereiding op noodsitua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9:30Z</dcterms:modified>
  <cp:revision>244</cp:revision>
  <dc:subject/>
  <dc:title>Taak en positie VFP</dc:title>
</cp:coreProperties>
</file>