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11049000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47640" y="738000"/>
            <a:ext cx="5556240" cy="364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5992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CF7AB53-9E2C-40C8-AEFC-45CA7E5B82C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8128626-E646-4727-B54F-86DA9E1C9E9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74E292C-E271-4C5B-9E8B-8A3F5EF192D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083AFA1-0FA7-4BF0-8560-E4E46514F84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91FCC51-5767-466B-AB74-137F28EDB23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BA7C99E-C436-489C-B7A1-03CAD9B5D96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D67E7A7-6644-4C0E-8FD4-2B4A16FF236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A5C6998-DFAC-46D9-8B28-2D585966FA5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48574B2-8284-4403-A11F-9FFCF2289C3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2C78D28-211B-4B13-A1F5-0AD258C72DA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D91432D-8A69-4B7C-91C6-461465EDFFE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7DCB5FD-980E-42CD-B136-FA99EB5CEF6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1BFA5DF-CAE4-4E87-A3DA-10C05752B36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EEC8B50-8C85-4AA9-BEBB-016396DE1A2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53AF0C4-A66A-4D79-98C6-65D988D6419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8AD4F79-6E3D-46CE-86EE-79CBE34DF7E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D8326D5-7844-401E-80B8-4A14FA57BC0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ED713D2-1BAC-4118-9148-1E6AC265294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5243CFC-486C-48FB-9D21-7C1D5E06413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C5D6EDB-F8A8-4E04-8733-6329BF6D303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706015-4533-43CA-A604-C2E4E287052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2513B63-BE73-46D8-B1CF-56208A38B8E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EA7920D-6363-4473-84C7-5EF6622DE59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1291323-6695-4C35-8FFC-797FCC3C856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C7891DE-AF19-45CE-AEF9-78F8D765903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9F706C8-96B9-4571-85F9-6579A1D5AA3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E56F13F-2E4B-445B-AF95-F62271E2F15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9C206AC-E63D-43A1-8503-F4DB160877F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640DB6-9900-4F78-9DB9-2CBDC310685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A4B6535-FD0F-45C2-91CD-A3BEFD00BD0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8C77812-6716-46C8-A59B-F49B429985D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405A697-B7C1-44CC-AE58-C8B07FD5E2C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87BA8ED-1222-45D5-B0CE-AF376E6682C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03E50A-D24C-4B24-83B8-FBF7A1E0763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C502D23-78B2-4D3F-ACFB-A158C5B5D2F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5446F52-C42D-4C35-A5B3-A288B6CA63D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1C1B66A-18C4-49A9-9767-37C3B1C203F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809159F-57C6-4CC1-AE5B-ED6EF391EB1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0CB8E92-1837-4389-86DC-C9ACB7DC578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669A2A7-0287-47EF-9F5D-530228193C0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D019CB6-6D4D-4357-9617-DFB62F85B28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6BCE41A-AD92-4504-B393-62DE3B42FD6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9663D50-8A25-4141-A584-12EE723CF29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0AA02E5-1A25-4CC5-AF9A-4120B71E11F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DEA0E01-E68B-431F-BCB8-CDE011CFA66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C0F3-D5DD-4173-9A7C-F428FCC2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EF67-38FB-4E2A-B3D0-9415A24C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FC84-AA02-4DE5-A646-92FCE87B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0428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7984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872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0428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7984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8FF2-1FB3-4033-A186-F06EA48A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9DCB-54A4-4B6D-875E-C51A3E20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E709-D162-4AB3-818C-3C20A226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141D-66C5-4FF7-83CF-7FC1214A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2145-04CD-45A9-82AA-4A28C0D9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8720" y="644400"/>
            <a:ext cx="939168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0061-E1B3-4F1C-9095-AC3396DD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5849-61CF-4FB6-B9AB-DAEA391B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045F-1596-4B5B-8F3D-5BAEF3F1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AE9B-9434-4ED2-AA5C-2CF29066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872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74600" y="6594120"/>
            <a:ext cx="3498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1856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EB2F36B-1DB2-451F-9741-3D7D37BA3EA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BA78A28-A4AD-48D5-8B3B-FFEB4453F2D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4640" y="66492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57440" y="202212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and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chinaal 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lassen en br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42A256B-0A50-420D-B058-7644E297AA5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98400" y="1473120"/>
            <a:ext cx="9657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E2DDAB0-6920-47ED-9B78-EA45983EFDE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jaarlijks worden gekeu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beschadi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A5B6C1F-C831-4BEC-BAC0-B3852EC4685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slijpmachines, doorslijpschijven en afbraam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slijpschijve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fabrik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um toelaatbaar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 bindmid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rrelgro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uc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50BE7C6-2EA8-42F2-8848-72A1E964BFB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t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16120" y="1752480"/>
            <a:ext cx="591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D7A1335-A2E0-4772-96FE-DBADB1E75E9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langrijkste risico’s bij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een 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vliegende deelt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anrak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uit elkaar spring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 door ontsteking van brandbar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mpen en 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105EE32-554F-4C97-B02B-EAC943F6663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groepen van schijv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jp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braam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E4E47AB-A8B5-4A5A-80CD-5148773BAC2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3157560" y="2682720"/>
          <a:ext cx="47512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7560" y="2682720"/>
                    <a:ext cx="47512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33562C8-3E70-45D8-950E-F5BD8AAA7D3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en met de hand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moet rekening gehoud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ype hand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ermog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wenste 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materiaal dat men gaat slij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esultaat dat men wil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te en de vorm van het materi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and waaronder men wer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rvaring en het vakmansch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1C03044-7F35-4E70-989B-3A7737D6F3B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t op samengeperste lu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s voor het werk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neumatisch handgereedscha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voor voldoende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zachte, leren handsch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rust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CCDF268-0C3C-4E6E-B652-0BA7486D3CD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 door binnendringen s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troffen worden door weggeslagen gereedschap of materiaal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otstelling giftige stoffen bij gevelrein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5690353-0292-4E49-BFA9-76F437B36BB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440" y="2091960"/>
            <a:ext cx="969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s soorten gereedsch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envoudig)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en onder hoge dr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 opgestelde gereedschaps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sappa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5CF7B09-CC79-4EBD-922C-32F8D61B29F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werkdruk &gt; 100 B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nimaal 18 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uitpistool met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eiligd tegen ongewild inscha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g niet in “AAN” stand vergrendeld kunn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mp voorzien van nood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quate opleiding verp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541C4A8-2664-4261-892C-FFA9185C263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uiten op asbesthoudend materiaal verb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werken met chemicaliën zijn persoonlijke beschermingsmiddelen verpl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213E161-68ED-4560-8561-E8047A977C6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aansluitende kl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lange haren niet bij de bewegende delen kunnen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geen handschoenen en 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m het werkstuk op een werk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een veiligheidsbril met zijkleppen en evt. adem- en 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6687796-28F8-4069-BC8C-DE7573A0D90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laten afleiden tijdens de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m het gereedschap niet met de hand af, maar laat het uitdraa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- en uit 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 gereedschap nooit aan het snoer of de lucht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onderhoud van 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BFBE234-1390-427D-A3AC-2B91C1C1E4D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s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 behandelen de volg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ne regels voor deze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lijkse ke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bruiker moet een goede instructi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 opgest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CA5DB74-1E45-4C6B-95E6-EC0B8D57F1B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44640" y="14436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8720" y="1372680"/>
            <a:ext cx="9391680" cy="50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kneld raken van armen of benen in de opspanto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 abuis opstarten van d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pen van 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ademen van hout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149F003-606F-47CF-9970-56E222A069D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8720" y="1572840"/>
            <a:ext cx="9391680" cy="48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is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goede beschuttingskap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spouwmessupport hebben dat bij het zaagblad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instelbare en goed uitgevoerde hulpgeleider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én of meer aansluitingen voor de stofaanzu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wezigheid van een duwhou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 hoog mogelijk instellen van het zaag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F042315-A74C-46DB-BD91-A29D4C733A5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C:\Documents and Settings\Inge Nagle\Mijn documenten\Mijn afbeeldingen\cirkelzaag.bmp"/>
          <p:cNvPicPr/>
          <p:nvPr/>
        </p:nvPicPr>
        <p:blipFill>
          <a:blip r:embed="rId1"/>
          <a:stretch/>
        </p:blipFill>
        <p:spPr>
          <a:xfrm>
            <a:off x="762120" y="685800"/>
            <a:ext cx="95248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AA6A747-5A4F-4A3A-9C10-755C32892A4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230480" y="2674800"/>
            <a:ext cx="8588160" cy="368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merk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de bouwcirkelzaag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dt de aanwezigheid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lspanningsschakela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EA603C5-9563-4E7D-984E-91D56F8EAA3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“Happen” in het niet vastgezette werkst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eken van de b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gvegen van het boorsel met de 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 gesloten aandrij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stellen van de V-snaar als de machine nog niet stilst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en van koel- en snijol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5F3BD5E-D4BA-4324-9CDC-930E5A750A8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len met handgereed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p worden veroorzaakt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Slecht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in gereedschap zelf onderhouden, ander gereedschap laten repareren of vernie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d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reedschap gebruiken waar het voor bedoel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5219CE4-893E-4D08-B5CB-3AD646534D1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or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7238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5639439-AFD5-49D6-A6A8-4473410EC9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44640" y="44460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720" y="1292040"/>
            <a:ext cx="9391680" cy="54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hoog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adiging van de 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linters in het 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beschad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monteren door deskundig person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afschermen van de zijkant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tand tussen leunspaan en slijpsteen mag niet meer dan 3 mm bed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unspaan mag niet U-vormig zijn uitgesl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66B0930-E9F6-4483-88FF-E3971079B08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104840" y="1444680"/>
            <a:ext cx="4000680" cy="2662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5257800" y="4140360"/>
            <a:ext cx="434340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D12283-FCA2-4C08-A8A2-466E15C8081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sch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plaatselijk verhitten met behulp van elektrische vlamb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geen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verhitten met behulp van een gasvlam, versterkt door extra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313B1A3-D993-4F7D-BA37-3DCC9692B49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schappelijke geva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- en explosie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baar materiaal dat achter blijft op de werkp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sen aan tanks en le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591D980-A84C-4BF2-B56B-5B79917DCD9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men van preventieve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randblusser en brandw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lasb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ende kl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zuiging en/of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6AA6379-5928-4BF5-828A-8534A43F405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39680" y="1994040"/>
            <a:ext cx="3075120" cy="2044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6400800" y="1828800"/>
            <a:ext cx="3687840" cy="2095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2743200" y="4419720"/>
            <a:ext cx="31100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071B7B0-3B49-42D8-95AF-92DB6791C49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919160" y="1968480"/>
            <a:ext cx="69328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FDCF28A-688F-41DD-A6A8-87951E4715C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iftige gassen en dam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raling (gevolg = laso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goede beschermende kl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 een laskap of lashel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helper moet ook een lasbril dr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 werkstukklem, de elektrode, lastang niet onder de 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8B4C1C0-7B14-4E9A-BF80-4EEADC74196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C:\Documents and Settings\Inge Nagle\Mijn documenten\Mijn afbeeldingen\lassen.bmp"/>
          <p:cNvPicPr/>
          <p:nvPr/>
        </p:nvPicPr>
        <p:blipFill>
          <a:blip r:embed="rId1"/>
          <a:stretch/>
        </p:blipFill>
        <p:spPr>
          <a:xfrm>
            <a:off x="1143000" y="587520"/>
            <a:ext cx="876312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593758C-EB09-4A25-BD76-91B4ED0EBBB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8720" y="194760"/>
            <a:ext cx="939168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8720" y="1492200"/>
            <a:ext cx="9391680" cy="51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schieten, vallen of strui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nijden, knellen of pl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worden door wegschietende 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boord of doorstok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ven of sch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schade door 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802905-1280-4245-B893-D4C18D2E256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Documents and Settings\Inge Nagle\Mijn documenten\Mijn afbeeldingen\afzuiging.bmp"/>
          <p:cNvPicPr/>
          <p:nvPr/>
        </p:nvPicPr>
        <p:blipFill>
          <a:blip r:embed="rId1"/>
          <a:stretch/>
        </p:blipFill>
        <p:spPr>
          <a:xfrm>
            <a:off x="1944720" y="966960"/>
            <a:ext cx="71578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319E24D-4377-4555-BA6A-44E38B592D7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autogeen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acetyleen en prop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zuivere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dat explosiegrenzen niet worden bere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a propaanflessen niet op in kelders en pu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en zuurstof als werklucht of om te venti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kom zuurstof lek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387F9C6-D52F-4CCC-BA07-36431DDCF46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:\Documents and Settings\Inge Nagle\Mijn documenten\Mijn afbeeldingen\gasfles.bmp"/>
          <p:cNvPicPr/>
          <p:nvPr/>
        </p:nvPicPr>
        <p:blipFill>
          <a:blip r:embed="rId1"/>
          <a:stretch/>
        </p:blipFill>
        <p:spPr>
          <a:xfrm>
            <a:off x="2795760" y="676440"/>
            <a:ext cx="54576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E30FA5D-AF4F-48DD-8083-2CF3607F986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C:\Documents and Settings\Inge Nagle\Mijn documenten\Mijn afbeeldingen\gasfles1.bmp"/>
          <p:cNvPicPr/>
          <p:nvPr/>
        </p:nvPicPr>
        <p:blipFill>
          <a:blip r:embed="rId1"/>
          <a:stretch/>
        </p:blipFill>
        <p:spPr>
          <a:xfrm>
            <a:off x="1905120" y="304920"/>
            <a:ext cx="722304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6AFF2FC-F26A-48E1-83FB-37FBE019F29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62080" y="604800"/>
            <a:ext cx="1052964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B81E779-AEDE-4572-9F8B-92B71D7DCA1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3398760" y="274680"/>
          <a:ext cx="415296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760" y="274680"/>
                    <a:ext cx="415296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C:\Documents and Settings\Inge Nagle\Mijn documenten\Mijn afbeeldingen\hamer.bmp"/>
          <p:cNvPicPr/>
          <p:nvPr/>
        </p:nvPicPr>
        <p:blipFill>
          <a:blip r:embed="rId3"/>
          <a:stretch/>
        </p:blipFill>
        <p:spPr>
          <a:xfrm>
            <a:off x="685800" y="179280"/>
            <a:ext cx="982980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2BE2067-14D7-4609-AAF2-87861719F0F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44640" y="693360"/>
            <a:ext cx="9391680" cy="9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2800" y="214128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eedschap gaaf en 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mers met gladde, goed geborgde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sleutels die passen en niet verslet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len met hand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oevendraaiers zonder beschadig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tels, doorslagen en centerponsen zonder b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gen met gave en schone 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DB0130D-F769-4795-BF9C-C8E331BFFB7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8720" y="34452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640" y="1522080"/>
            <a:ext cx="9391680" cy="51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lleen gebruiken waarvoor bestem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Moersleutels nooit verleng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Gereedschap passe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Van je af snijden en bi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Kleine werkstukken vast zett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Oppassen voor elektrakab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PBM’s gebrui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8DB233C-356B-4CFA-92C6-BB12ABEDC54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citeit kan op 2 man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aarlijk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ocutie (stroom door het licha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nkoverslag (kortsluiting in of vlakbij het appar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risico’s zijn te verkle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te werken met veilige sp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50 Volt wissel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120 Volt gelijk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D69BAF7-6430-48AF-899E-1ED4629F64C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- of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wo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weg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21:06:26Z</dcterms:created>
  <dc:creator>Hajo Kleijburg</dc:creator>
  <dc:description>Revisie 0</dc:description>
  <dc:language>en-US</dc:language>
  <cp:lastModifiedBy>Hans Mulder</cp:lastModifiedBy>
  <cp:lastPrinted>2000-05-31T17:51:36Z</cp:lastPrinted>
  <dcterms:modified xsi:type="dcterms:W3CDTF">2016-10-03T10:34:37Z</dcterms:modified>
  <cp:revision>27</cp:revision>
  <dc:subject>Les 5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