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6F3-92F6-480D-A7A8-A30814E6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082-05C1-4CAD-8FF4-FE85FEC1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AE0-7300-4C7E-B135-C20BB19C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A03-E61F-42E9-A191-4A22E589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3CF-F657-4FB7-8F01-68C33CF1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1B7-373B-4859-9600-0FDAC9A8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4D13-C562-4544-8C5E-10A582FB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0F1-E86E-41F8-91D8-C5904F65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A89-B431-44A4-8CF8-D9A00D0A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27E-8BC9-4396-A22B-D2EB1CE0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9C1-7014-4049-8E24-8BA65A67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A30-7A63-47F3-BC10-2044BEFA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FD1E-3322-4B19-BF58-7A0D19C0C4E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7845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GjvqgyLyy88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ya-sxVfNm_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cQGIMKORTUo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61360" y="3054240"/>
            <a:ext cx="16761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6760" y="3584520"/>
            <a:ext cx="17128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91200" y="6480"/>
            <a:ext cx="21528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ersterkte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terkte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erkte neus en versterkte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e kleding bij explosiegev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ding wisselen bij verandering van taak/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moet goed passen en is afgestemd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veiligheidsharnassen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veiligheidsharnassen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5320" y="2558160"/>
              <a:ext cx="463680" cy="1000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11840" y="2597040"/>
            <a:ext cx="2425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patten 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ststof of metaalgazen scherm rondom het gehel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 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8760" y="1530360"/>
            <a:ext cx="157176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21680" y="3206880"/>
            <a:ext cx="157320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6160" y="4724280"/>
            <a:ext cx="1341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(autogeen)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,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54640" y="2365200"/>
            <a:ext cx="1785960" cy="16099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54640" y="4505400"/>
            <a:ext cx="17622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(druk)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(druk)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6480"/>
            <a:ext cx="19875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Gerrit Hoff</cp:lastModifiedBy>
  <cp:lastPrinted>2015-10-06T06:41:37Z</cp:lastPrinted>
  <dcterms:modified xsi:type="dcterms:W3CDTF">2015-10-06T14:13:37Z</dcterms:modified>
  <cp:revision>42</cp:revision>
  <dc:subject/>
  <dc:title>Test</dc:title>
</cp:coreProperties>
</file>