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9.jpeg" ContentType="image/jpe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3.wmf" ContentType="image/x-wmf"/>
  <Override PartName="/ppt/media/image1.jpeg" ContentType="image/jpe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8487A-0EDB-493F-8502-0E414A4DBDC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ijdelijke aanduiding voor voettekst 3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AutoCAD Basis Training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Tijdelijke aanduiding voor dianummer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83CE7-A3F9-4A6E-8EE9-09FE2ADAA243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ijdelijke aanduiding voor voettekst 3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AutoCAD Basis Training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Tijdelijke aanduiding voor dianummer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26134-CDFC-4237-8E13-9C0D59327B9D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ijdelijke aanduiding voor voettekst 3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AutoCAD Basis Training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Tijdelijke aanduiding voor dianummer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1C81E-0A72-45F3-BE19-72977466B0B2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5857-4AD8-4AA6-86EA-4F8383D53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8C69-AC62-41C2-A76A-3E283A328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E2B1-6710-4F64-BD9D-56116044C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233B-C21C-4901-9E87-43BC1C734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3A3F8-3BC9-4317-8C93-CEC4F6E8D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F39B1-6D73-4D39-85F8-FEB87B9A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71040-1AB3-4F59-AAC7-CBD28E152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E6E80-077D-4027-AC44-0EF984A88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69C23-8E13-4CF9-A136-404972CEB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DAFAB-5E72-4C07-92A4-3FFD54169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04590-4211-4FD3-A3E4-7A56CEBB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571A-2E34-495F-A04B-3C08F8AFF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843E4-9AD7-4EEA-9843-147452AD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8EF14-2CA8-41C2-86BA-80B5E690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01C9C-2030-49C3-9E97-FE91B4A1A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1E220-B5A1-4350-81B7-2E778E1A4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33757-CFB4-45D4-80F6-CCE734FF5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D8396-0FC4-4933-9D6A-398259776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57AAE-57C4-4D73-84AD-B950EB58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EC952-29EF-4206-B0D9-01920505D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3F5A6-028A-4349-A31F-674D454DD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25C62-9C58-4960-9DDC-CD5D5DBF2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0F27-0DCD-4208-A6DB-31359B6D6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2000E-CE4F-41B2-87EF-D6231B292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25BF3-4497-47AC-93C9-97410913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C4D70-5623-4117-921D-0ABC1167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60716-2FA0-4E80-B6E9-AB92F4A8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64B1C-BF27-4DCF-93FD-F108019E8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C693B-605E-40CD-A301-AAAC57877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0FD11-B753-4E1D-8685-87FB53D8C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4DB9-EEC6-4FB4-918E-14A673E55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56D4-59C9-4C7F-8AEB-13BCF39F2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B4B7-6930-4B97-9A4D-B92F02230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4A3D-C0A3-4094-953E-BD91F70F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5C17-97CD-4295-AD8A-57B74707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E2A3-C5E1-4D85-AEA0-18ADAD60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image" Target="../media/image2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C3539-3F0E-41BB-8BFC-B393F900FD2E}" type="slidenum"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7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6"/>
          <a:stretch/>
        </p:blipFill>
        <p:spPr>
          <a:xfrm>
            <a:off x="771516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7"/>
          <a:stretch/>
        </p:blipFill>
        <p:spPr>
          <a:xfrm>
            <a:off x="533520" y="5867280"/>
            <a:ext cx="838080" cy="542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19A93-23F4-4A1B-B975-F118ADF78435}" type="slidenum"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1039680" cy="1092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7402A-3BF6-4BE5-8B4A-B307CB0D89B4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500040" y="500040"/>
            <a:ext cx="8429760" cy="36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a407"/>
                </a:solidFill>
                <a:latin typeface="Arial"/>
              </a:rPr>
              <a:t>VCA V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fa407"/>
                </a:solidFill>
                <a:latin typeface="Arial"/>
              </a:rPr>
              <a:t>Hoofdstuk 8 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fa407"/>
                </a:solidFill>
                <a:latin typeface="Arial"/>
              </a:rPr>
              <a:t>VGM-beheersing,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fa407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fa407"/>
                </a:solidFill>
                <a:latin typeface="Arial"/>
              </a:rPr>
              <a:t>vormgeven aan veilig werken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41045-8241-4466-8926-9E256986FE3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4" name="Object 5"/>
          <p:cNvGraphicFramePr/>
          <p:nvPr/>
        </p:nvGraphicFramePr>
        <p:xfrm>
          <a:off x="3357720" y="4286160"/>
          <a:ext cx="2493720" cy="1714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5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57720" y="4286160"/>
                    <a:ext cx="2493720" cy="17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4 Algemene en specifieke veiligheidsregel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71680" y="1499760"/>
            <a:ext cx="75722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lgemene veiligheidsreg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lden voor iedereen op het bedrijf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e medewerker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itzendkracht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personeel van) aannemers en onderaannem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an op papi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rijgt iedere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eten duidelijk zijn, eenduidi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grijpelijk voor anderstali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AEBB3-D03F-42A0-AD8A-8B0CDA35253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571320" y="1599840"/>
            <a:ext cx="80658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derwerpen algemene veiligheidsreg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- en afmel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keersregels op het terrei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e te handelen bij calamitei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eiden van afv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lden van ongevallen, brand en inciden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BF6E5-0B54-46F9-B10D-76C682B2A7B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71680" y="3567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4 Algemene en specifieke veiligheidsregels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1680" y="1000080"/>
            <a:ext cx="812952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pecifieke veiligheidsregels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71680" y="1857240"/>
            <a:ext cx="7643520" cy="45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n, functies en werk met verhoogd risic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reden van besloten ruim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en op hoog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rm/heet 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en in explosiegevaarlijke omge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bruik van de vereiste PB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afwerkzaamhe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bruik van specifieke gereedschappen,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aratuur en werktui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E1A7C-F210-475A-A97C-E3B6BDEC418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itel 1"/>
          <p:cNvSpPr/>
          <p:nvPr/>
        </p:nvSpPr>
        <p:spPr>
          <a:xfrm>
            <a:off x="571680" y="0"/>
            <a:ext cx="8572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  <a:ea typeface="Arial"/>
              </a:rPr>
              <a:t>8.4 Algemene en specifieke veiligheidsregels (3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1680" y="713880"/>
            <a:ext cx="8318160" cy="100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a407"/>
                </a:solidFill>
                <a:latin typeface="Arial"/>
              </a:rPr>
              <a:t>specifieke veiligheidsregels </a:t>
            </a:r>
            <a:r>
              <a:rPr b="0" lang="en-US" sz="2400" spc="-1" strike="noStrike">
                <a:solidFill>
                  <a:srgbClr val="0fa407"/>
                </a:solidFill>
                <a:latin typeface="Arial"/>
              </a:rPr>
              <a:t>(2)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71680" y="1499760"/>
            <a:ext cx="833112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33520" indent="-53352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e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riftelijk vastgelegd zij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ikbaar zijn voor betreffende/betrokken werknem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egelicht wor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toetst worden of deze regels begrepen zij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33520" indent="-533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reffen eisen en voorschrif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m veilig te werken met een bepaalde machin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 veilige uitvoering van bepaald soort 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235B2-1736-4AF9-9E96-3664F5C8899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kstvak 4"/>
          <p:cNvSpPr/>
          <p:nvPr/>
        </p:nvSpPr>
        <p:spPr>
          <a:xfrm rot="21028800">
            <a:off x="5319360" y="566064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a407"/>
                </a:solidFill>
                <a:latin typeface="Arial Black"/>
              </a:rPr>
              <a:t>overleg…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Titel 1"/>
          <p:cNvSpPr/>
          <p:nvPr/>
        </p:nvSpPr>
        <p:spPr>
          <a:xfrm>
            <a:off x="571680" y="0"/>
            <a:ext cx="8572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  <a:ea typeface="Arial"/>
              </a:rPr>
              <a:t>8.4 Algemene en specifieke veiligheidsregels (4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571320" y="1295280"/>
            <a:ext cx="735804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regels kunnen eisen bevatten omtr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858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ezic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858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lei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858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scher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858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til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858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l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858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858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tvoering meti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C1DEE-D2C8-42D4-BEA4-5BE2545AE9D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kstvak 4"/>
          <p:cNvSpPr/>
          <p:nvPr/>
        </p:nvSpPr>
        <p:spPr>
          <a:xfrm rot="21028800">
            <a:off x="4756320" y="4576320"/>
            <a:ext cx="242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a911"/>
                </a:solidFill>
                <a:latin typeface="Arial Black"/>
              </a:rPr>
              <a:t>overleg…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itel 1"/>
          <p:cNvSpPr/>
          <p:nvPr/>
        </p:nvSpPr>
        <p:spPr>
          <a:xfrm>
            <a:off x="571680" y="0"/>
            <a:ext cx="8572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  <a:ea typeface="Arial"/>
              </a:rPr>
              <a:t>8.4 Algemene en specifieke veiligheidsregels (5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5 Werkvoorbereid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12CAF-BFED-4EB3-8985-0F1D4774FF0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kstvak 6"/>
          <p:cNvSpPr/>
          <p:nvPr/>
        </p:nvSpPr>
        <p:spPr>
          <a:xfrm>
            <a:off x="571680" y="1143000"/>
            <a:ext cx="8286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een goed begin…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tijdsplanning voor totale wer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goede volgorde om goed en veilig te kunnen werk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benodigde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8276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materia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8276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gereedschappen en machin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detailplanning voor de uitvoering van het werk volgens een veiliger werkwijze (ook als die trager is en extr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voorzieningen eist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1320" y="304560"/>
            <a:ext cx="8019720" cy="92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6 Vergunning veilig werk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71320" y="1905120"/>
            <a:ext cx="8358120" cy="30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oorwaarden scheppen om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de uit te voeren werkzaamhed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tap voor stap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met maximale veilighei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oor mens en installati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uit te voeren…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0" y="-2588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6 Vergunning veilig werk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42960" y="1220400"/>
            <a:ext cx="82152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gemene werkvergun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doel: zeker weten d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70000"/>
              </a:lnSpc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wordt overlegd over veilige werkuitvo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meel toestemming wordt gegeven om te werken op het terrein en aan de installa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zonder vergunning niet aan het werk 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2313E-2930-4DED-9663-C035C873F1D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0" name="Object 6"/>
          <p:cNvGraphicFramePr/>
          <p:nvPr/>
        </p:nvGraphicFramePr>
        <p:xfrm>
          <a:off x="3429000" y="2743200"/>
          <a:ext cx="1785960" cy="100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1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29000" y="2743200"/>
                    <a:ext cx="178596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6000480" cy="92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pecifieke werkvergunning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71680" y="2037960"/>
            <a:ext cx="6929280" cy="27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gen van een veilige werkwijze voor werk met specifieke risico’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spraken op schrif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egelich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derteke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nodig specifieke opleiding of train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73DEF-B63A-420E-B7AD-FDB9EC0F386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kstvak 4"/>
          <p:cNvSpPr/>
          <p:nvPr/>
        </p:nvSpPr>
        <p:spPr>
          <a:xfrm rot="20244600">
            <a:off x="4191480" y="4952520"/>
            <a:ext cx="44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a407"/>
                </a:solidFill>
                <a:latin typeface="Arial Black"/>
              </a:rPr>
              <a:t>persoonlijk overtuig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Titel 1"/>
          <p:cNvSpPr/>
          <p:nvPr/>
        </p:nvSpPr>
        <p:spPr>
          <a:xfrm>
            <a:off x="571680" y="142920"/>
            <a:ext cx="81295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  <a:ea typeface="Arial"/>
              </a:rPr>
              <a:t>8.6 Vergunning veilig werken (3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812952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Specifieke werkvergunning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71320" y="1220400"/>
            <a:ext cx="86468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oorbeelden van werk met specifieke vergun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reden van een besloten ruim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andgevaarlijk werk, ook vuurvergunning of heetwerkvergunning, bijvoorbeeld lassen, slijp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ven in vervuilde ondergron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dergrond met leidingen (vloeren, strate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en aan of bij gevaarlijke stralingsbronn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jswerk bij belangrijke installat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iteiten asbesthoudend materia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en met giftige en/of kankerverwekkend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off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en op hoog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2AE82-8E00-4F8D-9EC4-D4E847D05CD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0040" y="33120"/>
            <a:ext cx="8429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 Overleggen en regel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71680" y="1220400"/>
            <a:ext cx="8215200" cy="45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1  Hoofdrol voor de leidinggeven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  VGM-kennis een basisvoorwaar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  Overleggen en regel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  Algemene en specifieke veiligheidsreg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 Werkvoorberei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6  Vergunning veilig wer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7  Aandachtspunten bij risicovol werk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8  Noodsitua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8CF04-F132-480B-AFE8-CF506F9FD7D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1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515520" cy="708804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Specifieke werkvergunning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F8444-0992-4146-A5AF-945F9D97859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kstvak 5"/>
          <p:cNvSpPr/>
          <p:nvPr/>
        </p:nvSpPr>
        <p:spPr>
          <a:xfrm rot="18256200">
            <a:off x="-417240" y="2829960"/>
            <a:ext cx="372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aanvraag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werkzaamhed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Tekstvak 7"/>
          <p:cNvSpPr/>
          <p:nvPr/>
        </p:nvSpPr>
        <p:spPr>
          <a:xfrm rot="18256200">
            <a:off x="3654000" y="2758680"/>
            <a:ext cx="372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maatregelen vergunninghoude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Tekstvak 8"/>
          <p:cNvSpPr/>
          <p:nvPr/>
        </p:nvSpPr>
        <p:spPr>
          <a:xfrm rot="18256200">
            <a:off x="6011640" y="2901600"/>
            <a:ext cx="372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bekrachtiging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Alle partij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Tekstvak 9"/>
          <p:cNvSpPr/>
          <p:nvPr/>
        </p:nvSpPr>
        <p:spPr>
          <a:xfrm rot="18256200">
            <a:off x="1725480" y="2544480"/>
            <a:ext cx="372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maatregelen verstrekke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Tekstvak 12"/>
          <p:cNvSpPr/>
          <p:nvPr/>
        </p:nvSpPr>
        <p:spPr>
          <a:xfrm rot="21347400">
            <a:off x="6356520" y="5245200"/>
            <a:ext cx="27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verlenging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Werkvergunningen</a:t>
            </a:r>
            <a:r>
              <a:rPr b="0" lang="en-US" sz="2800" spc="-1" strike="noStrike">
                <a:solidFill>
                  <a:srgbClr val="0fa407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zijn een onderdeel van projectveiligheid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59" name="Picture 1" descr=""/>
          <p:cNvPicPr/>
          <p:nvPr/>
        </p:nvPicPr>
        <p:blipFill>
          <a:blip r:embed="rId2"/>
          <a:stretch/>
        </p:blipFill>
        <p:spPr>
          <a:xfrm>
            <a:off x="1779480" y="1420920"/>
            <a:ext cx="4803840" cy="4583160"/>
          </a:xfrm>
          <a:prstGeom prst="rect">
            <a:avLst/>
          </a:prstGeom>
          <a:ln w="0">
            <a:noFill/>
          </a:ln>
        </p:spPr>
      </p:pic>
      <p:pic>
        <p:nvPicPr>
          <p:cNvPr id="260" name="WordArt 2" descr=""/>
          <p:cNvPicPr/>
          <p:nvPr/>
        </p:nvPicPr>
        <p:blipFill>
          <a:blip r:embed="rId3"/>
          <a:stretch/>
        </p:blipFill>
        <p:spPr>
          <a:xfrm>
            <a:off x="1841400" y="1620720"/>
            <a:ext cx="2621160" cy="1293840"/>
          </a:xfrm>
          <a:prstGeom prst="rect">
            <a:avLst/>
          </a:prstGeom>
          <a:ln w="0">
            <a:noFill/>
          </a:ln>
        </p:spPr>
      </p:pic>
      <p:pic>
        <p:nvPicPr>
          <p:cNvPr id="261" name="WordArt 3" descr=""/>
          <p:cNvPicPr/>
          <p:nvPr/>
        </p:nvPicPr>
        <p:blipFill>
          <a:blip r:embed="rId4"/>
          <a:stretch/>
        </p:blipFill>
        <p:spPr>
          <a:xfrm>
            <a:off x="3962520" y="4638600"/>
            <a:ext cx="2614320" cy="1285920"/>
          </a:xfrm>
          <a:prstGeom prst="rect">
            <a:avLst/>
          </a:prstGeom>
          <a:ln w="0">
            <a:noFill/>
          </a:ln>
        </p:spPr>
      </p:pic>
      <p:pic>
        <p:nvPicPr>
          <p:cNvPr id="262" name="WordArt 4" descr=""/>
          <p:cNvPicPr/>
          <p:nvPr/>
        </p:nvPicPr>
        <p:blipFill>
          <a:blip r:embed="rId5"/>
          <a:stretch/>
        </p:blipFill>
        <p:spPr>
          <a:xfrm>
            <a:off x="4853160" y="1500120"/>
            <a:ext cx="1908000" cy="2737080"/>
          </a:xfrm>
          <a:prstGeom prst="rect">
            <a:avLst/>
          </a:prstGeom>
          <a:ln w="0">
            <a:noFill/>
          </a:ln>
        </p:spPr>
      </p:pic>
      <p:pic>
        <p:nvPicPr>
          <p:cNvPr id="263" name="WordArt 5" descr=""/>
          <p:cNvPicPr/>
          <p:nvPr/>
        </p:nvPicPr>
        <p:blipFill>
          <a:blip r:embed="rId6"/>
          <a:stretch/>
        </p:blipFill>
        <p:spPr>
          <a:xfrm>
            <a:off x="1706400" y="3333600"/>
            <a:ext cx="1970280" cy="271332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7"/>
          <p:cNvSpPr/>
          <p:nvPr/>
        </p:nvSpPr>
        <p:spPr>
          <a:xfrm>
            <a:off x="0" y="-2588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71680" y="3567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Functies van de werkvergunn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71680" y="1357200"/>
            <a:ext cx="700056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goede voorbereiding op veilig wer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leggen met iedereen die bij het werk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rokken is en met hen bindende afspraken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stleggen van de voorwaarden waaronder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werkt word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lenen van toestemming voor aanvang van de werkzaamhe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EB300-8C10-4E84-BBD7-3A9431EA081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Tekstvak 4"/>
          <p:cNvSpPr/>
          <p:nvPr/>
        </p:nvSpPr>
        <p:spPr>
          <a:xfrm rot="21347400">
            <a:off x="3115440" y="4472280"/>
            <a:ext cx="512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a407"/>
                </a:solidFill>
                <a:latin typeface="Arial Black"/>
              </a:rPr>
              <a:t>gestructureerde en verplichte communicatie tussen alle partij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8129520" cy="107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Invullen van de werkvergunn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837720" y="1294920"/>
            <a:ext cx="664380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ldigheidsduur (meestal 1 dag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m welke werkzaamheden het ga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ie gaat wanneer welk werk do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atregelen die de verstrekker van d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gunning neem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veiligheids-)maatregelen vaststellen voor operationele medewerk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atregelen om de werkomgeving na d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zaamheden veilig achter te la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krachtiging/onderteken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waarden voor verleng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B5072-AA03-4D79-8463-2B9EAB4A3D5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57232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Rechten en plichten vergunningverstrekk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71320" y="1002960"/>
            <a:ext cx="8156520" cy="49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85840" indent="-285840">
              <a:spcBef>
                <a:spcPts val="550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e op de vrijstelling van de installati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eker weten dat daar veilig gewerkt kan wor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 het aftekenen van de vergunn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sprek met de vergunninghouder ov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rd van de werkzaamhe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voorwaarden en de maatreg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dertekening van de vergu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verstrekker zorgt zo nodig dat metingen zijn verric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verschillende werkzaamheden tegelijkertij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rgt de verstrekker voor coördinatie en afsprak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ssen de betrokken partij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1CDCC-7777-401B-98CE-D9E991237F7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812952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Rechten en plichten vergunninghoud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71320" y="1219320"/>
            <a:ext cx="814212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de houder van de werkvergun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dertekent de vergu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rgt ervoor dat de vergunning ter plaatse 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eft uitleg aan de operationele medewerk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et erop toe dat de werkzaamheden volgens de voorwaarden verlop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CA403-BA99-4C85-B7EC-32497D62DDB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Rechten/plichten operationele medewerker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571320" y="1356840"/>
            <a:ext cx="81579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de operationele medewerk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nnen de inhoud van de vergu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en volgens de voorwaarden van de vergu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men de maatregelen die op de vergunning sta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en alleen met een geldige vergunn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163a"/>
                </a:solidFill>
                <a:latin typeface="Arial"/>
              </a:rPr>
              <a:t>een werkvergunning heeft alleen zin als de afspraken die worden gemaakt, ook worden nageleef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5F161-76A7-4435-8FD5-4E99F1494BC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B5711-5AC1-404B-BCBA-13BC32AA9AC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2" name="Picture 7" descr=""/>
          <p:cNvPicPr/>
          <p:nvPr/>
        </p:nvPicPr>
        <p:blipFill>
          <a:blip r:embed="rId2"/>
          <a:srcRect l="18846" t="30242" r="-414" b="16908"/>
          <a:stretch/>
        </p:blipFill>
        <p:spPr>
          <a:xfrm>
            <a:off x="7358040" y="0"/>
            <a:ext cx="1785960" cy="2500200"/>
          </a:xfrm>
          <a:prstGeom prst="rect">
            <a:avLst/>
          </a:prstGeom>
          <a:ln w="0">
            <a:noFill/>
          </a:ln>
        </p:spPr>
      </p:pic>
      <p:sp>
        <p:nvSpPr>
          <p:cNvPr id="283" name="Tekstvak 5"/>
          <p:cNvSpPr/>
          <p:nvPr/>
        </p:nvSpPr>
        <p:spPr>
          <a:xfrm>
            <a:off x="500040" y="54000"/>
            <a:ext cx="714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  <a:ea typeface="Tahoma"/>
              </a:rPr>
              <a:t>8.7 Aandachtspunten bij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  <a:ea typeface="Tahoma"/>
              </a:rPr>
              <a:t>risicovolle werkzaamhed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ekstvak 9"/>
          <p:cNvSpPr/>
          <p:nvPr/>
        </p:nvSpPr>
        <p:spPr>
          <a:xfrm>
            <a:off x="571680" y="1928880"/>
            <a:ext cx="7914960" cy="37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bereiding, toepassen bedrijfsvoorschriften,  werkvergunningen, TRA, LMR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wezig zijn, controleren en zonodig ingrijpen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rrigeren als maatregelen niet worden genomen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 stoppen als het werkplan niet wordt gevolg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tzendkrachten in samenwerking met de    uitzendorganisatie, aanvullend informeren en zonodig opleiden en instructies gev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71680" y="928440"/>
            <a:ext cx="500040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TRA: (taak)risicoanalyse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71680" y="1645920"/>
            <a:ext cx="8540640" cy="37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72960" indent="-372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e van de gevaren voor werknemers bij uitvoering van (risicovolle) taken  met als doel beheersmaatregelen vast te stellen en in te zet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wijz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90000"/>
              </a:lnSpc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taakstap nagaan of extra beheersmaatregelen nodig zij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90000"/>
              </a:lnSpc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TRA wordt bijgesteld als er afwijkingen optreden t.o.v. het werkpl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bijgestelde TRA wordt dan besproken met  de vertegenwoordiger van de opdrachtgev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913F6-4511-4B01-92FF-B0466694C09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Tekstvak 5"/>
          <p:cNvSpPr/>
          <p:nvPr/>
        </p:nvSpPr>
        <p:spPr>
          <a:xfrm>
            <a:off x="571680" y="0"/>
            <a:ext cx="835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  <a:ea typeface="Tahoma"/>
              </a:rPr>
              <a:t>8.7 Aandachtpunten bij risicovolle werkzaamheden (2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0" y="-2588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Tekstvak 8"/>
          <p:cNvSpPr/>
          <p:nvPr/>
        </p:nvSpPr>
        <p:spPr>
          <a:xfrm>
            <a:off x="571680" y="380880"/>
            <a:ext cx="85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  <a:ea typeface="Tahoma"/>
              </a:rPr>
              <a:t>Hoofdlijn omgaan met verhoogd risico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Tekstvak 9"/>
          <p:cNvSpPr/>
          <p:nvPr/>
        </p:nvSpPr>
        <p:spPr>
          <a:xfrm>
            <a:off x="1900080" y="1571760"/>
            <a:ext cx="307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normale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bedrijfsvoer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Tekstvak 10"/>
          <p:cNvSpPr/>
          <p:nvPr/>
        </p:nvSpPr>
        <p:spPr>
          <a:xfrm>
            <a:off x="6469200" y="1500120"/>
            <a:ext cx="264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projectmatige werkuitvoer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Tekstvak 11"/>
          <p:cNvSpPr/>
          <p:nvPr/>
        </p:nvSpPr>
        <p:spPr>
          <a:xfrm>
            <a:off x="571680" y="2428920"/>
            <a:ext cx="171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a911"/>
                </a:solidFill>
                <a:latin typeface="Tahoma"/>
                <a:ea typeface="Tahoma"/>
              </a:rPr>
              <a:t>identificatie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Tekstvak 12"/>
          <p:cNvSpPr/>
          <p:nvPr/>
        </p:nvSpPr>
        <p:spPr>
          <a:xfrm>
            <a:off x="1447920" y="2928960"/>
            <a:ext cx="2233440" cy="459720"/>
          </a:xfrm>
          <a:prstGeom prst="rect">
            <a:avLst/>
          </a:prstGeom>
          <a:noFill/>
          <a:ln w="9360">
            <a:solidFill>
              <a:srgbClr val="c016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bedrijfs-RI&amp;E</a:t>
            </a:r>
            <a:r>
              <a:rPr b="1" lang="nl-NL" sz="1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Tekstvak 13"/>
          <p:cNvSpPr/>
          <p:nvPr/>
        </p:nvSpPr>
        <p:spPr>
          <a:xfrm>
            <a:off x="6681960" y="3000240"/>
            <a:ext cx="2428560" cy="825480"/>
          </a:xfrm>
          <a:prstGeom prst="rect">
            <a:avLst/>
          </a:prstGeom>
          <a:noFill/>
          <a:ln w="9360">
            <a:solidFill>
              <a:srgbClr val="c016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- functie-RI&amp;E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kstvak 14"/>
          <p:cNvSpPr/>
          <p:nvPr/>
        </p:nvSpPr>
        <p:spPr>
          <a:xfrm>
            <a:off x="6681960" y="335772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- project-RI&amp;E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7" name="Tekstvak 15"/>
          <p:cNvGrpSpPr/>
          <p:nvPr/>
        </p:nvGrpSpPr>
        <p:grpSpPr>
          <a:xfrm>
            <a:off x="981000" y="4022640"/>
            <a:ext cx="3200400" cy="1519200"/>
            <a:chOff x="981000" y="4022640"/>
            <a:chExt cx="3200400" cy="1519200"/>
          </a:xfrm>
        </p:grpSpPr>
        <p:pic>
          <p:nvPicPr>
            <p:cNvPr id="298" name="Tekstvak 15" descr=""/>
            <p:cNvPicPr/>
            <p:nvPr/>
          </p:nvPicPr>
          <p:blipFill>
            <a:blip r:embed="rId2"/>
            <a:stretch/>
          </p:blipFill>
          <p:spPr>
            <a:xfrm>
              <a:off x="981000" y="4022640"/>
              <a:ext cx="3200400" cy="15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1100160" y="4143240"/>
              <a:ext cx="3029040" cy="13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Tahoma"/>
                </a:rPr>
                <a:t>algemene en 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Tahoma"/>
                </a:rPr>
                <a:t>specifieke veiligheidsregels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Tahoma"/>
                </a:rPr>
                <a:t>beheersmaatregelen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Tahoma"/>
                </a:rPr>
                <a:t>werkvergunningen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0" name="Tekstvak 16"/>
          <p:cNvGrpSpPr/>
          <p:nvPr/>
        </p:nvGrpSpPr>
        <p:grpSpPr>
          <a:xfrm>
            <a:off x="6303960" y="4127400"/>
            <a:ext cx="2833560" cy="1511280"/>
            <a:chOff x="6303960" y="4127400"/>
            <a:chExt cx="2833560" cy="1511280"/>
          </a:xfrm>
        </p:grpSpPr>
        <p:pic>
          <p:nvPicPr>
            <p:cNvPr id="301" name="Tekstvak 16" descr=""/>
            <p:cNvPicPr/>
            <p:nvPr/>
          </p:nvPicPr>
          <p:blipFill>
            <a:blip r:embed="rId3"/>
            <a:stretch/>
          </p:blipFill>
          <p:spPr>
            <a:xfrm>
              <a:off x="6303960" y="4127400"/>
              <a:ext cx="283356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6421320" y="4241880"/>
              <a:ext cx="2662200" cy="13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Tahoma"/>
                </a:rPr>
                <a:t>beheersmaatregelen 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Tahoma"/>
                </a:rPr>
                <a:t>werkvergunning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Tahoma"/>
                </a:rPr>
                <a:t>algemene en 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Tahoma"/>
                </a:rPr>
                <a:t>specifieke veiligheidsregels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3" name="Tekstvak 17"/>
          <p:cNvSpPr/>
          <p:nvPr/>
        </p:nvSpPr>
        <p:spPr>
          <a:xfrm>
            <a:off x="1066680" y="5638680"/>
            <a:ext cx="17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163a"/>
                </a:solidFill>
                <a:latin typeface="Tahoma"/>
                <a:ea typeface="Tahoma"/>
              </a:rPr>
              <a:t>beheersing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Tekstvak 18"/>
          <p:cNvSpPr/>
          <p:nvPr/>
        </p:nvSpPr>
        <p:spPr>
          <a:xfrm>
            <a:off x="4419720" y="1357200"/>
            <a:ext cx="1547640" cy="1008720"/>
          </a:xfrm>
          <a:prstGeom prst="rect">
            <a:avLst/>
          </a:prstGeom>
          <a:noFill/>
          <a:ln w="9360">
            <a:solidFill>
              <a:srgbClr val="0fa4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wijkende omstandig-hede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kstvak 19"/>
          <p:cNvSpPr/>
          <p:nvPr/>
        </p:nvSpPr>
        <p:spPr>
          <a:xfrm>
            <a:off x="4876920" y="2971800"/>
            <a:ext cx="1073160" cy="703800"/>
          </a:xfrm>
          <a:prstGeom prst="rect">
            <a:avLst/>
          </a:prstGeom>
          <a:noFill/>
          <a:ln w="9360">
            <a:solidFill>
              <a:srgbClr val="0fa4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MRA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IJL-OMHOOG 20"/>
          <p:cNvSpPr/>
          <p:nvPr/>
        </p:nvSpPr>
        <p:spPr>
          <a:xfrm rot="10800000">
            <a:off x="2611080" y="3571920"/>
            <a:ext cx="498600" cy="3571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IJL-OMHOOG 21"/>
          <p:cNvSpPr/>
          <p:nvPr/>
        </p:nvSpPr>
        <p:spPr>
          <a:xfrm rot="10800000">
            <a:off x="7469280" y="3786120"/>
            <a:ext cx="498240" cy="3571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IJL-OMHOOG 22"/>
          <p:cNvSpPr/>
          <p:nvPr/>
        </p:nvSpPr>
        <p:spPr>
          <a:xfrm rot="13027800">
            <a:off x="4167000" y="3963240"/>
            <a:ext cx="501480" cy="3589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IJL-OMHOOG 23"/>
          <p:cNvSpPr/>
          <p:nvPr/>
        </p:nvSpPr>
        <p:spPr>
          <a:xfrm rot="7795200">
            <a:off x="6014880" y="3965400"/>
            <a:ext cx="501480" cy="3556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707220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1 Hoofdrol voor de leidinggevende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C0368-0E15-42B0-9A83-27A9BB3DDCA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kstvak 4"/>
          <p:cNvSpPr/>
          <p:nvPr/>
        </p:nvSpPr>
        <p:spPr>
          <a:xfrm>
            <a:off x="1066680" y="2209680"/>
            <a:ext cx="3714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ies aan werkgev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gevallen- en incidentenonderzoe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e arbeidsmidde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e PBM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ies vragen bij deskundig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GM-kennis/info werknemers checken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kstvak 5"/>
          <p:cNvSpPr/>
          <p:nvPr/>
        </p:nvSpPr>
        <p:spPr>
          <a:xfrm>
            <a:off x="4952880" y="2209680"/>
            <a:ext cx="3714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tructies laten nalev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uwe medewerker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troductie gev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ntor aanwijz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werken aan RI&amp;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RA’s opstel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GM-inspecties uitvoer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olboxmeetings verzorg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713880" y="1219320"/>
            <a:ext cx="7799400" cy="92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de leidinggevende heeft de taak om de VGM-risicobeheersing in de praktijk te realiser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8" descr=""/>
          <p:cNvPicPr/>
          <p:nvPr/>
        </p:nvPicPr>
        <p:blipFill>
          <a:blip r:embed="rId2"/>
          <a:stretch/>
        </p:blipFill>
        <p:spPr>
          <a:xfrm>
            <a:off x="7358040" y="285840"/>
            <a:ext cx="140508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828648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8. Noodsituatie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71320" y="1523520"/>
            <a:ext cx="8156520" cy="42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dreigende situaties door ongevallen m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sel, brand, vloeistoff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losie van gas, damp of brandbare stof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gecontroleerde ontsnapping van giftig gas, biologische agentia of radioactieve stral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mmel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8519A-F3C3-4F26-95DF-23DC765E182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7215120" cy="7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Noodsituaties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71680" y="857160"/>
            <a:ext cx="52862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eheersing en bestrij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4320" indent="-27432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od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490680" indent="-216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sis om noodsituaties te beheer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4320" indent="-27432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aibo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490680" indent="-216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 effectief optreden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ie moet wat, wanneer, hoe do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fasen noodsitua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4320" indent="-27432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erste mel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4320" indent="-27432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elingen en maatrege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4320" indent="-27432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ëindigen van de noodsitu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490680" indent="-216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idelijk dat de situatie veilig i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490680" indent="-216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nemers kunnen weer aan het  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4320" indent="-27432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4374A-F223-4F18-B359-779BEA088BE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6" name="Picture 2" descr="http://www.safetybillboards.nl/brandpreventie.JPG"/>
          <p:cNvPicPr/>
          <p:nvPr/>
        </p:nvPicPr>
        <p:blipFill>
          <a:blip r:embed="rId2"/>
          <a:stretch/>
        </p:blipFill>
        <p:spPr>
          <a:xfrm>
            <a:off x="5772240" y="566640"/>
            <a:ext cx="337824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Noodsituaties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571320" y="928800"/>
            <a:ext cx="8156520" cy="34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ar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middellijk het werk onderbre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ructies van de opdrachtgever (BHV) opvol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ar verzamelplaats gaa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en liften gebruik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cua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nsen overbrengen naar een veilige plaa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dereen moet weten wat te doen bij alarm evacuatie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49AF6-6B68-41C9-9DB7-C61847531F6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0" name="Picture 5" descr=""/>
          <p:cNvPicPr/>
          <p:nvPr/>
        </p:nvPicPr>
        <p:blipFill>
          <a:blip r:embed="rId2"/>
          <a:stretch/>
        </p:blipFill>
        <p:spPr>
          <a:xfrm>
            <a:off x="7358040" y="214200"/>
            <a:ext cx="1609920" cy="1609920"/>
          </a:xfrm>
          <a:prstGeom prst="rect">
            <a:avLst/>
          </a:prstGeom>
          <a:ln w="0">
            <a:noFill/>
          </a:ln>
        </p:spPr>
      </p:pic>
      <p:sp>
        <p:nvSpPr>
          <p:cNvPr id="321" name="Rechthoek 5"/>
          <p:cNvSpPr/>
          <p:nvPr/>
        </p:nvSpPr>
        <p:spPr>
          <a:xfrm>
            <a:off x="571680" y="4214880"/>
            <a:ext cx="727704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46160" indent="-474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wat/waar zijn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6160" indent="-4744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ahoma"/>
              </a:rPr>
              <a:t>de evacuatie(verzamel)plaats(en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6160" indent="-4744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ahoma"/>
              </a:rPr>
              <a:t>de evacuatiemogelijkheden/vluchtrout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6160" indent="-4744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ahoma"/>
              </a:rPr>
              <a:t>de instructies van de opdrachtgever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6160" indent="-4744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ahoma"/>
              </a:rPr>
              <a:t>en bij evacuatie direct melden op de verzamelplaats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F73D9-F553-435F-9628-B0C52494457C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3" name="Picture 2" descr="http://www.safetybillboards.nl/vluchtwegen.JPG"/>
          <p:cNvPicPr/>
          <p:nvPr/>
        </p:nvPicPr>
        <p:blipFill>
          <a:blip r:embed="rId1"/>
          <a:stretch/>
        </p:blipFill>
        <p:spPr>
          <a:xfrm>
            <a:off x="2627280" y="353880"/>
            <a:ext cx="3949560" cy="55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42976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2 VGM-kennis een basisvoorwaarde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D5851-6F72-46D1-BC45-707A2A45532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71320" y="1000080"/>
            <a:ext cx="8156520" cy="12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ewerkers moeten, ook volgens wetgeving, direct worden voorgelicht over risico’s en veilige werkwijze en op die kennis getoetst word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ar de kennis moet ook actueel blijven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kstvak 8"/>
          <p:cNvSpPr/>
          <p:nvPr/>
        </p:nvSpPr>
        <p:spPr>
          <a:xfrm>
            <a:off x="571680" y="2643120"/>
            <a:ext cx="7858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wanneer opleiding en instructie?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dat gebeurt bij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start nieuwe medewerk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overplaats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functiewijzig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inzet nieuwe arbeidsmidde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aanpassingen aan arbeidsmiddelen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inzet nieuwe technologi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invoeren nieuwe werkprocedures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57232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2 VGM-kennis een basisvoorwaarde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43BC9-53B7-484B-A9C3-B7F18FD831B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71680" y="1143000"/>
            <a:ext cx="833256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edrijven hanteren meestal de volgende vormen van opleiding en instructi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ijdelijke aanduiding voor inhoud 6"/>
          <p:cNvSpPr/>
          <p:nvPr/>
        </p:nvSpPr>
        <p:spPr>
          <a:xfrm>
            <a:off x="571680" y="1928880"/>
            <a:ext cx="808668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gemene veiligheidsopleiding/instructi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3459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lgemene VGM-regels, brand- en andere noodmeldingen en voorschriften, werkplekregels en verplicht PBM-gebruik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345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ijdelijke aanduiding voor inhoud 6"/>
          <p:cNvSpPr/>
          <p:nvPr/>
        </p:nvSpPr>
        <p:spPr>
          <a:xfrm>
            <a:off x="533520" y="3200400"/>
            <a:ext cx="815796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fieke opleiding/instructi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345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werkplekgebonden of aan installaties, arbeidsmiddelen, machines, zones of omstandigheden en aan plaatsen verbonden risico’s en de daarbij behorende regels en voorziening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57232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2 VGM-kennis een basisvoorwaarde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8EC8-D7F4-4426-8D8D-2D42926A79A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ijdelijke aanduiding voor inhoud 6"/>
          <p:cNvSpPr/>
          <p:nvPr/>
        </p:nvSpPr>
        <p:spPr>
          <a:xfrm>
            <a:off x="571680" y="928800"/>
            <a:ext cx="828648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GM-bijeenkomsten of toolboxmeeting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om de kennis op peil te houden en de medewerkers te motiveren tot veilig werken, wordt regelmatig een onderwerp  behandeld en met de medewerkers bediscussieerd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in de bijeenkomst wordt getoetst of de boodschap begrepen is, er worden duidelijke afspraken gemaakt en een verslag opgesteld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c0163a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c0163a"/>
                </a:solidFill>
                <a:latin typeface="Arial"/>
                <a:ea typeface="Arial"/>
              </a:rPr>
              <a:t>mogelijke onderwerpen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c0163a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werkmethode, orde en netheid, PBM-gebruik, machines, gevaarlijke stoffen, procedures, incidenten en ongevallen, fysieke belasting, communicatie, inspecties en alle andere onderwerpen over VGM die aandacht verdiene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20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3 Overleggen en regel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33160" y="1371240"/>
            <a:ext cx="80391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overleg over VGM-beleid tussen werkgever 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werknemersvertegenwoordig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 wat werkgever en werknemers belangrijk vind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 onderwerpen waarvoor de werkgever instemming of advies van de werknemersvertegenwoordiging (OR of VGM-commissie) nodig heef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 RI&amp;E en het plan van aanpa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odeskundigen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deskundig adv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39FBD-F6B4-4BED-8E32-925A3851C20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kstvak 6"/>
          <p:cNvSpPr/>
          <p:nvPr/>
        </p:nvSpPr>
        <p:spPr>
          <a:xfrm>
            <a:off x="642960" y="4857840"/>
            <a:ext cx="7562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1" name="Object 5"/>
          <p:cNvGraphicFramePr/>
          <p:nvPr/>
        </p:nvGraphicFramePr>
        <p:xfrm>
          <a:off x="7215120" y="71280"/>
          <a:ext cx="1857600" cy="127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2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15120" y="71280"/>
                    <a:ext cx="1857600" cy="12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3 Overleggen en regel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856800" y="999720"/>
            <a:ext cx="671508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E75CD-A6D3-4091-A906-C2BE8405192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Tekstvak 6"/>
          <p:cNvSpPr/>
          <p:nvPr/>
        </p:nvSpPr>
        <p:spPr>
          <a:xfrm>
            <a:off x="928800" y="1192320"/>
            <a:ext cx="7377120" cy="35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Arial"/>
              </a:rPr>
              <a:t>werkoverle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(eventueel  samen met toolboxmeeting)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t de werknemers,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ver praktische aspecten van VGM-beheersing,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v. werkmethoden, opleidingen, gevaarlijke stoffen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Arial"/>
              </a:rPr>
              <a:t>eventueel met een deskundig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t een verslag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ver het gevoerde overleg en de gegeven adviez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7" name="Object 5"/>
          <p:cNvGraphicFramePr/>
          <p:nvPr/>
        </p:nvGraphicFramePr>
        <p:xfrm>
          <a:off x="7139160" y="797040"/>
          <a:ext cx="1861920" cy="127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8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39160" y="797040"/>
                    <a:ext cx="1861920" cy="12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812952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Regelen en regel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571680" y="1294920"/>
            <a:ext cx="821520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regels en -procedures zijn er om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dagelijkse werkuitvoering veilig te laten verlop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eronder vall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gemene veiligheidsreg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ecifieke veiligheidsreg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unningen veilig wer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akrisicoanalyse TRA *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atste Minuut RisicoAnalyse LMRA *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s bij noodsituaties *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c0163a"/>
                </a:solidFill>
                <a:latin typeface="Arial"/>
              </a:rPr>
              <a:t>* zie (ook) hoofdstuk 7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9A710-C813-42CA-A235-2DF16FE8481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5:19:44Z</dcterms:created>
  <dc:creator>de Groot</dc:creator>
  <dc:description/>
  <dc:language>en-US</dc:language>
  <cp:lastModifiedBy>jrijdes</cp:lastModifiedBy>
  <dcterms:modified xsi:type="dcterms:W3CDTF">2010-02-16T12:50:52Z</dcterms:modified>
  <cp:revision>201</cp:revision>
  <dc:subject/>
  <dc:title>Taak en positie VFP</dc:title>
</cp:coreProperties>
</file>