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875-80EF-4213-91B4-F0037CDA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30B-D981-4379-ACEF-494606F7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BF6-5079-4304-A3EA-9B9BEFEC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9AD-AD96-4310-8357-2DEAB377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3BA-8277-4D38-A47F-1AEFEBE2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0E0-D9F1-4F47-A05F-1CD1A5E5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9DB-8FD6-4F45-BAE1-B29FE8D4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D00-FE65-4269-A4B7-A6F5703B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C9E-6001-4F28-A39A-CC2D2486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6B2-5490-4F98-8F0A-65846B83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8CE-8563-49BE-982A-96D5B8DB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39E-6AC4-427C-A2E2-BB6FAE7F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2E75-88B6-4A9E-B406-330D45C2429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4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Brand en explosie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ne stof brandt gemakkelijker d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: vlampunt is maat voor brand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g vlampu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hoog brandgev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pu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of de ‘ontvlammingstemperatuur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laagste temperatuur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ij vloeistof zoveel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ontvlambare damp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wikkelt, dat deze in de aanwezige lucht onder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normale luchtomstandigheden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een vlam of vonk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aangestok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kan bij vorst aangestoken worden (vlampunt onder - 20 °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troleum kan niet bij kamertemperatuur aangestoken worden, vlampunt boven + 30 °C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is dus veel brandgevaarlijke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rcRect l="20482" t="0" r="29468" b="0"/>
          <a:stretch/>
        </p:blipFill>
        <p:spPr>
          <a:xfrm>
            <a:off x="7786800" y="0"/>
            <a:ext cx="1357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ontbrandingstemperatuur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gste temperatuur waarbij een stof spontaan ontbra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enig hulpmiddel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normale lucht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stekingsenergie is hier geen vonk of vlam, maar de hoge temperatuur 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5 Blu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ncipes van blu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uitschakelen / verwij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te uitschakelen door afk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bron weg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verdringen of de toegang t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ver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grijpen in de chemische reactie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rand (negatieve katal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6715080" y="82440"/>
            <a:ext cx="22129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deling brandkla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EB76BD7-4227-447F-B5C8-D5C14D2928CF" descr="5A8DB082-2839-484A-B0AB-DACCFFD08C53@profit"/>
          <p:cNvPicPr/>
          <p:nvPr/>
        </p:nvPicPr>
        <p:blipFill>
          <a:blip r:embed="rId1"/>
          <a:stretch/>
        </p:blipFill>
        <p:spPr>
          <a:xfrm>
            <a:off x="216000" y="3068640"/>
            <a:ext cx="8640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6 Blusmidd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447920"/>
          <a:ext cx="7772400" cy="4616280"/>
        </p:xfrm>
        <a:graphic>
          <a:graphicData uri="http://schemas.openxmlformats.org/drawingml/2006/table">
            <a:tbl>
              <a:tblPr/>
              <a:tblGrid>
                <a:gridCol w="2062080"/>
                <a:gridCol w="2476440"/>
                <a:gridCol w="3233880"/>
              </a:tblGrid>
              <a:tr h="34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middel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king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ort br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om 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im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 op de grond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deken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bij person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poed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t verbrandingsreactie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(gass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metal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nl-BE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elektriciteitsinstallaties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-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7" name="Picture 6" descr="http://www.brandweer.borger-odoorn.info/images/146_1.jpg"/>
          <p:cNvPicPr/>
          <p:nvPr/>
        </p:nvPicPr>
        <p:blipFill>
          <a:blip r:embed="rId1"/>
          <a:stretch/>
        </p:blipFill>
        <p:spPr>
          <a:xfrm>
            <a:off x="2827440" y="1981080"/>
            <a:ext cx="3128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–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9" name="Picture 10" descr="http://www.manroy.nl/ontruimingsplan.gif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eige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de brand zo snel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uit deuren en r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ensen i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 de brand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s je het kunt en dat verantwoord is….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ies het juiste blusmid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cht op het brandende voorwerp, niet op de vla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 opletten, het vuur kan weer aanwakk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515960" y="5867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bij brandwonden zo snel mogelijk koelen </a:t>
            </a:r>
            <a:r>
              <a:rPr b="0" i="1" lang="nl-NL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 15 minut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brand is vuur waar het niet thuis hoort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orkomen en schade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zijn ernstige bedre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ijv. raffinaderijen en chemische fabrieken is brand zeer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voorkomen of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ze kunn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je moet optr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wat van belang is voor blu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  Gevaren voor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 Gevaren tijdens een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 Ontstaan van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 Brandbaarheid van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 Bl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 Blu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 Handelend optreden bij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1 Gevaren voor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branden komen heel veel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abrieken en werkplaat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gvervoer (bijv. vrachtwagens met propaa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ansporten van licht ontvlambare produc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krepar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nkelpanden, opslagloodsen, jachthav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embaden, hotels, disco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orm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ttp://www.morgenpost.de/multimedia/archive/00382/sei_Unfall_BM_Berli_382094b.jpg"/>
          <p:cNvPicPr/>
          <p:nvPr/>
        </p:nvPicPr>
        <p:blipFill>
          <a:blip r:embed="rId1"/>
          <a:stretch/>
        </p:blipFill>
        <p:spPr>
          <a:xfrm>
            <a:off x="5562720" y="4648320"/>
            <a:ext cx="2143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2 Gevaren tijdens een bran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vuurcontact, hitte en 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ttestraling belemmert blu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s mogelijk door ontsteking en opw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roo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mmert vluch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ift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ijgt op (lichter dan luch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t zich in een gebou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3 Ontstaan van brand of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brand of explosie is tegelijk nod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brandbar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zuur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ontstekings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de branddrieho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van brand hangt af van aanwez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brandbare stof en aanwezighei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ontstekingsenergie’ (vlammetje of von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5108400" y="2498760"/>
            <a:ext cx="29498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ntstekingsenerg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energie wordt geleverd door een ontstekings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mogelijke ontstekingsb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onk van handgereedschap of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t oppervl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 temperatu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 vuur en stralingswar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plosie is een “bliksemsnelle”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randingsgassen komen vrij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is verwoest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upersnelle verbranding alleen bij ideale 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bare stof en zuurstof heel goed gemen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erhouding tussen brandbare stof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moet goe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propaan-luchtmengsel kan niet exploderen bij een concentratie onder 2,1% en niet boven 9,5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-luchtmengsels kunnen alleen exploderen bij een concentratie tussen 2,1% en 9,5% propaan in de 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Explosiegrenzen en explosiegebie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59" name="Picture 9" descr="http://www.arbobert.nl/images/290Expl1.jpg"/>
          <p:cNvPicPr/>
          <p:nvPr/>
        </p:nvPicPr>
        <p:blipFill>
          <a:blip r:embed="rId1"/>
          <a:stretch/>
        </p:blipFill>
        <p:spPr>
          <a:xfrm>
            <a:off x="685800" y="2476440"/>
            <a:ext cx="7772400" cy="3695760"/>
          </a:xfrm>
          <a:prstGeom prst="rect">
            <a:avLst/>
          </a:prstGeom>
          <a:ln w="0">
            <a:noFill/>
          </a:ln>
        </p:spPr>
      </p:pic>
      <p:sp>
        <p:nvSpPr>
          <p:cNvPr id="60" name="Tekstvak 9"/>
          <p:cNvSpPr/>
          <p:nvPr/>
        </p:nvSpPr>
        <p:spPr>
          <a:xfrm>
            <a:off x="685800" y="22096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‘arm’ mengs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te ‘rijk’ mengsel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IJL-OMHOOG 7"/>
          <p:cNvSpPr/>
          <p:nvPr/>
        </p:nvSpPr>
        <p:spPr>
          <a:xfrm rot="16200000">
            <a:off x="1159560" y="1278720"/>
            <a:ext cx="642960" cy="1285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IJL-OMHOOG 8"/>
          <p:cNvSpPr/>
          <p:nvPr/>
        </p:nvSpPr>
        <p:spPr>
          <a:xfrm rot="5400000">
            <a:off x="6564600" y="1283400"/>
            <a:ext cx="642960" cy="1428840"/>
          </a:xfrm>
          <a:prstGeom prst="upArrow">
            <a:avLst>
              <a:gd name="adj1" fmla="val 50000"/>
              <a:gd name="adj2" fmla="val 50001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5:03Z</dcterms:modified>
  <cp:revision>124</cp:revision>
  <dc:subject/>
  <dc:title>PowerPoint-presentatie</dc:title>
</cp:coreProperties>
</file>