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wmf" ContentType="image/x-wmf"/>
  <Override PartName="/ppt/media/image3.wmf" ContentType="image/x-wmf"/>
  <Override PartName="/ppt/media/image15.jpeg" ContentType="image/jpe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231E-9EF9-4370-BE17-7B3C54821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9693-22C4-4769-9D33-B7E99A137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F383BD-2F0D-45AA-8DDF-1759E6A54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F32C33-6CE1-4903-9CF1-97F081BF6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FF5081-BB88-492C-B562-5C8AB97BF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7C97B8-AE26-4DA1-9C9F-A8C9BC92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B32BCD-1EED-4D09-901C-39C0CCD1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C30495-CA5E-47CD-9C8B-192DCC657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B95F7D-032D-4C74-AE1A-D1168F074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D4C823-7B11-4BFF-8308-A45390806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E245BE-B418-42F4-A2A6-B0FEEEE3C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B7D947-49C5-411C-A911-1C7F26DC9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A40B-8711-4D7C-B31A-2BAB3DA89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0580EF-72BC-4036-BA4A-D5A3062CD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97D7AB-FB17-4BE5-A9A4-C5D37F4F6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98024D-B12E-4D77-88CD-0A405F1C8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E17D21-1CE8-4C0A-9E32-FF20B3AAD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AB4A2B-AABF-42D3-B70B-AE752CC5B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4C52B0-A907-4F28-A874-01083FBF3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BC9551-8888-45A3-BEA6-BEAFC9720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CB280C-96B7-4202-A8AB-516E3521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ADCEC4-FCEC-4383-AD23-5ADCA99E8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BCD962-DB17-4015-93D1-1A4E0E72C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A9A9-9A15-44FD-9BAC-43320976D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1CF762-40C6-47A1-8982-FDF3E0741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1F83F9-6DDD-4F4E-9658-8A20A0C10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FE0140-09ED-43AB-811C-09667E9E6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C376EB-ABF3-4AB7-B137-F6537BAF9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EBEC00-0513-4209-91C3-4FBE27F0C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485A8F-765F-411E-9C5F-CBCA82C76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164563-BBE1-4CA3-9A3C-C12D7360A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F4D61E-C812-4DBC-B9EB-20621202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CCF264-E06B-4682-9BA3-932CAC71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D7B805-35F7-44CA-BF55-EA02E1F38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27E27-5CDB-4330-B7D3-603FC15F5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866D9A-97CF-4361-8559-22D367E84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C30CA5-36FC-4035-AE3E-DDF1961F8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D64A7E-4D43-411E-BC20-3BF2150C8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15BFAE-81FC-4AB4-9E58-BEDD831DA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A81C99-951C-48EC-8A93-A931194F1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9E2C1A-E77B-4804-ADD5-92DC9B08A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2E6114-1F2F-4B9A-9734-75221B434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7AFE69-8945-4324-9DC0-F4C5FF33D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16E26F-A05F-444A-AFAE-CD52C648E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BCAF83-7963-4C90-AF71-CBC72138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3ECC0-EDC4-4886-8617-575A6C1D6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6678E7-228C-4198-920E-7075D64DB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D050EB-0FDD-403A-B924-A5A13650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B59CBF-E083-4F3F-B356-4804BB5FC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F5A4E1-7B97-46DD-B68E-4E0FC7B9A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E24FD6-9042-4DC9-9662-89755703F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5D762-0F14-43CF-BE04-62304D4BC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D7355-A243-4E7F-AEFF-3D868C21D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844E6-8910-45B8-B2F3-71EAC6B1D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5E30B-5CFA-4220-AAF9-4694FE9DB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7451C-ACEF-4F5D-AC9F-E07EE459E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16C0-2998-4C2C-96A9-6A8525EE1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12B9E-0D56-44E9-8CFE-4ECFA752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195A1-08BC-4826-95B5-1B20A592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367D9-57E6-4F00-9021-FBF7A80C6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DE04B-435B-4AEE-BD5F-06F0D967D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72634-54FC-43E2-A832-24EC6E846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37CF3-5803-4B5A-A34F-90AADE5FE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A643B-CFCA-4F56-B0A5-C951E8BF7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87110-5753-494D-AA73-E3D9B52BB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DB1E0-235F-4D23-AC58-49A71D585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96C6F-3848-4840-8920-9C0919F54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48D7-BAFE-438D-B17C-D7E68EBA4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692BE-90C2-495C-9DF9-76B121297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CB150-86C3-436D-A32C-00EA1E8A1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8C3E7-C415-4352-AFE5-8AEA263EC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F1A0A-D400-4159-B5AC-DA299DFD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B8D77-4179-46EC-9BC8-D49B62140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E1493-CDED-40C9-8BDA-8D73757E8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D4A7A-82CE-478D-8C31-6092AD0EE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B6E9F-5F3F-4716-8A7F-0C7A44325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EABE7-17C4-4029-B412-7FE2E6668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28FF5-3F8C-4A9B-836D-F688AD147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B703-BC92-4A5B-9078-30D714000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FA477-8560-4721-BB58-C51DF3336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3DE45-146C-41EE-AAED-82AA1E322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EFD1E-A93B-4296-BB97-5F65C6C7A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12DD2-98BD-450B-A65D-994980A7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D2613-393B-44AF-AEC9-2F6CDDE6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5AF26-F10A-4404-9DD9-64453BAB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8BF1B-DDE0-435B-830A-28D042B2E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44C65-4D60-4821-969A-DB13E60AB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AF5DC-365D-4B9E-A88C-75F356E6E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80E187-9D20-4642-9CDA-A6A8AEFE6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4473-E156-465B-BC68-64424EF4C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CB4E7-3014-4333-958E-98F67844A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6F6D8E-A12D-40B1-97E4-501F57CF5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23406-EE6E-4EB6-B83F-9BFC896CC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0283B-EA1C-4D54-9943-D7E19943C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970D4-F19B-4524-9245-88F073FDA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F8FB64-EF73-43B5-9FF0-0E0465823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16029-35F8-4089-9B83-BE7405DA6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BB4315-06C9-4A44-8FDC-A5312719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9AD2E9-2CB6-4641-8119-4FD545EAE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8F2E0D-3087-4976-87B0-0A3FDCDA0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9B3D-69A3-4A70-8BD9-107C91B98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56C5E-FDD1-4E57-A848-CCA529638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0365C5-294E-4399-AD85-5EC6715C1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3E734C-BFFB-416E-86D6-371FAC1D6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FB9352-4D15-42B9-985B-D42BEECA2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0E3DF-97BA-4A0F-A057-74C848E57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164AB3-A427-4C3C-A9B2-DB994F379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99D277-B269-4BB3-B831-EC4A6BFA9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5AA79C-E577-436E-BE0A-A2645840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C9D8FA-11CF-4D55-B6B5-8D58273B5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75A943-01FA-4365-8A4D-F1997ECB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EAE6-32B5-4FDF-978C-BFC6E166B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25347B-67E8-4362-B597-892EC5805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141977-AB4E-4301-B664-46DCBD223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304AAB-2541-4954-A1B3-E07AAC5A9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48CF6D-9929-445F-9518-FEEE86ADF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B8AB0A-1980-4A86-A1F3-4305B3AD2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D5DD38-7C23-420C-80B6-5F6E7A5A9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32A0C1-D904-447C-B161-05CF7536E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234969-7C39-4A22-B56C-304E733CD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727ABE-7612-4B83-B4DD-4FAF1A6FC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07B1B2-F8D3-4B39-8974-15AB12F8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2224-E199-4AD7-BF87-B8270E72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1A861C-2B8F-458C-B9CC-9334BF9F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FF5E66-1134-42A3-9BFA-B6CF9568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E5D2DA-DCCA-4CA9-8112-F19E7C147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872CFD-26EE-43DE-B2D7-9D97893DE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C8C03F-E28E-452D-A9F9-B326A4122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B83702-D75A-4B20-A6A2-D77D558C5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D611D1-057D-41C5-BFBC-02A0B0E1A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D2AC46-7922-4D56-818F-CCFAD75B2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D4666-3C44-44A6-A5A5-32C014031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EA2DD7-B2D1-44E1-92CE-77C320C3A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68DE-00E4-48D4-8A2A-F3FB6C14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626AC9-ED0D-46AB-BB0F-74FCD1CAB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2CC8C3-B1D5-49BB-BE2C-DEB867116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19B99F-C267-44B4-A931-55F44CC21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3713A9-3101-4152-8CF2-07C9145B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4469FB-AD7B-44F6-ABF9-2A9B1372F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8B43ED-E6CA-4B0C-83FC-3DED20391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9F45E2-07BC-47D3-8703-DF992486B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231887-2186-4647-B3A4-F27C48C90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279B2F-1309-4B71-AA35-3DF902FEB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2A421F-6B08-4D7C-961B-826AD67E0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D5A66-EED0-49BE-BCF4-FC4742677B2B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39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8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29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23973-3EC1-4FEA-B9DD-3CB30BC7ED11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3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3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3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C42D6-8852-4D35-8703-4CA42DA71787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992CD-C427-4683-8C3D-36DB9B06D82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3"/>
          <a:stretch/>
        </p:blipFill>
        <p:spPr>
          <a:xfrm>
            <a:off x="771516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4"/>
          <a:stretch/>
        </p:blipFill>
        <p:spPr>
          <a:xfrm>
            <a:off x="533520" y="5867280"/>
            <a:ext cx="838080" cy="5428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F9412-404A-474E-AD57-FFA7647687C4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20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1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122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51" name="Picture 4" descr=""/>
          <p:cNvPicPr/>
          <p:nvPr/>
        </p:nvPicPr>
        <p:blipFill>
          <a:blip r:embed="rId3"/>
          <a:stretch/>
        </p:blipFill>
        <p:spPr>
          <a:xfrm>
            <a:off x="5334120" y="5181480"/>
            <a:ext cx="1447560" cy="9651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4" descr=""/>
          <p:cNvPicPr/>
          <p:nvPr/>
        </p:nvPicPr>
        <p:blipFill>
          <a:blip r:embed="rId4"/>
          <a:stretch/>
        </p:blipFill>
        <p:spPr>
          <a:xfrm>
            <a:off x="2362320" y="5181480"/>
            <a:ext cx="1039680" cy="10922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20530-F26B-4EA1-968D-43E0450E917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0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5E7A9-2997-4F10-8395-44B0E8B465A4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A52F9-8DF9-46A6-A7E7-384440280EB2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6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1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74D9F-1434-4885-BD45-9CB596CDA6D2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9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0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A9809-4781-48CF-A555-D3AF7C82AD2E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2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3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65E3A-1140-4B45-8E36-B84479138089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5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6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2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209D6-63EF-4B42-B08C-30D6A78C5A3E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erckebosch.nl/html/home.php" TargetMode="External"/><Relationship Id="rId3" Type="http://schemas.openxmlformats.org/officeDocument/2006/relationships/hyperlink" Target="http://www.kerckebosch.nl/html/home.php" TargetMode="External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499680" y="571680"/>
            <a:ext cx="8358120" cy="400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aa911"/>
                </a:solidFill>
                <a:latin typeface="Arial"/>
              </a:rPr>
              <a:t>VCA VO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a911"/>
                </a:solidFill>
                <a:latin typeface="Arial"/>
              </a:rPr>
              <a:t>Hoofdstuk 7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a911"/>
                </a:solidFill>
                <a:latin typeface="Arial"/>
              </a:rPr>
              <a:t>Managementsysteem en certificatie:</a:t>
            </a:r>
            <a:br>
              <a:rPr sz="4400"/>
            </a:br>
            <a:r>
              <a:rPr b="1" lang="en-US" sz="4400" spc="-1" strike="noStrike">
                <a:solidFill>
                  <a:srgbClr val="2aa911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2aa911"/>
                </a:solidFill>
                <a:latin typeface="Arial"/>
                <a:ea typeface="Tahoma"/>
              </a:rPr>
              <a:t>het fundament van VCA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AutoShape 5">
            <a:hlinkClick r:id="rId2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AutoShape 7">
            <a:hlinkClick r:id="rId3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Tijdelijke aanduiding voor dianummer 6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EA287-45C1-40A2-929B-4A0EBEFE31A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4  V&amp;G-actiepla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1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2B4FE-B0B9-433A-95C8-52D09A3A702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6" name="Groep 8"/>
          <p:cNvGrpSpPr/>
          <p:nvPr/>
        </p:nvGrpSpPr>
        <p:grpSpPr>
          <a:xfrm>
            <a:off x="1285920" y="1071360"/>
            <a:ext cx="2954160" cy="4818240"/>
            <a:chOff x="1285920" y="1071360"/>
            <a:chExt cx="2954160" cy="4818240"/>
          </a:xfrm>
        </p:grpSpPr>
        <p:sp>
          <p:nvSpPr>
            <p:cNvPr id="617" name="Parallellogram 6"/>
            <p:cNvSpPr/>
            <p:nvPr/>
          </p:nvSpPr>
          <p:spPr>
            <a:xfrm flipH="1" rot="5400000">
              <a:off x="1636200" y="997560"/>
              <a:ext cx="2122200" cy="2269080"/>
            </a:xfrm>
            <a:prstGeom prst="parallelogram">
              <a:avLst>
                <a:gd name="adj" fmla="val 25000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18" name="Rechthoek 5" descr=""/>
            <p:cNvPicPr/>
            <p:nvPr/>
          </p:nvPicPr>
          <p:blipFill>
            <a:blip r:embed="rId2"/>
            <a:stretch/>
          </p:blipFill>
          <p:spPr>
            <a:xfrm>
              <a:off x="1285920" y="1611360"/>
              <a:ext cx="2954160" cy="4278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9" name="Tekstvak 7"/>
          <p:cNvSpPr/>
          <p:nvPr/>
        </p:nvSpPr>
        <p:spPr>
          <a:xfrm>
            <a:off x="5143680" y="1428840"/>
            <a:ext cx="3000240" cy="3812040"/>
          </a:xfrm>
          <a:prstGeom prst="rect">
            <a:avLst/>
          </a:prstGeom>
          <a:noFill/>
          <a:ln w="28440">
            <a:solidFill>
              <a:srgbClr val="c016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lstell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ie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atregel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ddel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akverdel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14FA1-EA02-4955-B278-DFA970D9C5D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4  V&amp;G-actiepla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22" name="Tekstvak 5"/>
          <p:cNvSpPr/>
          <p:nvPr/>
        </p:nvSpPr>
        <p:spPr>
          <a:xfrm>
            <a:off x="571680" y="1285920"/>
            <a:ext cx="82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doel actieplan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zorgen dat vastgestelde risico’s bij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RIE en TR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worden beheerst door doeltreffende maatregel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Tekstvak 6"/>
          <p:cNvSpPr/>
          <p:nvPr/>
        </p:nvSpPr>
        <p:spPr>
          <a:xfrm>
            <a:off x="571680" y="3357720"/>
            <a:ext cx="8286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V&amp;G-actieplan bevat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maatregelen/acti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uitvoering (mensen, middelen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planning en eindtijd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verantwoordelijk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evaluatie (ook t.a.v. doel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4D3F3-2BB4-4CDA-9960-923FA9FEC3E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2aa911"/>
                </a:solidFill>
                <a:latin typeface="Arial"/>
              </a:rPr>
              <a:t>7.5 Taakrisicoanalyse (TRA)</a:t>
            </a:r>
            <a:br>
              <a:rPr sz="2800"/>
            </a:br>
            <a:r>
              <a:rPr b="1" lang="nl-NL" sz="2800" spc="-1" strike="noStrike">
                <a:solidFill>
                  <a:srgbClr val="2aa911"/>
                </a:solidFill>
                <a:latin typeface="Arial"/>
              </a:rPr>
              <a:t>en Laatste Minuut RisicoAnalyse (LMRA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26" name="Tekstvak 5"/>
          <p:cNvSpPr/>
          <p:nvPr/>
        </p:nvSpPr>
        <p:spPr>
          <a:xfrm>
            <a:off x="571680" y="1828800"/>
            <a:ext cx="8072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voordat je goede maatregelen kunt treffen,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moet je eerst de risico’s analyser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zeker als er geen goede veiligheidsprocedures zij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640DC-C519-401C-BE4E-531A594F7D1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Tekstvak 4"/>
          <p:cNvSpPr/>
          <p:nvPr/>
        </p:nvSpPr>
        <p:spPr>
          <a:xfrm>
            <a:off x="571680" y="417600"/>
            <a:ext cx="8572320" cy="57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TR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381240"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bij nieuwe machines, projecten of voorafgaand aan werkvergunningen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381240"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ook bij nieuwbouw, verbouw of inzetten van stagiairs, uitzendkrachten en jonger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381240"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TRA-karwei opsplitsen in taken en die weer in taakstapp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381240"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per taakstap de risico’s en de noodzakelijke (extra) beheersmaatregelen vaststell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381240"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zo nodig maatregelen aanpassen/nieuwe TRA uitvoeren als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7600" indent="-28548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condities zijn veranderd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7600" indent="-28548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het werkplan niet meer uitvoerbaar is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7600" indent="-28548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de installatie niet meer drukvrij of spanningsvrij is  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7600" indent="-28548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de  juiste middelen of gereedschappen niet beschikbaar zij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BCE4E-A8E0-44CF-A0FD-3F111A5EE59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0" name="Picture 7" descr=""/>
          <p:cNvPicPr/>
          <p:nvPr/>
        </p:nvPicPr>
        <p:blipFill>
          <a:blip r:embed="rId2"/>
          <a:stretch/>
        </p:blipFill>
        <p:spPr>
          <a:xfrm>
            <a:off x="0" y="5929200"/>
            <a:ext cx="714240" cy="495360"/>
          </a:xfrm>
          <a:prstGeom prst="rect">
            <a:avLst/>
          </a:prstGeom>
          <a:ln w="0">
            <a:noFill/>
          </a:ln>
        </p:spPr>
      </p:pic>
      <p:sp>
        <p:nvSpPr>
          <p:cNvPr id="631" name="Tekstvak 4"/>
          <p:cNvSpPr/>
          <p:nvPr/>
        </p:nvSpPr>
        <p:spPr>
          <a:xfrm>
            <a:off x="571680" y="511200"/>
            <a:ext cx="8572320" cy="52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Tahoma"/>
              </a:rPr>
              <a:t>LMR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uit te voeren risicocheck door de uitvoerende direct voor aanvang van zijn werkzaamheden bij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nieuwe taak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verandering van werk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en ook bij routinematige werkzaamheden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doel is dat werk zo nodig wordt gestopt en eerst de beheersmaatregelen worden getroff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Tahoma"/>
              </a:rPr>
              <a:t>middelen die worden gebruik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aandachtspuntenkaar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werkcheckcard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stop-check-go card …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LMRA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3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243D9-0E1C-4E6F-A1A5-14F516B6A69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Rechthoek 7"/>
          <p:cNvSpPr/>
          <p:nvPr/>
        </p:nvSpPr>
        <p:spPr>
          <a:xfrm>
            <a:off x="3571920" y="1000080"/>
            <a:ext cx="3408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andachtspuntenkaartje of werkcheckcard gebruiken,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kleinere kans dat je iets over het hoofd ziet…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5" name="Picture 7" descr="Scannen0001"/>
          <p:cNvPicPr/>
          <p:nvPr/>
        </p:nvPicPr>
        <p:blipFill>
          <a:blip r:embed="rId2"/>
          <a:srcRect l="3501" t="1212" r="19563" b="15335"/>
          <a:stretch/>
        </p:blipFill>
        <p:spPr>
          <a:xfrm>
            <a:off x="857160" y="1071720"/>
            <a:ext cx="2571840" cy="371952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10" descr="Scannen0002"/>
          <p:cNvPicPr/>
          <p:nvPr/>
        </p:nvPicPr>
        <p:blipFill>
          <a:blip r:embed="rId3"/>
          <a:srcRect l="0" t="15349" r="62584" b="6527"/>
          <a:stretch/>
        </p:blipFill>
        <p:spPr>
          <a:xfrm rot="983400">
            <a:off x="6754680" y="2332080"/>
            <a:ext cx="1600200" cy="246384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9" descr="Scannen0003"/>
          <p:cNvPicPr/>
          <p:nvPr/>
        </p:nvPicPr>
        <p:blipFill>
          <a:blip r:embed="rId4"/>
          <a:srcRect l="0" t="5832" r="0" b="21877"/>
          <a:stretch/>
        </p:blipFill>
        <p:spPr>
          <a:xfrm>
            <a:off x="3286080" y="2500200"/>
            <a:ext cx="2779920" cy="354348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12" descr="Scannen0005"/>
          <p:cNvPicPr/>
          <p:nvPr/>
        </p:nvPicPr>
        <p:blipFill>
          <a:blip r:embed="rId5"/>
          <a:srcRect l="0" t="0" r="4502" b="0"/>
          <a:stretch/>
        </p:blipFill>
        <p:spPr>
          <a:xfrm rot="17194200">
            <a:off x="6323760" y="2753280"/>
            <a:ext cx="250344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35CD2-458F-4E95-9EF4-4848234774A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272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6 Incidenten registrer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1" name="Tekstvak 6"/>
          <p:cNvSpPr/>
          <p:nvPr/>
        </p:nvSpPr>
        <p:spPr>
          <a:xfrm>
            <a:off x="609480" y="1371600"/>
            <a:ext cx="7000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wat registreren?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incident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ongevall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bijna-ongevall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onveilige situati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onveilige handeling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Tekstvak 7"/>
          <p:cNvSpPr/>
          <p:nvPr/>
        </p:nvSpPr>
        <p:spPr>
          <a:xfrm>
            <a:off x="571680" y="4000680"/>
            <a:ext cx="7072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waarom?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gegevens vastleggen voor de overheid en als basis voor bedrijfsbeleid om ervan te kunnen ler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2D917-97B3-438F-B7AE-0242EB5C475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272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7 Ongevallenonderzoek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5" name="Tekstvak 7"/>
          <p:cNvSpPr/>
          <p:nvPr/>
        </p:nvSpPr>
        <p:spPr>
          <a:xfrm>
            <a:off x="571680" y="974880"/>
            <a:ext cx="835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vaststellen en wegnemen van de oorzaken van een ongeval voorkomt herhal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Tekstvak 8"/>
          <p:cNvSpPr/>
          <p:nvPr/>
        </p:nvSpPr>
        <p:spPr>
          <a:xfrm>
            <a:off x="2786040" y="2049480"/>
            <a:ext cx="2624040" cy="2598840"/>
          </a:xfrm>
          <a:prstGeom prst="rect">
            <a:avLst/>
          </a:prstGeom>
          <a:solidFill>
            <a:srgbClr val="60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derzoek 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at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.s.m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to’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mstandigheden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Tekstvak 10"/>
          <p:cNvSpPr/>
          <p:nvPr/>
        </p:nvSpPr>
        <p:spPr>
          <a:xfrm>
            <a:off x="1357200" y="5072040"/>
            <a:ext cx="235764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nalyseren en combiner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Tekstvak 11"/>
          <p:cNvSpPr/>
          <p:nvPr/>
        </p:nvSpPr>
        <p:spPr>
          <a:xfrm>
            <a:off x="785880" y="3714840"/>
            <a:ext cx="1714320" cy="947160"/>
          </a:xfrm>
          <a:prstGeom prst="rect">
            <a:avLst/>
          </a:prstGeom>
          <a:solidFill>
            <a:srgbClr val="c4c4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uigen hor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49" name="Rechte verbindingslijn met pijl 13"/>
          <p:cNvCxnSpPr>
            <a:endCxn id="647" idx="0"/>
          </p:cNvCxnSpPr>
          <p:nvPr/>
        </p:nvCxnSpPr>
        <p:spPr>
          <a:xfrm>
            <a:off x="1787400" y="4714920"/>
            <a:ext cx="750240" cy="357840"/>
          </a:xfrm>
          <a:prstGeom prst="straightConnector1">
            <a:avLst/>
          </a:prstGeom>
          <a:ln w="57240">
            <a:solidFill>
              <a:srgbClr val="2aa911"/>
            </a:solidFill>
            <a:miter/>
            <a:tailEnd len="med" type="arrow" w="med"/>
          </a:ln>
        </p:spPr>
      </p:cxnSp>
      <p:cxnSp>
        <p:nvCxnSpPr>
          <p:cNvPr id="650" name="Rechte verbindingslijn met pijl 15"/>
          <p:cNvCxnSpPr/>
          <p:nvPr/>
        </p:nvCxnSpPr>
        <p:spPr>
          <a:xfrm flipH="1">
            <a:off x="2714400" y="4714920"/>
            <a:ext cx="1072080" cy="286560"/>
          </a:xfrm>
          <a:prstGeom prst="straightConnector1">
            <a:avLst/>
          </a:prstGeom>
          <a:ln w="57240">
            <a:solidFill>
              <a:srgbClr val="2aa911"/>
            </a:solidFill>
            <a:miter/>
            <a:tailEnd len="med" type="arrow" w="med"/>
          </a:ln>
        </p:spPr>
      </p:cxnSp>
      <p:cxnSp>
        <p:nvCxnSpPr>
          <p:cNvPr id="651" name="Rechte verbindingslijn met pijl 18"/>
          <p:cNvCxnSpPr>
            <a:stCxn id="647" idx="3"/>
            <a:endCxn id="652" idx="1"/>
          </p:cNvCxnSpPr>
          <p:nvPr/>
        </p:nvCxnSpPr>
        <p:spPr>
          <a:xfrm flipV="1">
            <a:off x="3714840" y="4990320"/>
            <a:ext cx="1838880" cy="554760"/>
          </a:xfrm>
          <a:prstGeom prst="straightConnector1">
            <a:avLst/>
          </a:prstGeom>
          <a:ln w="572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653" name="Tekstvak 21"/>
          <p:cNvSpPr/>
          <p:nvPr/>
        </p:nvSpPr>
        <p:spPr>
          <a:xfrm>
            <a:off x="609480" y="2362320"/>
            <a:ext cx="2000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onderzoek-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pla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Tekstvak 22"/>
          <p:cNvSpPr/>
          <p:nvPr/>
        </p:nvSpPr>
        <p:spPr>
          <a:xfrm>
            <a:off x="5572080" y="4071960"/>
            <a:ext cx="3038400" cy="1800360"/>
          </a:xfrm>
          <a:prstGeom prst="rect">
            <a:avLst/>
          </a:prstGeom>
          <a:solidFill>
            <a:srgbClr val="c4c4c4"/>
          </a:solidFill>
          <a:ln w="38160">
            <a:solidFill>
              <a:srgbClr val="000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pport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it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anbeveling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52543-239A-4241-B248-97CE8A31B69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8 Voorbereiden op noodsituatie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56" name="Tekstvak 4"/>
          <p:cNvSpPr/>
          <p:nvPr/>
        </p:nvSpPr>
        <p:spPr>
          <a:xfrm>
            <a:off x="642960" y="1643040"/>
            <a:ext cx="7786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noodpla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noodprocedures bekend stell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organiseren van de noodhulp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A6DE5-0540-4367-97B1-6BF407B1D1C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8 Voorbereiden op noodsituaties (2) 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659" name="Groep 5" descr=""/>
          <p:cNvPicPr/>
          <p:nvPr/>
        </p:nvPicPr>
        <p:blipFill>
          <a:blip r:embed="rId2"/>
          <a:stretch/>
        </p:blipFill>
        <p:spPr>
          <a:xfrm>
            <a:off x="963720" y="1352520"/>
            <a:ext cx="3705120" cy="4037040"/>
          </a:xfrm>
          <a:prstGeom prst="rect">
            <a:avLst/>
          </a:prstGeom>
          <a:ln w="0">
            <a:noFill/>
          </a:ln>
        </p:spPr>
      </p:pic>
      <p:sp>
        <p:nvSpPr>
          <p:cNvPr id="660" name="Tekstvak 8"/>
          <p:cNvSpPr/>
          <p:nvPr/>
        </p:nvSpPr>
        <p:spPr>
          <a:xfrm>
            <a:off x="5018040" y="2233440"/>
            <a:ext cx="3571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chrijving van maatregelen en voorzieningen om in noodsituaties effectief te kunnen optred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Tekstvak 9"/>
          <p:cNvSpPr/>
          <p:nvPr/>
        </p:nvSpPr>
        <p:spPr>
          <a:xfrm>
            <a:off x="4929120" y="4929120"/>
            <a:ext cx="385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het noodplan staan ook de noodprocedur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 Managementsysteem en certificatie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499680" y="1356840"/>
            <a:ext cx="86439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n van veiligheid met een syste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CA, wat is het, hoe werkt h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systeem: risicobeheersing 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eidsvoer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 VCA checklist: V&amp;G-actiepla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en VCA checklist: TRA en LMR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6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 VCA checklist: incidenten registre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7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 VCA checklist: ongevallenonderzoe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8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 VCA checklist: voorbereiding o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odsitua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29839-9F7A-456D-9A75-5ED24B423FE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2DB0A-1DE7-47DE-B635-C4693800EB9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700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8 Voorbereiden op noodsituaties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64" name="Tekstvak 4"/>
          <p:cNvSpPr/>
          <p:nvPr/>
        </p:nvSpPr>
        <p:spPr>
          <a:xfrm>
            <a:off x="928800" y="1285920"/>
            <a:ext cx="5214960" cy="703440"/>
          </a:xfrm>
          <a:prstGeom prst="rect">
            <a:avLst/>
          </a:prstGeom>
          <a:noFill/>
          <a:ln w="9360">
            <a:solidFill>
              <a:srgbClr val="2aa9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Arial"/>
                <a:ea typeface="Tahoma"/>
              </a:rPr>
              <a:t> </a:t>
            </a:r>
            <a:r>
              <a:rPr b="0" lang="en-US" sz="4000" spc="-1" strike="noStrike">
                <a:solidFill>
                  <a:srgbClr val="c00000"/>
                </a:solidFill>
                <a:latin typeface="Arial"/>
                <a:ea typeface="Tahoma"/>
              </a:rPr>
              <a:t>noodprocedures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Tekstvak 5"/>
          <p:cNvSpPr/>
          <p:nvPr/>
        </p:nvSpPr>
        <p:spPr>
          <a:xfrm>
            <a:off x="609480" y="2895480"/>
            <a:ext cx="2476800" cy="2135520"/>
          </a:xfrm>
          <a:prstGeom prst="rect">
            <a:avLst/>
          </a:prstGeom>
          <a:noFill/>
          <a:ln w="9360">
            <a:solidFill>
              <a:srgbClr val="2aa9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meld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ongevall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noodsituaties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alarmeren van hulpdienst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Tekstvak 6"/>
          <p:cNvSpPr/>
          <p:nvPr/>
        </p:nvSpPr>
        <p:spPr>
          <a:xfrm>
            <a:off x="3195720" y="2895480"/>
            <a:ext cx="2876400" cy="2135520"/>
          </a:xfrm>
          <a:prstGeom prst="rect">
            <a:avLst/>
          </a:prstGeom>
          <a:noFill/>
          <a:ln w="9360">
            <a:solidFill>
              <a:srgbClr val="2aa9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hulpverlen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EHBO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middel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oorzaak /dreiging wegnem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Tekstvak 7"/>
          <p:cNvSpPr/>
          <p:nvPr/>
        </p:nvSpPr>
        <p:spPr>
          <a:xfrm>
            <a:off x="6215040" y="2895480"/>
            <a:ext cx="2548080" cy="3141000"/>
          </a:xfrm>
          <a:prstGeom prst="rect">
            <a:avLst/>
          </a:prstGeom>
          <a:noFill/>
          <a:ln w="9360">
            <a:solidFill>
              <a:srgbClr val="2aa9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evacuati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plattegrond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waarschuwing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middel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verzamel-</a:t>
            </a: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	</a:t>
            </a: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 plaats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oefeningen </a:t>
            </a:r>
            <a:br>
              <a:rPr sz="2200"/>
            </a:b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(min.1x per jaar, met derden)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Rechte verbindingslijn 9"/>
          <p:cNvSpPr/>
          <p:nvPr/>
        </p:nvSpPr>
        <p:spPr>
          <a:xfrm flipV="1">
            <a:off x="1828800" y="1981080"/>
            <a:ext cx="1108080" cy="857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Rechte verbindingslijn 12"/>
          <p:cNvSpPr/>
          <p:nvPr/>
        </p:nvSpPr>
        <p:spPr>
          <a:xfrm>
            <a:off x="3536280" y="1996920"/>
            <a:ext cx="19080" cy="1363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Rechte verbindingslijn 14"/>
          <p:cNvSpPr/>
          <p:nvPr/>
        </p:nvSpPr>
        <p:spPr>
          <a:xfrm>
            <a:off x="5429160" y="1928880"/>
            <a:ext cx="1608120" cy="950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Tekstvak 16"/>
          <p:cNvSpPr/>
          <p:nvPr/>
        </p:nvSpPr>
        <p:spPr>
          <a:xfrm>
            <a:off x="3286080" y="228600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uitreiken !!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2" name="Picture 5" descr=""/>
          <p:cNvPicPr/>
          <p:nvPr/>
        </p:nvPicPr>
        <p:blipFill>
          <a:blip r:embed="rId2"/>
          <a:stretch/>
        </p:blipFill>
        <p:spPr>
          <a:xfrm>
            <a:off x="7358040" y="214200"/>
            <a:ext cx="16099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2F67C-CE11-462D-A84A-6F2C236A09F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272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8 Voorbereiden op noodsituaties (4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75" name="Tekstvak 5"/>
          <p:cNvSpPr/>
          <p:nvPr/>
        </p:nvSpPr>
        <p:spPr>
          <a:xfrm>
            <a:off x="609480" y="928800"/>
            <a:ext cx="824868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in het noodplan staat ook verdere info m.b.t. de noodorganisatie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a91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chikbare hulpbronn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odvoorzieningen en menskracht in eig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satie en exter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HV (bedrijfshulpverlening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ttelijk verplichte organisati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 EHBO, bestrijden beginnende brand 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odevacuati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leiden oefenen van optreden volgens het draaiboek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eel voorbereid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odplan test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bereiding personeel test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a911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6" name="Afbeelding 7" descr="back_bhv.jpg"/>
          <p:cNvPicPr/>
          <p:nvPr/>
        </p:nvPicPr>
        <p:blipFill>
          <a:blip r:embed="rId2"/>
          <a:srcRect l="25877" t="10844" r="6838" b="34966"/>
          <a:stretch/>
        </p:blipFill>
        <p:spPr>
          <a:xfrm>
            <a:off x="7072200" y="785880"/>
            <a:ext cx="18576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83EBC-B1CE-477E-91E4-3D2ED7785CF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Tekstvak 3"/>
          <p:cNvSpPr/>
          <p:nvPr/>
        </p:nvSpPr>
        <p:spPr>
          <a:xfrm>
            <a:off x="571680" y="1373040"/>
            <a:ext cx="8286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als je zaken regelt, wil je graag dat wat je georganiseerd hebt, in stand blijft en dat je niet de volgende dag opnieuw met hetzelfde moet beginn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dan kom je niet vooruit!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een managementsysteem is een hulpmiddel om wel vooruit te kom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267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1 Managen van veiligheid met een systeem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1 Managen van veiligheid met een systeem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571680" y="1499760"/>
            <a:ext cx="85723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76280" indent="-285840">
              <a:spcBef>
                <a:spcPts val="601"/>
              </a:spcBef>
              <a:buClr>
                <a:srgbClr val="2aa91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gever moet steeds voldoen aan wettelijke eisen, bijvoorbeeld Arbow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76280" indent="-285840">
              <a:spcBef>
                <a:spcPts val="601"/>
              </a:spcBef>
              <a:buClr>
                <a:srgbClr val="2aa91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gever moet ook afspraken nakomen die zijn gemaakt, zoals certificeringen, ca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de leidinggevende heeft een sleutelrol, maar dan moet er wel sprake zijn va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76280" indent="-285840">
              <a:spcBef>
                <a:spcPts val="601"/>
              </a:spcBef>
              <a:buClr>
                <a:srgbClr val="2aa91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en duidelijk bele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76280" indent="-285840">
              <a:spcBef>
                <a:spcPts val="601"/>
              </a:spcBef>
              <a:buClr>
                <a:srgbClr val="2aa91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formite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76280" indent="-285840">
              <a:spcBef>
                <a:spcPts val="601"/>
              </a:spcBef>
              <a:buClr>
                <a:srgbClr val="2aa91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voorwaarden als tijd, geld en budg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ff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757E3-C6B0-4CE1-8FE3-FA9578AD122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99680" y="-360"/>
            <a:ext cx="8272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2 VCA, wat is het, hoe werkt het 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500040" y="1077480"/>
            <a:ext cx="8501040" cy="455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0163a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GM  </a:t>
            </a:r>
            <a:r>
              <a:rPr b="0" lang="en-US" sz="3200" spc="-1" strike="noStrike">
                <a:solidFill>
                  <a:srgbClr val="c0163a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hecklist  </a:t>
            </a:r>
            <a:r>
              <a:rPr b="0" lang="en-US" sz="3200" spc="-1" strike="noStrike">
                <a:solidFill>
                  <a:srgbClr val="c0163a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anneme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en lijst met beheersingseisen  om risico’s te voorkomen als aannemers werk uitvoeren in situaties met verhoogd risico, zoals in de Petrochem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en certificaat is een keurmerk dat aantoont dat het bedrijf de VCA-regels toepa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checklist VCA 2008/05 kent 3 niveaus van certificering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CA*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CA**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CA Petrochem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7E19B-1566-41D5-BA06-141EE1AFA03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2 VCA, wat is het, hoe werkt het 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571320" y="1077480"/>
            <a:ext cx="8429400" cy="520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basis van de beheersing is voldoende kenni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VCA vereist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kopleid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gemene veiligheidsopleiding VCA basisveiligheid voor uitvoerend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CA VOL voor operationeel leidinggevend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leidingen voor hoogrisicotaken volgens de SSVV opleidingengi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opleidingen en medische gegevens kunnen worden aangetoond met een veiligheidspaspoort of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personal safety logboek (PS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42ABC-E3FB-4FAD-9F8F-A341FA7FA74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71680" y="-7668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3 Risicobeheersing en beleidsvoer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761760" y="1066320"/>
            <a:ext cx="7799400" cy="455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 van beleid is te zorgen voor planning van de preventie-uitvoer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gaat om een goede voorbereiding en leren van je ervaringen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it wordt weergegeven met de Deming-cirk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2E5BD-0EAE-47B8-904F-17C45CC1959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5" name="Gebogen pijl 4"/>
          <p:cNvGrpSpPr/>
          <p:nvPr/>
        </p:nvGrpSpPr>
        <p:grpSpPr>
          <a:xfrm>
            <a:off x="2651040" y="3749760"/>
            <a:ext cx="1049400" cy="895320"/>
            <a:chOff x="2651040" y="3749760"/>
            <a:chExt cx="1049400" cy="895320"/>
          </a:xfrm>
        </p:grpSpPr>
        <p:pic>
          <p:nvPicPr>
            <p:cNvPr id="586" name="Gebogen pijl 4" descr=""/>
            <p:cNvPicPr/>
            <p:nvPr/>
          </p:nvPicPr>
          <p:blipFill>
            <a:blip r:embed="rId2"/>
            <a:stretch/>
          </p:blipFill>
          <p:spPr>
            <a:xfrm>
              <a:off x="2651040" y="3749760"/>
              <a:ext cx="104940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2714760" y="3786120"/>
              <a:ext cx="92844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8" name="Gebogen pijl 5"/>
          <p:cNvGrpSpPr/>
          <p:nvPr/>
        </p:nvGrpSpPr>
        <p:grpSpPr>
          <a:xfrm>
            <a:off x="2541600" y="5273640"/>
            <a:ext cx="903240" cy="1041480"/>
            <a:chOff x="2541600" y="5273640"/>
            <a:chExt cx="903240" cy="1041480"/>
          </a:xfrm>
        </p:grpSpPr>
        <p:pic>
          <p:nvPicPr>
            <p:cNvPr id="589" name="Gebogen pijl 5" descr=""/>
            <p:cNvPicPr/>
            <p:nvPr/>
          </p:nvPicPr>
          <p:blipFill>
            <a:blip r:embed="rId3"/>
            <a:stretch/>
          </p:blipFill>
          <p:spPr>
            <a:xfrm>
              <a:off x="2541600" y="5273640"/>
              <a:ext cx="903240" cy="10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0" name=""/>
            <p:cNvSpPr/>
            <p:nvPr/>
          </p:nvSpPr>
          <p:spPr>
            <a:xfrm rot="16200000">
              <a:off x="2530440" y="5383440"/>
              <a:ext cx="9288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1" name="Gebogen pijl 6"/>
          <p:cNvGrpSpPr/>
          <p:nvPr/>
        </p:nvGrpSpPr>
        <p:grpSpPr>
          <a:xfrm>
            <a:off x="4584600" y="5394240"/>
            <a:ext cx="1041480" cy="897120"/>
            <a:chOff x="4584600" y="5394240"/>
            <a:chExt cx="1041480" cy="897120"/>
          </a:xfrm>
        </p:grpSpPr>
        <p:pic>
          <p:nvPicPr>
            <p:cNvPr id="592" name="Gebogen pijl 6" descr=""/>
            <p:cNvPicPr/>
            <p:nvPr/>
          </p:nvPicPr>
          <p:blipFill>
            <a:blip r:embed="rId4"/>
            <a:stretch/>
          </p:blipFill>
          <p:spPr>
            <a:xfrm>
              <a:off x="4584600" y="5394240"/>
              <a:ext cx="104148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"/>
            <p:cNvSpPr/>
            <p:nvPr/>
          </p:nvSpPr>
          <p:spPr>
            <a:xfrm rot="10800000">
              <a:off x="4643280" y="5428800"/>
              <a:ext cx="92880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4" name="Gebogen pijl 7"/>
          <p:cNvGrpSpPr/>
          <p:nvPr/>
        </p:nvGrpSpPr>
        <p:grpSpPr>
          <a:xfrm>
            <a:off x="4724280" y="3822840"/>
            <a:ext cx="901800" cy="1035000"/>
            <a:chOff x="4724280" y="3822840"/>
            <a:chExt cx="901800" cy="1035000"/>
          </a:xfrm>
        </p:grpSpPr>
        <p:pic>
          <p:nvPicPr>
            <p:cNvPr id="595" name="Gebogen pijl 7" descr=""/>
            <p:cNvPicPr/>
            <p:nvPr/>
          </p:nvPicPr>
          <p:blipFill>
            <a:blip r:embed="rId5"/>
            <a:stretch/>
          </p:blipFill>
          <p:spPr>
            <a:xfrm>
              <a:off x="4724280" y="3822840"/>
              <a:ext cx="901800" cy="103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"/>
            <p:cNvSpPr/>
            <p:nvPr/>
          </p:nvSpPr>
          <p:spPr>
            <a:xfrm rot="5400000">
              <a:off x="4714560" y="3929040"/>
              <a:ext cx="92844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7" name="Tekstvak 9"/>
          <p:cNvGrpSpPr/>
          <p:nvPr/>
        </p:nvGrpSpPr>
        <p:grpSpPr>
          <a:xfrm>
            <a:off x="3584520" y="3621240"/>
            <a:ext cx="1182600" cy="688680"/>
            <a:chOff x="3584520" y="3621240"/>
            <a:chExt cx="1182600" cy="688680"/>
          </a:xfrm>
        </p:grpSpPr>
        <p:pic>
          <p:nvPicPr>
            <p:cNvPr id="598" name="Tekstvak 9" descr=""/>
            <p:cNvPicPr/>
            <p:nvPr/>
          </p:nvPicPr>
          <p:blipFill>
            <a:blip r:embed="rId6"/>
            <a:stretch/>
          </p:blipFill>
          <p:spPr>
            <a:xfrm>
              <a:off x="3584520" y="3621240"/>
              <a:ext cx="1182600" cy="6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"/>
            <p:cNvSpPr/>
            <p:nvPr/>
          </p:nvSpPr>
          <p:spPr>
            <a:xfrm>
              <a:off x="3643200" y="3714840"/>
              <a:ext cx="1071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o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0" name="Tekstvak 10"/>
          <p:cNvGrpSpPr/>
          <p:nvPr/>
        </p:nvGrpSpPr>
        <p:grpSpPr>
          <a:xfrm>
            <a:off x="4511520" y="4694400"/>
            <a:ext cx="1670040" cy="688680"/>
            <a:chOff x="4511520" y="4694400"/>
            <a:chExt cx="1670040" cy="688680"/>
          </a:xfrm>
        </p:grpSpPr>
        <p:pic>
          <p:nvPicPr>
            <p:cNvPr id="601" name="Tekstvak 10" descr=""/>
            <p:cNvPicPr/>
            <p:nvPr/>
          </p:nvPicPr>
          <p:blipFill>
            <a:blip r:embed="rId7"/>
            <a:stretch/>
          </p:blipFill>
          <p:spPr>
            <a:xfrm>
              <a:off x="4511520" y="4694400"/>
              <a:ext cx="1670040" cy="6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"/>
            <p:cNvSpPr/>
            <p:nvPr/>
          </p:nvSpPr>
          <p:spPr>
            <a:xfrm>
              <a:off x="4572000" y="4786200"/>
              <a:ext cx="1554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check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3" name="Tekstvak 11"/>
          <p:cNvGrpSpPr/>
          <p:nvPr/>
        </p:nvGrpSpPr>
        <p:grpSpPr>
          <a:xfrm>
            <a:off x="1798560" y="4621320"/>
            <a:ext cx="1670040" cy="689040"/>
            <a:chOff x="1798560" y="4621320"/>
            <a:chExt cx="1670040" cy="689040"/>
          </a:xfrm>
        </p:grpSpPr>
        <p:pic>
          <p:nvPicPr>
            <p:cNvPr id="604" name="Tekstvak 11" descr=""/>
            <p:cNvPicPr/>
            <p:nvPr/>
          </p:nvPicPr>
          <p:blipFill>
            <a:blip r:embed="rId8"/>
            <a:stretch/>
          </p:blipFill>
          <p:spPr>
            <a:xfrm>
              <a:off x="1798560" y="4621320"/>
              <a:ext cx="167004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5" name=""/>
            <p:cNvSpPr/>
            <p:nvPr/>
          </p:nvSpPr>
          <p:spPr>
            <a:xfrm>
              <a:off x="1857240" y="4714920"/>
              <a:ext cx="1554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plan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6" name="Tekstvak 13"/>
          <p:cNvGrpSpPr/>
          <p:nvPr/>
        </p:nvGrpSpPr>
        <p:grpSpPr>
          <a:xfrm>
            <a:off x="3438360" y="5767560"/>
            <a:ext cx="1189080" cy="688680"/>
            <a:chOff x="3438360" y="5767560"/>
            <a:chExt cx="1189080" cy="688680"/>
          </a:xfrm>
        </p:grpSpPr>
        <p:pic>
          <p:nvPicPr>
            <p:cNvPr id="607" name="Tekstvak 13" descr=""/>
            <p:cNvPicPr/>
            <p:nvPr/>
          </p:nvPicPr>
          <p:blipFill>
            <a:blip r:embed="rId9"/>
            <a:stretch/>
          </p:blipFill>
          <p:spPr>
            <a:xfrm>
              <a:off x="3438360" y="5767560"/>
              <a:ext cx="1189080" cy="6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"/>
            <p:cNvSpPr/>
            <p:nvPr/>
          </p:nvSpPr>
          <p:spPr>
            <a:xfrm>
              <a:off x="3500280" y="5857920"/>
              <a:ext cx="1071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act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3 Risicobeheersing en beleidsvoering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571680" y="990360"/>
            <a:ext cx="8572320" cy="54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601"/>
              </a:spcBef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systematische beheersing wordt veelal bedrijfsbreed aangepak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t managementsysteem bevat de beschrijving van de uitgangspunten, regels, procedures en documenten die worden ingezet om de doelstellingen van het bedrijf te realise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kwijls is er een KAM-systeem (Kwaliteit Arbo Milieu);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wettelijk verplichte RIE is daarin opgenomen: </a:t>
            </a:r>
            <a:br>
              <a:rPr sz="2200"/>
            </a:br>
            <a:r>
              <a:rPr b="0" lang="en-US" sz="2200" spc="-1" strike="noStrike">
                <a:solidFill>
                  <a:srgbClr val="c0163a"/>
                </a:solidFill>
                <a:latin typeface="Arial"/>
              </a:rPr>
              <a:t>VCA eis 2.1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ze bestaat uit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81160" indent="-228600">
              <a:spcBef>
                <a:spcPts val="524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28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dentificeren van de gevaren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1181160" indent="-228600">
              <a:spcBef>
                <a:spcPts val="524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28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ventariseren van de risico’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1181160" indent="-228600">
              <a:spcBef>
                <a:spcPts val="524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28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valueren van de risico’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7B052-7755-44A8-A7F7-EA7D61DAFDA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270C8-69E0-478A-9D07-014BF11855F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Tekstvak 4"/>
          <p:cNvSpPr/>
          <p:nvPr/>
        </p:nvSpPr>
        <p:spPr>
          <a:xfrm>
            <a:off x="1357200" y="1246320"/>
            <a:ext cx="6643800" cy="3293280"/>
          </a:xfrm>
          <a:prstGeom prst="rect">
            <a:avLst/>
          </a:prstGeom>
          <a:noFill/>
          <a:ln w="9360">
            <a:solidFill>
              <a:srgbClr val="2aa9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enkele van de 47 VCA checklist-eisen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a911"/>
                </a:solidFill>
                <a:latin typeface="Arial"/>
                <a:ea typeface="Tahoma"/>
              </a:rPr>
              <a:t> </a:t>
            </a:r>
            <a:r>
              <a:rPr b="0" lang="en-US" sz="2800" spc="-1" strike="noStrike">
                <a:solidFill>
                  <a:srgbClr val="2aa911"/>
                </a:solidFill>
                <a:latin typeface="Arial"/>
                <a:ea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V&amp;G-actiepla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TRA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LMRA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incidentregistrati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ongevallenonderzoek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voorbereiding op noodsituati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15:19:44Z</dcterms:created>
  <dc:creator>de Groot</dc:creator>
  <dc:description/>
  <dc:language>en-US</dc:language>
  <cp:lastModifiedBy>jrijdes</cp:lastModifiedBy>
  <dcterms:modified xsi:type="dcterms:W3CDTF">2010-02-16T12:49:30Z</dcterms:modified>
  <cp:revision>244</cp:revision>
  <dc:subject/>
  <dc:title>Taak en positie VFP</dc:title>
</cp:coreProperties>
</file>