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0314-5507-4E92-9117-CF40F74D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BFF0-D227-4F0A-85B8-74C2DB99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498D-820E-4C20-A1A5-E15DBF8C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5570-43DC-4BFB-BC16-6380614B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854D-4030-471B-87FF-4A5B8833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FBD-C7F4-471B-9E2E-36F545D5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9ED8-C3E0-4696-95E8-DCD472F0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FD97-89A1-4FDA-9FD3-A386E689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BC5E-F0C7-42A8-BB7B-BF41F511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341-719A-4528-9885-4BA075B5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0BC-59E2-4848-9D27-134FB811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07A-3499-49D5-804A-7B212B6E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5CB313-3950-46FE-B45A-6CE74CA91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2880" y="58392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62080" y="2590560"/>
            <a:ext cx="5067360" cy="73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kvergun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9AE7-7DFE-4A00-BEE8-460267612DE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de toeganke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en en sleuven 2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tenzijde afzetting en waarschuwingsb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gangen altijd vrij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9400" y="6894360"/>
          <a:ext cx="1882800" cy="19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9400" y="6894360"/>
                    <a:ext cx="1882800" cy="19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7632-B19F-4751-8468-7F79A7B045A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89880" y="685800"/>
            <a:ext cx="4659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ILIG WER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200" y="8381880"/>
            <a:ext cx="6648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BESLOTEN RUIM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puh" descr=""/>
          <p:cNvPicPr/>
          <p:nvPr/>
        </p:nvPicPr>
        <p:blipFill>
          <a:blip r:embed="rId1"/>
          <a:stretch/>
        </p:blipFill>
        <p:spPr>
          <a:xfrm>
            <a:off x="444600" y="2819520"/>
            <a:ext cx="6348240" cy="443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A86E-8F87-4312-8C1E-D0BBAB918823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7640" y="480960"/>
            <a:ext cx="5992920" cy="887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F8BB-F775-4907-BA6B-A3202F8F2578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9200" y="262080"/>
            <a:ext cx="61531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42880" y="1328760"/>
            <a:ext cx="6153120" cy="850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b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03720" y="5589720"/>
          <a:ext cx="190044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3720" y="5589720"/>
                    <a:ext cx="190044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032440" y="7799400"/>
          <a:ext cx="189216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2440" y="7799400"/>
                    <a:ext cx="189216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075280" y="1074600"/>
          <a:ext cx="1805040" cy="18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5280" y="1074600"/>
                    <a:ext cx="18050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033880" y="3241800"/>
          <a:ext cx="1887480" cy="18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33880" y="3241800"/>
                    <a:ext cx="18874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EBE-79BD-4AC0-98C7-C0660F553B2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2880" y="337680"/>
            <a:ext cx="6153120" cy="11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42880" y="1709280"/>
            <a:ext cx="6153120" cy="796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schoei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he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afhankelijke adem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205240" y="5210280"/>
          <a:ext cx="200376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240" y="5210280"/>
                    <a:ext cx="200376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189400" y="3227400"/>
          <a:ext cx="188280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9400" y="3227400"/>
                    <a:ext cx="18828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110200" y="1251000"/>
          <a:ext cx="1887480" cy="190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10200" y="1251000"/>
                    <a:ext cx="188748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186520" y="7524720"/>
          <a:ext cx="2041200" cy="201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6520" y="7524720"/>
                    <a:ext cx="204120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4A5-A86D-45FC-BE5A-85D7F533C74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ren elektriciteit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hogere tempera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vo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lal metaal en dus goede gele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e ruimte, waardoor elektrakabels ongeord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BFE9-4C67-4EE6-A81E-E0E486D2A7E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2135160"/>
            <a:ext cx="6832440" cy="632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4D90-C61A-404C-BA01-FC7F8BD1D896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 te voorkomen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te verrichten met een veilige sp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0080" y="5416560"/>
            <a:ext cx="5550120" cy="14349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Volt wissel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4120" y="7854840"/>
            <a:ext cx="562608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 Volt gelijk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C353-09D2-4C95-BE4E-B35A48FB374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werkvergunning is bedo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 de volgende zaken goed 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eg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dende afspraken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vastleggen van de voorwaarden waaronder gewerkt dient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EF2-0D0F-4B44-AE42-3AEFDD932A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te onderdelen op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verstrekkende af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de 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krachtiging door verschillende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7800" y="7778880"/>
            <a:ext cx="6235920" cy="1968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36720" y="7894800"/>
            <a:ext cx="6111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de betrokkenen 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mplaar va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heb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A118-B52E-411D-B933-FE2E96EC31E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9200" y="5666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2880" y="1828440"/>
            <a:ext cx="6153120" cy="76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erg kleine werkplek, waardoor moeilijk te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slecht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kleine in- en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weinig 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dag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98A7-87CF-46B2-A2CF-ECC9279D3AC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2880" y="2319480"/>
            <a:ext cx="6153120" cy="74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gevaren in een besl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 en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toffen en zuurstofgeb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len en strui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1987560"/>
            <a:ext cx="5931000" cy="341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17600" y="2133720"/>
            <a:ext cx="46720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orbeelden besloten ruim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slag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010-A125-4684-BDD9-7BD4772B46B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 &amp; Explo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 voor brand en explos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nig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bare stoffen in 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zorgen voor brandbare 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er geen brandbare stoffen in de ruimte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voor ventilatie d.m.v. lucht in bla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1AD-556F-47AD-87EB-1406D1490AB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arlijke stoffen en zuurstoftek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komen giftige stoffen in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oten 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verdamping van resten van de inhoud van een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 de wanden door verhitting en schoon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het werk dat wordt uitgevo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 buiten de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CA1E-3AAF-43BD-A2C5-52E68A82879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 bij werken in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reidend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rganisatie, toezicht en verblijfsduur, metin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tijdens het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gemene maatregelen, ventileren, maatregelen bij lassen, slijpen, schilderen en bij overige werkzaamhe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EB67-AFE2-4339-A7C1-3FD00D9BAAB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2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n is W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51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betreden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skundig personeel al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en 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zuurstof (21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L (&lt;10 % L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waa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6920" y="7245360"/>
            <a:ext cx="6692760" cy="2502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9520" y="7405560"/>
            <a:ext cx="53499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OIT FILTERBU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700520" y="7553160"/>
          <a:ext cx="1946520" cy="19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0520" y="7553160"/>
                    <a:ext cx="194652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762440" y="7620120"/>
            <a:ext cx="1905120" cy="1904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686120" y="7620120"/>
            <a:ext cx="1904760" cy="18288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928-CDA9-459B-A3E4-7A9CA572DB0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8:09:42Z</dcterms:created>
  <dc:creator>Hajo Kleijburg</dc:creator>
  <dc:description>Revisie 0</dc:description>
  <dc:language>en-US</dc:language>
  <cp:lastModifiedBy>inge</cp:lastModifiedBy>
  <cp:lastPrinted>2000-04-30T14:28:28Z</cp:lastPrinted>
  <dcterms:modified xsi:type="dcterms:W3CDTF">2003-11-25T19:44:47Z</dcterms:modified>
  <cp:revision>21</cp:revision>
  <dc:subject>Les 8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