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98C-51AE-4EFA-A5E6-FB2FF65A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FCC-568F-48D0-8AD7-17627B02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9F2-6E12-4F7F-8E76-2F142502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752-FE41-4E1A-876A-3DD109D4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B32-B98F-45C3-A344-FEABBEA1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D21-8351-41ED-8926-7A2EA1D2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EAE-B45D-4C5B-B7A1-EBCB75AC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0F3-77D3-4E3A-90F3-39F34775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CD6-DF8C-4A86-954A-11DD55E4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2BA-8AFA-4852-AA3B-BCC334EC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A42-6745-4FF7-9401-8BE56FE3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AAA-8965-47E9-B904-32344628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9B27-6DCC-43CB-A42F-A78E1633773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54880" y="3048120"/>
            <a:ext cx="16891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0280" y="3578400"/>
            <a:ext cx="1725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s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lucht 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86520" y="0"/>
            <a:ext cx="215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stalen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en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len neus en stalen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kleding wisselen indie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nasgordels goed passend en afgestemd zijn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harnasgordels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harnasgordels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7120" y="2561400"/>
              <a:ext cx="460080" cy="994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438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ndom het gehele 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2640" y="1523880"/>
            <a:ext cx="1584360" cy="12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3200400"/>
            <a:ext cx="158436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1480" y="4718160"/>
            <a:ext cx="1352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autogeen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48520" y="2359080"/>
            <a:ext cx="1798560" cy="16225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48520" y="4498920"/>
            <a:ext cx="1773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4:13Z</dcterms:modified>
  <cp:revision>36</cp:revision>
  <dc:subject/>
  <dc:title>Test</dc:title>
</cp:coreProperties>
</file>