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C17-EB01-4FDE-8DCD-D4371F13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83E-3712-4C64-912F-734E0A09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8F8-6245-4053-8A53-AA4FE975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A61-B96E-44DD-BA36-1F6C0A07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EF2-00D9-4D23-B994-1CBD4D14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709-FF20-4A1E-9612-5B42319C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6D9-CBC6-405A-BA54-279080A8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4A7-21BC-4476-B51B-896CACC7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D92-9CE0-4513-AAD8-35E06957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43F-61CC-48F8-B827-3364DE8E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7A0-4B21-4644-B13F-122ADDA1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229-FE7B-4105-BDD6-1F0427ED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7F2C-3FB0-4546-9B35-2A1AEFDE9E8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2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Wetten en reg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1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5181480" y="2670120"/>
            <a:ext cx="1590840" cy="187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1603440" y="1749600"/>
            <a:ext cx="1620720" cy="1931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987480" cy="866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4"/>
          <a:stretch/>
        </p:blipFill>
        <p:spPr>
          <a:xfrm>
            <a:off x="7467480" y="4343400"/>
            <a:ext cx="963720" cy="857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3352680" y="52578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http://www.biname.be/images/produits/signalisation/signalweb.gif"/>
          <p:cNvPicPr/>
          <p:nvPr/>
        </p:nvPicPr>
        <p:blipFill>
          <a:blip r:embed="rId6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aan dat er een gevaar i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lakt of geschild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linten: wit-rood of geel-zw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od-witte hekken worden ook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biname.be/images/produits/signalisation/barriere.gif"/>
          <p:cNvPicPr/>
          <p:nvPr/>
        </p:nvPicPr>
        <p:blipFill>
          <a:blip r:embed="rId1"/>
          <a:stretch/>
        </p:blipFill>
        <p:spPr>
          <a:xfrm>
            <a:off x="3581280" y="5334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biname.be/images/produits/signalisation/ballisage.gif"/>
          <p:cNvPicPr/>
          <p:nvPr/>
        </p:nvPicPr>
        <p:blipFill>
          <a:blip r:embed="rId2"/>
          <a:stretch/>
        </p:blipFill>
        <p:spPr>
          <a:xfrm>
            <a:off x="6477120" y="3962520"/>
            <a:ext cx="1137960" cy="1137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l-zwarte mar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tr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eft bovenste en/of de onderste trede 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 of witte strepen worden ook gebruikt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te ge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B: voor het aangeven van een explosiegevaarlijke zone, wordt het waarschuwingsbord met de letters EX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934320" y="228600"/>
            <a:ext cx="169992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eidsplaatsen en projectloc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én werknemer moeten ongeval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st voorkomende ongeval is onderuitgaan bij het lop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in normaal tempo lo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 </a:t>
            </a:r>
            <a:br>
              <a:rPr sz="2800"/>
            </a:br>
            <a:r>
              <a:rPr b="1" i="1" lang="nl-NL" sz="2800" spc="-1" strike="noStrike">
                <a:solidFill>
                  <a:srgbClr val="ff0000"/>
                </a:solidFill>
                <a:latin typeface="Arial"/>
              </a:rPr>
              <a:t>bronbestrij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besteden bij ontwerp en werk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mens en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fbeelding 4" descr="Aquallure%201.jpg"/>
          <p:cNvPicPr/>
          <p:nvPr/>
        </p:nvPicPr>
        <p:blipFill>
          <a:blip r:embed="rId1"/>
          <a:stretch/>
        </p:blipFill>
        <p:spPr>
          <a:xfrm>
            <a:off x="5638680" y="346716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</a:t>
            </a: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plichten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el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o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angegeven, voorziene wegen en paden    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en k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eigen veiligheid en gezondheid en voor die van 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gevaren of bijna-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werk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goede manier gebrui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, vervoermiddel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 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brachte beveil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juiste 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der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chten van de werknem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breking van werk bij ernsti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or me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6029280" y="3206880"/>
            <a:ext cx="31082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verplicht de Europese Richtlijnen te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geving gaat zelfs verd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Arbo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nspectie SZ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5 Deskundige bij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f meer deskundi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edrijfsgezondheidsz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rijfsarts is belang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is verantwoorde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6 Toezicht op V+G 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spectiediensten, waaronder de inspectie SZW, hebben de volgende taken en rech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ntroleren naleven van de wet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isen naleving van de 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ngevallen onderz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illeggen werk bij ernstig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ces-verbaal schrijven bij strafbaar f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ragen geldige legitimati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zoeken van alle werkp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MPj04373830000[1]"/>
          <p:cNvPicPr/>
          <p:nvPr/>
        </p:nvPicPr>
        <p:blipFill>
          <a:blip r:embed="rId1"/>
          <a:srcRect l="0" t="0" r="35723" b="0"/>
          <a:stretch/>
        </p:blipFill>
        <p:spPr>
          <a:xfrm>
            <a:off x="6975360" y="2154240"/>
            <a:ext cx="2168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7 Milieu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chadelijke gevolgen van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oot milieubelastende stoffen en afvalstrom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doelmatige en correcte verwijdering van afval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8 Arbeidstijden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aximale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inimale</a:t>
            </a: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sttij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dat werken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aken/gezin gecombineer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ne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6400800" y="3749760"/>
            <a:ext cx="273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1 Invloed van Euro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lid van de Europese U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ten moeten zo nodig worden aangep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CE-marker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-markering op machines en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.b.t. veiligheid voldoen CE-producten aan de betreffende Europese richtl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CE-gemarkeerde arbeidsmiddelen mogen op de markt worden gebracht en worden gebru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6559560" y="6480"/>
            <a:ext cx="27241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ver veilig en gezond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eidsomstandighedenwet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langrijkste wet op het gebie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en gezondheid bij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werknemers bij het werk bescherm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verbeteren van de veilig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de gezondheid en het wel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 op alle plaatsen waar gewerkt word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o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werkgevers én werknem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  <a:ea typeface="Arial"/>
              </a:rPr>
              <a:t>werkge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rkgever van het bedrijf waar je in dienst b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aar ook degene die jou aanwijzingen geeft, toezicht houdt en middelen verstre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werkne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vaste/tijdelijke dien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gi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willig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at de werknemer veilig werkt 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ezondheidsschade oploopt door het wer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ls de werkgever dat niet goed doet, kan hij gestraft worden en zal hij de schade aan de werknemer moeten vergoe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33360" y="1500120"/>
            <a:ext cx="6948720" cy="4633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43000" y="152388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752120"/>
            <a:ext cx="6172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Arial"/>
                <a:ea typeface="Arial"/>
              </a:rPr>
              <a:t>staat de werkgever voor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0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http://www.pictoshop.nl/pictogrammen2009.gif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200016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8T08:16:23Z</dcterms:modified>
  <cp:revision>74</cp:revision>
  <dc:subject/>
  <dc:title>PowerPoint-presentatie</dc:title>
</cp:coreProperties>
</file>