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B00-5811-469D-97D2-2380959B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2A2-B7AC-4EE5-9893-D50F8F8C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5F9-3F67-45B3-B3A2-6E12C7CF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986-FD10-4423-83FE-95367735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A7C-F0F3-4022-8B78-468C2AEE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8A8-DB27-42CF-AB92-205F9451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0E0-5C88-428C-BB65-D72868F3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6FCF-13E7-4F16-8BA3-AD8C3E94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3B3-80DD-40A4-9D46-3546F5A6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AD8E-CEF2-4D02-BAA0-6AD37FA2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1FF4-ADBD-4BF1-AA8E-6B864D37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068-8522-4642-A22C-304F9990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E182-626F-4EA7-8B55-EFAA8A906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fbeelding 5" descr="tank.jpg"/>
          <p:cNvPicPr/>
          <p:nvPr/>
        </p:nvPicPr>
        <p:blipFill>
          <a:blip r:embed="rId2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5" name="Afbeelding 9" descr="vervuilde-grond.jpg"/>
          <p:cNvPicPr/>
          <p:nvPr/>
        </p:nvPicPr>
        <p:blipFill>
          <a:blip r:embed="rId3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6" descr="riool1.jpg"/>
          <p:cNvPicPr/>
          <p:nvPr/>
        </p:nvPicPr>
        <p:blipFill>
          <a:blip r:embed="rId4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,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,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,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binnentreden van de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3. Toegang tot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4.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5.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fbeelding 4" descr="mangatwacht_1.jpg"/>
          <p:cNvPicPr/>
          <p:nvPr/>
        </p:nvPicPr>
        <p:blipFill>
          <a:blip r:embed="rId2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Afbeelding 4" descr="hoofdpijn01.jpg"/>
          <p:cNvPicPr/>
          <p:nvPr/>
        </p:nvPicPr>
        <p:blipFill>
          <a:blip r:embed="rId2"/>
          <a:stretch/>
        </p:blipFill>
        <p:spPr>
          <a:xfrm>
            <a:off x="6632640" y="3346560"/>
            <a:ext cx="2511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al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fbeelding 5" descr="medisafe-pbm-medium.jpg"/>
          <p:cNvPicPr/>
          <p:nvPr/>
        </p:nvPicPr>
        <p:blipFill>
          <a:blip r:embed="rId2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4" descr="imagesCANB9EWE.jpg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1.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 of harnasgor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gnetten aanbrengen eventueel harnasgor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fbeelding 5" descr="imagesCAU1R4VZ.jpg"/>
          <p:cNvPicPr/>
          <p:nvPr/>
        </p:nvPicPr>
        <p:blipFill>
          <a:blip r:embed="rId2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opstellen onder ca. 75 gra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Afbeelding 5" descr="imagesCAXI9X3V.jpg"/>
          <p:cNvPicPr/>
          <p:nvPr/>
        </p:nvPicPr>
        <p:blipFill>
          <a:blip r:embed="rId2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fbeelding 6" descr="2-verdiepingen-in-steigers-.jpg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4.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nasgordel dragen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V5URG7.jpg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5.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en gereedschap naar boven hij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niet verplaatsen met iemand op de rol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dat de steun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Afbeelding 7" descr="rol.jpg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Explosiegevaarlijke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7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8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6.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en in de werkbak moeten harnasgorde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Afbeelding 4" descr="imagesCAGWZ8M8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k gevaren zoals omvallen van de hoogwerker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5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4" descr="imagesCAG0ZOPZ.jpg"/>
          <p:cNvPicPr/>
          <p:nvPr/>
        </p:nvPicPr>
        <p:blipFill>
          <a:blip r:embed="rId2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fbeelding 4" descr="stock-photo-demolution-2527839.jpg"/>
          <p:cNvPicPr/>
          <p:nvPr/>
        </p:nvPicPr>
        <p:blipFill>
          <a:blip r:embed="rId2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7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ijderen van asbest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Afbeelding 4" descr="asbestos-remov.jpg"/>
          <p:cNvPicPr/>
          <p:nvPr/>
        </p:nvPicPr>
        <p:blipFill>
          <a:blip r:embed="rId2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2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2 Explosiegevaarlijke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centraties boven LEL zijn mogelij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r voorkoming van ontsteking, bijvoorbee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veilige verlichting en -schakela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aal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in plaats van elektrisch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7" descr="Besloten.jpg"/>
          <p:cNvPicPr/>
          <p:nvPr/>
        </p:nvPicPr>
        <p:blipFill>
          <a:blip r:embed="rId3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3:06Z</dcterms:modified>
  <cp:revision>52</cp:revision>
  <dc:subject/>
  <dc:title>Test</dc:title>
</cp:coreProperties>
</file>