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66413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9080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1600" y="-1440"/>
            <a:ext cx="290844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12280" y="741240"/>
            <a:ext cx="5683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90808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1600" y="9284760"/>
            <a:ext cx="290844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6BBB-1B94-49B9-9422-2C95270652B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01960" y="9285120"/>
            <a:ext cx="2908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8D6A-AF72-45C7-B0ED-CA2D73EB904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515880" y="741240"/>
            <a:ext cx="5676840" cy="3649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D70-E63E-4499-983D-535953EC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5B9-A9B4-4F04-AC4E-83F98B0E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403-F363-4AC6-80CE-39F02AF7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EAD-5824-4EA7-837D-F45A63E0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A2E-BECB-465C-991C-7E6654AF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3DA-A48C-404C-947D-7155CF3A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C89-5F62-4C33-9718-BB323E47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AB1-E34C-40AD-ACD0-DD5158A7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09120"/>
            <a:ext cx="9067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8FE-65A7-4CC2-85EA-44ABB614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919-42F3-4C38-84FC-7C070AF6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39E9-80E2-4F65-A77A-19274800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DA8-1213-4DB2-84FA-33F3BAB3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67000"/>
          </a:bodyPr>
          <a:p>
            <a:pPr marL="277560" indent="-27756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600480" indent="-23040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2" marL="925200" indent="-1846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18468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5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6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248520"/>
            <a:ext cx="222228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248520"/>
            <a:ext cx="33782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lstStyle>
            <a:lvl1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  <a:defRPr b="0" lang="nl-NL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9BB0EC98-5E42-4AC5-8DEA-1806ED831DB2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FE2AE728-D4CD-4422-A090-16A9FF7B8AD9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1720" y="314280"/>
            <a:ext cx="9122040" cy="11556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63760" y="1755360"/>
            <a:ext cx="7502400" cy="41720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438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6231899D-17A0-4D25-8E38-CA59C2F37FAD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chzelf en anderen niet in gevaar br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uist gebruik beveiligingen machines, materiaal en pb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leven voorschriften en 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lden van gevaarlijke situ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zoek Arbodeskun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90A789F0-6254-4DC8-897F-DACADD2C8C1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 op werkonderbre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voorwaarden verbonden en w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r redelijk oordeel acuut, ernstig gevaar bestaat voor pers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aan bedrijfsleiding of werkg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bereiken overeenstemming A.I. niet no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EA8387A6-C84E-4063-919D-E07F8FACBB6E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Deskundige insta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heid aanwezig op het gebied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een adviserende functie r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8DE2FD90-AE9D-458F-9119-94F3764A5DF9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0280" y="3808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ezicht &amp; 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0280" y="12949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8000"/>
          </a:bodyPr>
          <a:p>
            <a:pPr marL="40572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Arbeidsinspectie (A.I.) m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roevingen en metingen d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to’s en tekeningen m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sters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werpen mee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 algn="ctr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Iedereen mo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odzakelijke gegevens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lichtingen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ogelijk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aarschuwing g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etes opleg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 stilleggen of een combinatie hier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969A67D2-62F0-464E-A899-79495DF8C921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ijn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 geldt niet voor delfstoffenindustr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voor is de mij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jnwet verschil t.o.v. Arbowet is dat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antwoordelijkheid voor het veil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rgelegd is bij de eigenaar winningsloc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619E6D1D-752E-456A-83C4-EA8DC33F81A9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0280" y="2286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iligheid en de 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829800" cy="518148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90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wet van Van Hou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arbeid verb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- en rustt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ygië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jnwet (nu Mijnwet Continentaal Plat) 19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6383160" y="1363680"/>
            <a:ext cx="80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0" y="2057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952880" y="2819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267080" y="45720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891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78912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83664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37609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3760920" y="2286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H="1">
            <a:off x="365616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H="1">
            <a:off x="5333760" y="2133720"/>
            <a:ext cx="236196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95FE6898-3B07-4423-AF52-833B4849A22A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- en regel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informatieb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 (NEN, EN, I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2610000" y="1912680"/>
            <a:ext cx="2652480" cy="42591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H="1" flipV="1">
            <a:off x="6781680" y="1905120"/>
            <a:ext cx="2756160" cy="42638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5262480" y="1905120"/>
            <a:ext cx="1519200" cy="79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2590920" y="6172200"/>
            <a:ext cx="6933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2683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DFBB66C4-A27F-4E77-8DB1-10D4D5170FED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 is een RAAM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93000"/>
          </a:bodyPr>
          <a:p>
            <a:pPr marL="385200"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2311920" indent="0">
              <a:spcBef>
                <a:spcPts val="601"/>
              </a:spcBef>
              <a:buNone/>
              <a:tabLst>
                <a:tab algn="l" pos="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8 uitvoerings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A.M.v.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40 Ministerië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uiten =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(minister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Besluite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bobeslui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1 Arboreg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Informatiebladen (vroeger P-Bla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404280" y="1905120"/>
            <a:ext cx="82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412920" y="190512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12920" y="508968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73836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328140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369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598788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56424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927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738360" y="30481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738360" y="46483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692520" y="30481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692520" y="46483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564240" y="30481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6564240" y="46483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9"/>
          <p:cNvSpPr/>
          <p:nvPr/>
        </p:nvSpPr>
        <p:spPr>
          <a:xfrm flipH="1">
            <a:off x="9969120" y="1905120"/>
            <a:ext cx="46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0AB55019-3053-474F-BD0A-1EB68F86302E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953460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86000"/>
          </a:bodyPr>
          <a:p>
            <a:pPr marL="35604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van veiligheid, gezondheid en welzij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menten van de Arbowet zij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tdurend verbet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gever eerst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ook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actief betrok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0" lang="nl-NL" sz="3200" spc="-1" strike="noStrike">
                <a:solidFill>
                  <a:srgbClr val="ccccff"/>
                </a:solidFill>
                <a:latin typeface="Arial"/>
              </a:rPr>
              <a:t>medeverantwoor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uw arbeidsomstandigheden </a:t>
            </a:r>
            <a:r>
              <a:rPr b="0" i="1" lang="nl-NL" sz="3200" spc="-1" strike="noStrike">
                <a:solidFill>
                  <a:srgbClr val="ff0033"/>
                </a:solidFill>
                <a:latin typeface="Arial"/>
              </a:rPr>
              <a:t>en dat is niet n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98400" y="50166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98400" y="61722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9840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982044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E7A2BBA3-3D40-4C7B-A789-AECABA5113AA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 Inventarisatie &amp; Eval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weten welke risic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door gecertificeerde Arbodie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arlijks controleren op 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2A4DEFA4-9C81-4C3D-AC97-E97AD205E061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werk zo inrichten dat geen gevaar voor veiligheid en gezondheid be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goede arbeids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en beroepsziekten melden bij A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lichting en instructie geven over het soort werk en hun gev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BM’s te verstr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943600" y="4778280"/>
            <a:ext cx="2079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DD1DA5D1-792D-492A-86D0-642101A72F5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de juiste beschermingsmiddelen en toezicht houden op het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heersmaatregelen om risico’s zo laag mogelijk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machines en apparatuur aanscha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AEB16CD6-B424-448E-B2C6-F53360AA04AC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3000"/>
          </a:bodyPr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estrijden bij de b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passen van het werk op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helpen aan de persoonlijke ontwikk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ai en geestdodend werk verm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persoonlijke eigen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verzorgen tussen de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aan goede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oor d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bedrijfshulpverleners bij ongevallen en calamiteiten bestrij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19:03:59Z</dcterms:created>
  <dc:creator>Hajo Kleijburg</dc:creator>
  <dc:description>Revisie 0</dc:description>
  <dc:language>en-US</dc:language>
  <cp:lastModifiedBy>Hans Mulder</cp:lastModifiedBy>
  <cp:lastPrinted>2000-05-31T15:24:46Z</cp:lastPrinted>
  <dcterms:modified xsi:type="dcterms:W3CDTF">2016-10-03T10:32:54Z</dcterms:modified>
  <cp:revision>21</cp:revision>
  <dc:subject>Les 1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