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BDC-62E6-475A-B46D-27867A2C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613-2EEF-43C0-B30F-219FBC4C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E2F-5196-490D-BD31-79A86A07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9A9-5F9B-4AC4-861B-50CF40EA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FD7-A318-4CDD-B633-A7CD8A32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180-4429-4E8F-B965-5DA77D39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576-350D-42AB-8691-D988D2E7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382-D0E6-4FD9-A5FD-860525D8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27B-883C-4A7C-901E-5CE0A5E6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4AC-18BD-4614-BD71-B812212E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EF6D-441E-4AC4-A7C7-F9744CC8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40C-362E-4E62-BA99-DC811389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0087-3E95-456E-8363-6512DA100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fbeelding 5" descr="tank.jpg"/>
          <p:cNvPicPr/>
          <p:nvPr/>
        </p:nvPicPr>
        <p:blipFill>
          <a:blip r:embed="rId2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5" name="Afbeelding 9" descr="vervuilde-grond.jpg"/>
          <p:cNvPicPr/>
          <p:nvPr/>
        </p:nvPicPr>
        <p:blipFill>
          <a:blip r:embed="rId3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6" descr="riool1.jpg"/>
          <p:cNvPicPr/>
          <p:nvPr/>
        </p:nvPicPr>
        <p:blipFill>
          <a:blip r:embed="rId4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,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,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,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binnentreden van de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3. Toegang tot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4.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5.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fbeelding 4" descr="mangatwacht_1.jpg"/>
          <p:cNvPicPr/>
          <p:nvPr/>
        </p:nvPicPr>
        <p:blipFill>
          <a:blip r:embed="rId2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Afbeelding 4" descr="hoofdpijn01.jpg"/>
          <p:cNvPicPr/>
          <p:nvPr/>
        </p:nvPicPr>
        <p:blipFill>
          <a:blip r:embed="rId2"/>
          <a:stretch/>
        </p:blipFill>
        <p:spPr>
          <a:xfrm>
            <a:off x="6632640" y="3346560"/>
            <a:ext cx="2511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a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fbeelding 5" descr="medisafe-pbm-medium.jpg"/>
          <p:cNvPicPr/>
          <p:nvPr/>
        </p:nvPicPr>
        <p:blipFill>
          <a:blip r:embed="rId2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4" descr="imagesCANB9EWE.jpg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1.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 of harnasgor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gnetten aanbrengen eventueel harnasgor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5" descr="imagesCAU1R4VZ.jpg"/>
          <p:cNvPicPr/>
          <p:nvPr/>
        </p:nvPicPr>
        <p:blipFill>
          <a:blip r:embed="rId2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opstellen onder ca. 75 gra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Afbeelding 5" descr="imagesCAXI9X3V.jpg"/>
          <p:cNvPicPr/>
          <p:nvPr/>
        </p:nvPicPr>
        <p:blipFill>
          <a:blip r:embed="rId2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fbeelding 6" descr="2-verdiepingen-in-steigers-.jpg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4.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nasgordel dragen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V5URG7.jp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5.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en gereedschap naar boven hij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niet verplaatsen met iemand op de rol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dat de steun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Afbeelding 7" descr="rol.jpg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Explosiegevaarlijke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7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8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6.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en in de werkbak moeten harnasgorde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fbeelding 4" descr="imagesCAGWZ8M8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k gevaren zoals omvallen van de hoogwerker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5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4" descr="imagesCAG0ZOPZ.jpg"/>
          <p:cNvPicPr/>
          <p:nvPr/>
        </p:nvPicPr>
        <p:blipFill>
          <a:blip r:embed="rId2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fbeelding 4" descr="stock-photo-demolution-2527839.jpg"/>
          <p:cNvPicPr/>
          <p:nvPr/>
        </p:nvPicPr>
        <p:blipFill>
          <a:blip r:embed="rId2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7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ijderen van asbest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fbeelding 4" descr="asbestos-remov.jpg"/>
          <p:cNvPicPr/>
          <p:nvPr/>
        </p:nvPicPr>
        <p:blipFill>
          <a:blip r:embed="rId2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2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2 Explosiegevaarlijke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centraties boven LEL zijn mogelij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r voorkoming van ontsteking, bijvoorbee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veilige verlichting en -schakela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aal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in plaats van elektrisch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7" descr="Besloten.jpg"/>
          <p:cNvPicPr/>
          <p:nvPr/>
        </p:nvPicPr>
        <p:blipFill>
          <a:blip r:embed="rId3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3:06Z</dcterms:modified>
  <cp:revision>52</cp:revision>
  <dc:subject/>
  <dc:title>Test</dc:title>
</cp:coreProperties>
</file>