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15.jpeg" ContentType="image/jpe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936B-17D1-4F14-AC6C-B16C849C4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8EA8-280F-4A1A-B746-3AEF9A77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334A9-7196-4C7A-BBD1-B9DA775D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CE207-C395-4875-95BC-873EFFCA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ACF9C-31CA-414F-884A-E2378A91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090F1-76A3-4BCE-BC08-C11A367C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6ECEE-D2AD-4130-87E2-D6F07718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852C6-1EE5-4798-A685-A8F3FB39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62639-F364-4FFD-A2F5-F9196F26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7CB25-6D73-4C24-8FD7-BB3B62E9F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C307A-91F5-4AA0-A470-372F97507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DCAE1A-9518-441C-8E18-F80A2635C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BA6D-8DBE-41A9-A617-AD8FD4167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28658-B418-4965-9D61-C8496466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69AC7D-4EF3-43F4-AA7B-261AEE83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60C0E3-57E0-4719-9E90-3638CADA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3994E-3185-474D-8EF1-C259FB5B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7EBBC-2B99-4A6C-8C55-FD167FD4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7A6E7-7086-4F22-B5EB-097352DB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BBB977-9621-4E01-B594-32423E50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9AA414-D761-4F36-AD6C-0E1C016B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3E4D8A-E803-4F7D-9DD3-C70FC468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9B15FE-C516-499A-994E-AD7A6CCFA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19FF-23AA-4049-BDDA-45A8F2F26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7AE811-8C00-44C1-93B8-36896E7B2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3A220-796E-4955-911B-6CF07BEA6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4821D-99C3-45EF-91E5-0B471D11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984F2-4E91-4F27-A886-7142928E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4E325-F25A-4EF6-969A-6CF4B10C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5FA8B-6666-4C38-9E24-63AD8F32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EC4A6-D254-40EE-BD8D-86CC4B1C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33753-CE24-4CBD-A516-C9EBC520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94718-EF0E-40E3-9FC0-BD68A204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4AA28-4B7C-47E3-8EA3-E314AB7D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06F2-32DC-4BE9-8357-2BBDF0EF8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042E2-4BCD-4CC4-AD26-32F8F2C5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F947B-078D-4783-91A7-DBBEE71D1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1C651-74AB-407C-A5DC-855D6EB9D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5DDB87-DF30-459C-988A-4D1E690BB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EB58BA-3186-4123-A447-4C5ACB69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B21A31-51E7-4CD3-A9D9-A19D5B7E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D84E08-2F18-43D0-94EF-7CC1B65E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EE4CEA-4D27-4C68-9162-FB45182F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BAF5A3-1E0B-4F04-B3ED-C62EC6DD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72961A-6482-4AFE-884F-B426FCBD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8EFD-C0F7-45DC-A8EE-407A6E3C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884750-7E12-43C1-80DC-883D8A5A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6506A6-8ADA-4B07-8A3A-77235683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5D4750-5667-4E8B-9DDD-996E8A8D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AAD6CE-B42D-4378-91B0-5F51F864E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8B5D4C-AE65-4E2A-866F-41144CBF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72D6-9CB5-44DC-96DB-C1DF19C1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5FA9-1A50-4662-8022-B98E7336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E752-6080-4F8B-BC49-50087526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1EA5-F09E-4DAE-A19E-313F93CD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2E5E-92C4-4541-8BC2-E3B0A5C1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17A4-55F5-4651-A005-0E29CF72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EAA7-F89A-4D20-BAE1-805354FB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9DDB-6998-451F-862D-5A83C5A4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45A9-0EEA-486B-8CE4-DCE7290B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379C-44C8-4C84-A6B4-6D75000E6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E9F5-A80A-4AFA-B11F-074500D4B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E535B-3B6D-4A31-9C65-4DBB45310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E17CA-09C6-448C-8E4C-DEFCA125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39648-C93B-43B3-ACB4-2FF1CED8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3498D-166E-481A-B720-3584E909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FD818-3517-48DD-979C-4C6A37C2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254C-4883-4467-8D19-DCA3BD07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40F5F-E507-46A2-BB0D-41529043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39234-FFFE-4849-863A-7850DCEE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443B6-F2B4-40B7-B60A-26585915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17437-2B56-4F6D-A1C6-800E14D8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71C9E-9ECF-42F7-84B3-009A6112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39A3D-CBD8-4AD9-904F-8BCA789C7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845A1-DFE7-438F-B4F9-796FE1744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BC491-F1F5-43F5-AE1A-7E539E079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B49E5-1E1B-4BFA-B27E-864010B2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81C91-1921-4D93-AF0C-EA427CDE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9C9A-DAFD-4164-BBE2-61B95648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A528D-FAC3-4720-9DD7-08F7718B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5A2DD-6350-4599-981C-065BD621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1D35E-3E1F-4A1E-AF9B-F4FEE05A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81B6F-616D-48F7-BFF1-4DEEA21E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744C8-9C61-4044-BC32-0DDF8C77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8E75E-1A9C-4DD5-989B-6CAD5C8B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3B3FD-03A0-41F4-B4E0-6F9E8CD6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10094-C646-42BB-BF4B-483964225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F1017-D0E3-4160-9C8A-6E2A1FBBA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5A240-357B-495C-9FDF-99B104515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8102-C873-4F8C-A058-5A471EB5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915AD-F9C7-4C8D-887F-C929CA05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CFC4F-A585-4FAF-88D1-8729ADC6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A4A34-B6E1-454B-85EA-0E61575D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AAB0E-7785-4D69-93B8-E83B56CD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C9977-415D-483A-8B0E-427C792B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7EDC7-2112-4135-952C-AC08A917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AB285-FBF7-415E-880B-F7D82F5B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AB8D4-C219-4354-A865-2EFDFF23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C8A74-8CE5-452E-94A1-AA882CC3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7891C-7017-40AF-A454-2EF932909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AAAD-3D55-4410-9330-AD96E961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BF2B4-3833-43ED-B6E0-228E8D2D0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F6C91-9884-4FE8-B959-5C63E60D0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CE566-5ED4-4F5C-8857-D4545290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8CCF4-F941-4764-ABEF-61D72D03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84FCB-72C1-4FCB-B677-875CA648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61896-4345-4DD6-976F-D9F59E7E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A44EC-4D6C-49B3-AB0A-194176B5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B909F-5831-4213-9475-AAE43A46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824DA-78C3-491C-B40F-FD9C6623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9B83C-808B-4848-AB8A-D20427C5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0900-D6C3-49D2-A504-A4F7BDDB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AC811-F1AD-4552-A435-C6767022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8F578-78FA-41BE-B4C2-4FAA6FDBD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A4691-4DD1-43F0-9195-FD73C3399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5FAB5-73DB-4A07-A6E3-43B41E403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E4C2E-EAF5-4DE5-B604-99BD24BC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2486F-2027-4548-9A5C-E1FE1702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C621F-49C1-4A56-B1CA-D1B3198B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06B6D-7E03-48EC-A2BC-C83655CB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34618-079E-455F-AD1A-0AF49F7B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FD004-685D-4051-B44F-93A4CEBD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3B91-AFCC-40CB-BDEA-956222DB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54F09-EBE1-4298-BC22-6DE3D9F0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CE66D-2227-48F7-B541-2079B975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4E82F-3ACA-4CB4-BE4E-4E46702A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C2149-B0CD-4335-BEA3-F3E198563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7BF6C-E53E-4AF7-AE94-9EE413C2D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2F1D9-315E-4186-8E7D-C1CFA98C3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E65AD-1149-4673-979B-70B25352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E441C-50D8-439E-BF6A-70AA8F74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405AB-45BF-4715-9715-FBAD4CDA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BEFFC-D3BA-455D-A427-76E94CEE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0AD1-9DC7-4E52-9D8F-C25CA48F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C3B2B-CFBD-41B5-9425-4FC328A9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C13FE-E9F3-429D-9E0E-38DF1967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07753-9E6B-4F81-B62D-84FC5105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BFFC7-7085-474B-969E-A39D0CEB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CBA8B-8404-4052-BF4D-7A4DF729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957D5-B3C8-41FC-BE0E-AB49A0A08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E7C82-AFC7-48A2-B4B5-C62F36FB3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59DFD4-0FA8-40B0-A284-3F7F975BD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EA4E2-77BF-4579-9EA5-05341A12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BEE45-7199-4848-A5BB-7CBFC875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6D8E-A311-41BF-AD2E-D8C35E14C2F3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39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FA1B-57FF-4517-AAC4-F8C0F662DFA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47F0-9AAC-4E2C-905E-05A99D59A97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CF8D-D977-44A8-A72C-786E21C7680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3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4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72FE-D8D2-47CA-887E-A1B61C73037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20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122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1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3F59-329D-47B8-9F81-6C04E8E0638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59D7-FBDB-4C44-875E-3B37290973C0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000D-6D5D-402F-821B-48D8993099DE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AEE7-AB0B-4428-A342-CE290A290C4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9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2CB4-B28E-497B-BF58-C8597BAB875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7C01-FBB5-4D3F-8E77-E46B699236D7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CD63-76E6-445F-BE0B-A6CDA67727C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erckebosch.nl/html/home.php" TargetMode="External"/><Relationship Id="rId3" Type="http://schemas.openxmlformats.org/officeDocument/2006/relationships/hyperlink" Target="http://www.kerckebosch.nl/html/home.php" TargetMode="External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99680" y="571680"/>
            <a:ext cx="8358120" cy="400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a911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a911"/>
                </a:solidFill>
                <a:latin typeface="Arial"/>
              </a:rPr>
              <a:t>Hoofdstuk 7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a911"/>
                </a:solidFill>
                <a:latin typeface="Arial"/>
              </a:rPr>
              <a:t>Managementsysteem en certificatie:</a:t>
            </a:r>
            <a:br>
              <a:rPr sz="4400"/>
            </a:br>
            <a:r>
              <a:rPr b="1" lang="en-US" sz="4400" spc="-1" strike="noStrike">
                <a:solidFill>
                  <a:srgbClr val="2aa911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2aa911"/>
                </a:solidFill>
                <a:latin typeface="Arial"/>
                <a:ea typeface="Tahoma"/>
              </a:rPr>
              <a:t>het fundament van VC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AutoShape 5">
            <a:hlinkClick r:id="rId2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AutoShape 7">
            <a:hlinkClick r:id="rId3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Tijdelijke aanduiding voor dianumm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4033-98E0-4BDD-9DBF-67ADDA6C23F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4  V&amp;G-actiepla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ED88-73DC-4ED0-88D9-EB535730557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6" name="Groep 8"/>
          <p:cNvGrpSpPr/>
          <p:nvPr/>
        </p:nvGrpSpPr>
        <p:grpSpPr>
          <a:xfrm>
            <a:off x="1285920" y="1071360"/>
            <a:ext cx="2954160" cy="4818240"/>
            <a:chOff x="1285920" y="1071360"/>
            <a:chExt cx="2954160" cy="4818240"/>
          </a:xfrm>
        </p:grpSpPr>
        <p:sp>
          <p:nvSpPr>
            <p:cNvPr id="617" name="Parallellogram 6"/>
            <p:cNvSpPr/>
            <p:nvPr/>
          </p:nvSpPr>
          <p:spPr>
            <a:xfrm flipH="1" rot="5400000">
              <a:off x="1636200" y="997560"/>
              <a:ext cx="2122200" cy="2269080"/>
            </a:xfrm>
            <a:prstGeom prst="parallelogram">
              <a:avLst>
                <a:gd name="adj" fmla="val 25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18" name="Rechthoek 5" descr=""/>
            <p:cNvPicPr/>
            <p:nvPr/>
          </p:nvPicPr>
          <p:blipFill>
            <a:blip r:embed="rId2"/>
            <a:stretch/>
          </p:blipFill>
          <p:spPr>
            <a:xfrm>
              <a:off x="1285920" y="1611360"/>
              <a:ext cx="2954160" cy="427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9" name="Tekstvak 7"/>
          <p:cNvSpPr/>
          <p:nvPr/>
        </p:nvSpPr>
        <p:spPr>
          <a:xfrm>
            <a:off x="5143680" y="1428840"/>
            <a:ext cx="3000240" cy="3812040"/>
          </a:xfrm>
          <a:prstGeom prst="rect">
            <a:avLst/>
          </a:prstGeom>
          <a:noFill/>
          <a:ln w="28440">
            <a:solidFill>
              <a:srgbClr val="c016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lstell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e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akverdel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01DE-C07A-4F3D-8684-0DCCBE32413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4  V&amp;G-actiepla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2" name="Tekstvak 5"/>
          <p:cNvSpPr/>
          <p:nvPr/>
        </p:nvSpPr>
        <p:spPr>
          <a:xfrm>
            <a:off x="571680" y="128592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doel actieplan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zorgen dat vastgestelde risico’s bij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RIE en T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worden beheerst door doeltreffende maatreg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Tekstvak 6"/>
          <p:cNvSpPr/>
          <p:nvPr/>
        </p:nvSpPr>
        <p:spPr>
          <a:xfrm>
            <a:off x="571680" y="3357720"/>
            <a:ext cx="8286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V&amp;G-actieplan bevat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maatregelen/act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uitvoering (mensen, middelen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planning en eindtij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erantwoordelijk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evaluatie (ook t.a.v. doel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8701-D55D-4321-90E7-EA0167C8984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2aa911"/>
                </a:solidFill>
                <a:latin typeface="Arial"/>
              </a:rPr>
              <a:t>7.5 Taakrisicoanalyse (TRA)</a:t>
            </a:r>
            <a:br>
              <a:rPr sz="2800"/>
            </a:br>
            <a:r>
              <a:rPr b="1" lang="nl-NL" sz="2800" spc="-1" strike="noStrike">
                <a:solidFill>
                  <a:srgbClr val="2aa911"/>
                </a:solidFill>
                <a:latin typeface="Arial"/>
              </a:rPr>
              <a:t>en Laatste Minuut RisicoAnalyse (LMRA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6" name="Tekstvak 5"/>
          <p:cNvSpPr/>
          <p:nvPr/>
        </p:nvSpPr>
        <p:spPr>
          <a:xfrm>
            <a:off x="571680" y="1828800"/>
            <a:ext cx="807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oordat je goede maatregelen kunt treffen,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moet je eerst de risico’s analys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zeker als er geen goede veiligheidsprocedures zij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5120-BA81-4264-B99B-B0CBAA59991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Tekstvak 4"/>
          <p:cNvSpPr/>
          <p:nvPr/>
        </p:nvSpPr>
        <p:spPr>
          <a:xfrm>
            <a:off x="571680" y="417600"/>
            <a:ext cx="8572320" cy="57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TR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ij nieuwe machines, projecten of voorafgaand aan werkvergunninge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ok bij nieuwbouw, verbouw of inzetten van stagiairs, uitzendkrachten en jong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TRA-karwei opsplitsen in taken en die weer in taakstapp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per taakstap de risico’s en de noodzakelijke (extra) beheersmaatregelen vaststel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zo nodig maatregelen aanpassen/nieuwe TRA uitvoeren al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285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condities zijn veranderd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285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het werkplan niet meer uitvoerbaar is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285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de installatie niet meer drukvrij of spanningsvrij is  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285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de  juiste middelen of gereedschappen niet beschikbaar zij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86E0-E1A6-4035-8755-4242A0895ED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0" name="Picture 7" descr=""/>
          <p:cNvPicPr/>
          <p:nvPr/>
        </p:nvPicPr>
        <p:blipFill>
          <a:blip r:embed="rId2"/>
          <a:stretch/>
        </p:blipFill>
        <p:spPr>
          <a:xfrm>
            <a:off x="0" y="5929200"/>
            <a:ext cx="714240" cy="495360"/>
          </a:xfrm>
          <a:prstGeom prst="rect">
            <a:avLst/>
          </a:prstGeom>
          <a:ln w="0">
            <a:noFill/>
          </a:ln>
        </p:spPr>
      </p:pic>
      <p:sp>
        <p:nvSpPr>
          <p:cNvPr id="631" name="Tekstvak 4"/>
          <p:cNvSpPr/>
          <p:nvPr/>
        </p:nvSpPr>
        <p:spPr>
          <a:xfrm>
            <a:off x="571680" y="511200"/>
            <a:ext cx="857232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LMR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uit te voeren risicocheck door de uitvoerende direct voor aanvang van zijn werkzaamheden bij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nieuwe taa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verandering van wer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en ook bij routinematige werkzaamheden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doel is dat werk zo nodig wordt gestopt en eerst de beheersmaatregelen worden getroff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middelen die worden gebruik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aandachtspuntenkaar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werkcheckcar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stop-check-go card …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LMRA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FF82-1EFA-48E8-B722-7A6D1C7B349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Rechthoek 7"/>
          <p:cNvSpPr/>
          <p:nvPr/>
        </p:nvSpPr>
        <p:spPr>
          <a:xfrm>
            <a:off x="3571920" y="1000080"/>
            <a:ext cx="340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dachtspuntenkaartje of werkcheckcard gebruiken,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leinere kans dat je iets over het hoofd ziet…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5" name="Picture 7" descr="Scannen0001"/>
          <p:cNvPicPr/>
          <p:nvPr/>
        </p:nvPicPr>
        <p:blipFill>
          <a:blip r:embed="rId2"/>
          <a:srcRect l="3501" t="1212" r="19563" b="15335"/>
          <a:stretch/>
        </p:blipFill>
        <p:spPr>
          <a:xfrm>
            <a:off x="857160" y="1071720"/>
            <a:ext cx="2571840" cy="371952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10" descr="Scannen0002"/>
          <p:cNvPicPr/>
          <p:nvPr/>
        </p:nvPicPr>
        <p:blipFill>
          <a:blip r:embed="rId3"/>
          <a:srcRect l="0" t="15349" r="62584" b="6527"/>
          <a:stretch/>
        </p:blipFill>
        <p:spPr>
          <a:xfrm rot="983400">
            <a:off x="6754680" y="2332080"/>
            <a:ext cx="1600200" cy="246384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9" descr="Scannen0003"/>
          <p:cNvPicPr/>
          <p:nvPr/>
        </p:nvPicPr>
        <p:blipFill>
          <a:blip r:embed="rId4"/>
          <a:srcRect l="0" t="5832" r="0" b="21877"/>
          <a:stretch/>
        </p:blipFill>
        <p:spPr>
          <a:xfrm>
            <a:off x="3286080" y="2500200"/>
            <a:ext cx="2779920" cy="354348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2" descr="Scannen0005"/>
          <p:cNvPicPr/>
          <p:nvPr/>
        </p:nvPicPr>
        <p:blipFill>
          <a:blip r:embed="rId5"/>
          <a:srcRect l="0" t="0" r="4502" b="0"/>
          <a:stretch/>
        </p:blipFill>
        <p:spPr>
          <a:xfrm rot="17194200">
            <a:off x="6323760" y="2753280"/>
            <a:ext cx="250344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B02B-6BAB-4E0F-A0BA-C7263D2C09F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6 Incidenten registrer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1" name="Tekstvak 6"/>
          <p:cNvSpPr/>
          <p:nvPr/>
        </p:nvSpPr>
        <p:spPr>
          <a:xfrm>
            <a:off x="609480" y="1371600"/>
            <a:ext cx="700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wat registreren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cident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ngeval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ijna-ongeval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nveilige situat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nveilige handelin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Tekstvak 7"/>
          <p:cNvSpPr/>
          <p:nvPr/>
        </p:nvSpPr>
        <p:spPr>
          <a:xfrm>
            <a:off x="571680" y="4000680"/>
            <a:ext cx="707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waarom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gegevens vastleggen voor de overheid en als basis voor bedrijfsbeleid om ervan te kunnen l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81E8-1D9C-45A2-9DBA-2123D688392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7 Ongevallenonderzoek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5" name="Tekstvak 7"/>
          <p:cNvSpPr/>
          <p:nvPr/>
        </p:nvSpPr>
        <p:spPr>
          <a:xfrm>
            <a:off x="571680" y="97488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aststellen en wegnemen van de oorzaken van een ongeval voorkomt herhal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Tekstvak 8"/>
          <p:cNvSpPr/>
          <p:nvPr/>
        </p:nvSpPr>
        <p:spPr>
          <a:xfrm>
            <a:off x="2786040" y="2049480"/>
            <a:ext cx="2624040" cy="2598840"/>
          </a:xfrm>
          <a:prstGeom prst="rect">
            <a:avLst/>
          </a:prstGeom>
          <a:solidFill>
            <a:srgbClr val="60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derzoek 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at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.s.m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to’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standighede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Tekstvak 10"/>
          <p:cNvSpPr/>
          <p:nvPr/>
        </p:nvSpPr>
        <p:spPr>
          <a:xfrm>
            <a:off x="1357200" y="5072040"/>
            <a:ext cx="235764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alyseren en combiner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Tekstvak 11"/>
          <p:cNvSpPr/>
          <p:nvPr/>
        </p:nvSpPr>
        <p:spPr>
          <a:xfrm>
            <a:off x="785880" y="3714840"/>
            <a:ext cx="1714320" cy="947160"/>
          </a:xfrm>
          <a:prstGeom prst="rect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uigen hor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49" name="Rechte verbindingslijn met pijl 13"/>
          <p:cNvCxnSpPr>
            <a:endCxn id="647" idx="0"/>
          </p:cNvCxnSpPr>
          <p:nvPr/>
        </p:nvCxnSpPr>
        <p:spPr>
          <a:xfrm>
            <a:off x="1787400" y="4714920"/>
            <a:ext cx="750240" cy="357840"/>
          </a:xfrm>
          <a:prstGeom prst="straightConnector1">
            <a:avLst/>
          </a:prstGeom>
          <a:ln w="57240">
            <a:solidFill>
              <a:srgbClr val="2aa911"/>
            </a:solidFill>
            <a:miter/>
            <a:tailEnd len="med" type="arrow" w="med"/>
          </a:ln>
        </p:spPr>
      </p:cxnSp>
      <p:cxnSp>
        <p:nvCxnSpPr>
          <p:cNvPr id="650" name="Rechte verbindingslijn met pijl 15"/>
          <p:cNvCxnSpPr/>
          <p:nvPr/>
        </p:nvCxnSpPr>
        <p:spPr>
          <a:xfrm flipH="1">
            <a:off x="2714400" y="4714920"/>
            <a:ext cx="1072080" cy="286560"/>
          </a:xfrm>
          <a:prstGeom prst="straightConnector1">
            <a:avLst/>
          </a:prstGeom>
          <a:ln w="57240">
            <a:solidFill>
              <a:srgbClr val="2aa911"/>
            </a:solidFill>
            <a:miter/>
            <a:tailEnd len="med" type="arrow" w="med"/>
          </a:ln>
        </p:spPr>
      </p:cxnSp>
      <p:cxnSp>
        <p:nvCxnSpPr>
          <p:cNvPr id="651" name="Rechte verbindingslijn met pijl 18"/>
          <p:cNvCxnSpPr>
            <a:stCxn id="647" idx="3"/>
            <a:endCxn id="652" idx="1"/>
          </p:cNvCxnSpPr>
          <p:nvPr/>
        </p:nvCxnSpPr>
        <p:spPr>
          <a:xfrm flipV="1">
            <a:off x="3714840" y="4990320"/>
            <a:ext cx="1838880" cy="55476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53" name="Tekstvak 21"/>
          <p:cNvSpPr/>
          <p:nvPr/>
        </p:nvSpPr>
        <p:spPr>
          <a:xfrm>
            <a:off x="609480" y="2362320"/>
            <a:ext cx="200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onderzoek-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pla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Tekstvak 22"/>
          <p:cNvSpPr/>
          <p:nvPr/>
        </p:nvSpPr>
        <p:spPr>
          <a:xfrm>
            <a:off x="5572080" y="4071960"/>
            <a:ext cx="3038400" cy="1800360"/>
          </a:xfrm>
          <a:prstGeom prst="rect">
            <a:avLst/>
          </a:prstGeom>
          <a:solidFill>
            <a:srgbClr val="c4c4c4"/>
          </a:solidFill>
          <a:ln w="38160">
            <a:solidFill>
              <a:srgbClr val="000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port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it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beveling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D677-08F7-460D-957A-D3DCD2238FC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8 Voorbereiden op noodsituati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6" name="Tekstvak 4"/>
          <p:cNvSpPr/>
          <p:nvPr/>
        </p:nvSpPr>
        <p:spPr>
          <a:xfrm>
            <a:off x="642960" y="1643040"/>
            <a:ext cx="77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noodpla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noodprocedures bekend stell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organiseren van de noodhulp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0239-03C0-418C-8C48-F7DB5F996F3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8 Voorbereiden op noodsituaties (2)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59" name="Groep 5" descr=""/>
          <p:cNvPicPr/>
          <p:nvPr/>
        </p:nvPicPr>
        <p:blipFill>
          <a:blip r:embed="rId2"/>
          <a:stretch/>
        </p:blipFill>
        <p:spPr>
          <a:xfrm>
            <a:off x="963720" y="1352520"/>
            <a:ext cx="3705120" cy="4037040"/>
          </a:xfrm>
          <a:prstGeom prst="rect">
            <a:avLst/>
          </a:prstGeom>
          <a:ln w="0">
            <a:noFill/>
          </a:ln>
        </p:spPr>
      </p:pic>
      <p:sp>
        <p:nvSpPr>
          <p:cNvPr id="660" name="Tekstvak 8"/>
          <p:cNvSpPr/>
          <p:nvPr/>
        </p:nvSpPr>
        <p:spPr>
          <a:xfrm>
            <a:off x="5018040" y="2233440"/>
            <a:ext cx="357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chrijving van maatregelen en voorzieningen om in noodsituaties effectief te kunnen optred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Tekstvak 9"/>
          <p:cNvSpPr/>
          <p:nvPr/>
        </p:nvSpPr>
        <p:spPr>
          <a:xfrm>
            <a:off x="4929120" y="492912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het noodplan staan ook de noodprocedur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 Managementsysteem en certificati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99680" y="1356840"/>
            <a:ext cx="86439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n van veiligheid met een syste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CA, wat is het, hoe werkt h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systeem: risicobeheersing 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eidsvoer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VCA checklist: V&amp;G-actiepl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en VCA checklist: TRA en LMR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VCA checklist: incidenten registr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VCA checklist: ongevallenonderzo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VCA checklist: voorbereiding o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situa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1784-7172-4AEA-B894-49AEC8AA2CD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DCF4-6155-4098-888F-86CAC393453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00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8 Voorbereiden op noodsituaties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4" name="Tekstvak 4"/>
          <p:cNvSpPr/>
          <p:nvPr/>
        </p:nvSpPr>
        <p:spPr>
          <a:xfrm>
            <a:off x="928800" y="1285920"/>
            <a:ext cx="5214960" cy="70344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"/>
                <a:ea typeface="Tahoma"/>
              </a:rPr>
              <a:t> 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  <a:ea typeface="Tahoma"/>
              </a:rPr>
              <a:t>noodprocedure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Tekstvak 5"/>
          <p:cNvSpPr/>
          <p:nvPr/>
        </p:nvSpPr>
        <p:spPr>
          <a:xfrm>
            <a:off x="609480" y="2895480"/>
            <a:ext cx="2476800" cy="213552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meld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ongevall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noodsitua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alarmeren van hulpdienst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Tekstvak 6"/>
          <p:cNvSpPr/>
          <p:nvPr/>
        </p:nvSpPr>
        <p:spPr>
          <a:xfrm>
            <a:off x="3195720" y="2895480"/>
            <a:ext cx="2876400" cy="213552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hulpverlen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EHBO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middel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oorzaak /dreiging wegnem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Tekstvak 7"/>
          <p:cNvSpPr/>
          <p:nvPr/>
        </p:nvSpPr>
        <p:spPr>
          <a:xfrm>
            <a:off x="6215040" y="2895480"/>
            <a:ext cx="2548080" cy="314100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evacua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plattegrond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waarschuwin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middel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verzamel-</a:t>
            </a: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 plaats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oefeningen </a:t>
            </a:r>
            <a:br>
              <a:rPr sz="2200"/>
            </a:b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(min.1x per jaar, met derden)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Rechte verbindingslijn 9"/>
          <p:cNvSpPr/>
          <p:nvPr/>
        </p:nvSpPr>
        <p:spPr>
          <a:xfrm flipV="1">
            <a:off x="1828800" y="1981080"/>
            <a:ext cx="1108080" cy="857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Rechte verbindingslijn 12"/>
          <p:cNvSpPr/>
          <p:nvPr/>
        </p:nvSpPr>
        <p:spPr>
          <a:xfrm>
            <a:off x="3536280" y="1996920"/>
            <a:ext cx="19080" cy="1363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Rechte verbindingslijn 14"/>
          <p:cNvSpPr/>
          <p:nvPr/>
        </p:nvSpPr>
        <p:spPr>
          <a:xfrm>
            <a:off x="5429160" y="1928880"/>
            <a:ext cx="1608120" cy="950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Tekstvak 16"/>
          <p:cNvSpPr/>
          <p:nvPr/>
        </p:nvSpPr>
        <p:spPr>
          <a:xfrm>
            <a:off x="3286080" y="228600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uitreiken !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2" name="Picture 5" descr=""/>
          <p:cNvPicPr/>
          <p:nvPr/>
        </p:nvPicPr>
        <p:blipFill>
          <a:blip r:embed="rId2"/>
          <a:stretch/>
        </p:blipFill>
        <p:spPr>
          <a:xfrm>
            <a:off x="7358040" y="214200"/>
            <a:ext cx="16099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F9F2-0803-4E53-B374-85B8077624E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8 Voorbereiden op noodsituaties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5" name="Tekstvak 5"/>
          <p:cNvSpPr/>
          <p:nvPr/>
        </p:nvSpPr>
        <p:spPr>
          <a:xfrm>
            <a:off x="609480" y="928800"/>
            <a:ext cx="82486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in het noodplan staat ook verdere info m.b.t. de noodorganisatie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a9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chikbare hulpbronn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voorzieningen en menskracht in eig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atie en exter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HV (bedrijfshulpverlening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telijk verplichte organisa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EHBO, bestrijden beginnende brand 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evacua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leiden oefenen van optreden volgens het draaiboe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eel voorbereid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plan test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reiding personeel test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a911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6" name="Afbeelding 7" descr="back_bhv.jpg"/>
          <p:cNvPicPr/>
          <p:nvPr/>
        </p:nvPicPr>
        <p:blipFill>
          <a:blip r:embed="rId2"/>
          <a:srcRect l="25877" t="10844" r="6838" b="34966"/>
          <a:stretch/>
        </p:blipFill>
        <p:spPr>
          <a:xfrm>
            <a:off x="7072200" y="785880"/>
            <a:ext cx="1857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B195-9590-4D42-AF25-55782E5B7C0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Tekstvak 3"/>
          <p:cNvSpPr/>
          <p:nvPr/>
        </p:nvSpPr>
        <p:spPr>
          <a:xfrm>
            <a:off x="571680" y="1373040"/>
            <a:ext cx="8286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als je zaken regelt, wil je graag dat wat je georganiseerd hebt, in stand blijft en dat je niet de volgende dag opnieuw met hetzelfde moet beginn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dan kom je niet vooruit!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een managementsysteem is een hulpmiddel om wel vooruit te kom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267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1 Managen van veiligheid met een systeem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1 Managen van veiligheid met een systeem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571680" y="1499760"/>
            <a:ext cx="85723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gever moet steeds voldoen aan wettelijke eisen, bijvoorbeeld Arbow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gever moet ook afspraken nakomen die zijn gemaakt, zoals certificeringen, ca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leidinggevende heeft een sleutelrol, maar dan moet er wel sprake zijn v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duidelijk bele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ite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voorwaarden als tijd, geld en bud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DEE3-5A41-4AD2-989D-0D9169C4195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2 VCA, wat is het, hoe werkt het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500040" y="1077480"/>
            <a:ext cx="850104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163a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M  </a:t>
            </a:r>
            <a:r>
              <a:rPr b="0" lang="en-US" sz="3200" spc="-1" strike="noStrike">
                <a:solidFill>
                  <a:srgbClr val="c0163a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ecklist  </a:t>
            </a:r>
            <a:r>
              <a:rPr b="0" lang="en-US" sz="3200" spc="-1" strike="noStrike">
                <a:solidFill>
                  <a:srgbClr val="c0163a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nnem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lijst met beheersingseisen  om risico’s te voorkomen als aannemers werk uitvoeren in situaties met verhoogd risico, zoals in de Petrochem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certificaat is een keurmerk dat aantoont dat het bedrijf de VCA-regels toepa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checklist VCA 2008/05 kent 3 niveaus van certificer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CA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CA*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CA Petrochem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BE80-4276-4FC8-8A9D-1AB61C3A0C9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2 VCA, wat is het, hoe werkt het 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571320" y="1077480"/>
            <a:ext cx="8429400" cy="52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asis van de beheersing is voldoende kenn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CA vereist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kopleid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opleiding VCA basisveiligheid voor uitvoeren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A VOL voor operationeel leidinggeven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leidingen voor hoogrisicotaken volgens de SSVV opleidingengi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pleidingen en medische gegevens kunnen worden aangetoond met een veiligheidspaspoort of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personal safety logboek (PS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471A-2D2F-4C81-879A-B7C3512726A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71680" y="-7668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3 Risicobeheersing en beleidsvoer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761760" y="1066320"/>
            <a:ext cx="779940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 van beleid is te zorgen voor planning van de preventie-uitvoer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gaat om een goede voorbereiding en leren van je ervaring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it wordt weergegeven met de Deming-cirk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30DC-3E3D-462C-A3E0-3261BCDBFA1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5" name="Gebogen pijl 4"/>
          <p:cNvGrpSpPr/>
          <p:nvPr/>
        </p:nvGrpSpPr>
        <p:grpSpPr>
          <a:xfrm>
            <a:off x="2651040" y="3749760"/>
            <a:ext cx="1049400" cy="895320"/>
            <a:chOff x="2651040" y="3749760"/>
            <a:chExt cx="1049400" cy="895320"/>
          </a:xfrm>
        </p:grpSpPr>
        <p:pic>
          <p:nvPicPr>
            <p:cNvPr id="586" name="Gebogen pijl 4" descr=""/>
            <p:cNvPicPr/>
            <p:nvPr/>
          </p:nvPicPr>
          <p:blipFill>
            <a:blip r:embed="rId2"/>
            <a:stretch/>
          </p:blipFill>
          <p:spPr>
            <a:xfrm>
              <a:off x="2651040" y="3749760"/>
              <a:ext cx="104940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2714760" y="3786120"/>
              <a:ext cx="9284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8" name="Gebogen pijl 5"/>
          <p:cNvGrpSpPr/>
          <p:nvPr/>
        </p:nvGrpSpPr>
        <p:grpSpPr>
          <a:xfrm>
            <a:off x="2541600" y="5273640"/>
            <a:ext cx="903240" cy="1041480"/>
            <a:chOff x="2541600" y="5273640"/>
            <a:chExt cx="903240" cy="1041480"/>
          </a:xfrm>
        </p:grpSpPr>
        <p:pic>
          <p:nvPicPr>
            <p:cNvPr id="589" name="Gebogen pijl 5" descr=""/>
            <p:cNvPicPr/>
            <p:nvPr/>
          </p:nvPicPr>
          <p:blipFill>
            <a:blip r:embed="rId3"/>
            <a:stretch/>
          </p:blipFill>
          <p:spPr>
            <a:xfrm>
              <a:off x="2541600" y="5273640"/>
              <a:ext cx="90324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 rot="16200000">
              <a:off x="2530440" y="5383440"/>
              <a:ext cx="9288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1" name="Gebogen pijl 6"/>
          <p:cNvGrpSpPr/>
          <p:nvPr/>
        </p:nvGrpSpPr>
        <p:grpSpPr>
          <a:xfrm>
            <a:off x="4584600" y="5394240"/>
            <a:ext cx="1041480" cy="897120"/>
            <a:chOff x="4584600" y="5394240"/>
            <a:chExt cx="1041480" cy="897120"/>
          </a:xfrm>
        </p:grpSpPr>
        <p:pic>
          <p:nvPicPr>
            <p:cNvPr id="592" name="Gebogen pijl 6" descr=""/>
            <p:cNvPicPr/>
            <p:nvPr/>
          </p:nvPicPr>
          <p:blipFill>
            <a:blip r:embed="rId4"/>
            <a:stretch/>
          </p:blipFill>
          <p:spPr>
            <a:xfrm>
              <a:off x="4584600" y="5394240"/>
              <a:ext cx="104148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 rot="10800000">
              <a:off x="4643280" y="5428800"/>
              <a:ext cx="9288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Gebogen pijl 7"/>
          <p:cNvGrpSpPr/>
          <p:nvPr/>
        </p:nvGrpSpPr>
        <p:grpSpPr>
          <a:xfrm>
            <a:off x="4724280" y="3822840"/>
            <a:ext cx="901800" cy="1035000"/>
            <a:chOff x="4724280" y="3822840"/>
            <a:chExt cx="901800" cy="1035000"/>
          </a:xfrm>
        </p:grpSpPr>
        <p:pic>
          <p:nvPicPr>
            <p:cNvPr id="595" name="Gebogen pijl 7" descr=""/>
            <p:cNvPicPr/>
            <p:nvPr/>
          </p:nvPicPr>
          <p:blipFill>
            <a:blip r:embed="rId5"/>
            <a:stretch/>
          </p:blipFill>
          <p:spPr>
            <a:xfrm>
              <a:off x="4724280" y="3822840"/>
              <a:ext cx="90180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 rot="5400000">
              <a:off x="4714560" y="3929040"/>
              <a:ext cx="9284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7" name="Tekstvak 9"/>
          <p:cNvGrpSpPr/>
          <p:nvPr/>
        </p:nvGrpSpPr>
        <p:grpSpPr>
          <a:xfrm>
            <a:off x="3584520" y="3621240"/>
            <a:ext cx="1182600" cy="688680"/>
            <a:chOff x="3584520" y="3621240"/>
            <a:chExt cx="1182600" cy="688680"/>
          </a:xfrm>
        </p:grpSpPr>
        <p:pic>
          <p:nvPicPr>
            <p:cNvPr id="598" name="Tekstvak 9" descr=""/>
            <p:cNvPicPr/>
            <p:nvPr/>
          </p:nvPicPr>
          <p:blipFill>
            <a:blip r:embed="rId6"/>
            <a:stretch/>
          </p:blipFill>
          <p:spPr>
            <a:xfrm>
              <a:off x="3584520" y="3621240"/>
              <a:ext cx="11826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3643200" y="3714840"/>
              <a:ext cx="107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o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0" name="Tekstvak 10"/>
          <p:cNvGrpSpPr/>
          <p:nvPr/>
        </p:nvGrpSpPr>
        <p:grpSpPr>
          <a:xfrm>
            <a:off x="4511520" y="4694400"/>
            <a:ext cx="1670040" cy="688680"/>
            <a:chOff x="4511520" y="4694400"/>
            <a:chExt cx="1670040" cy="688680"/>
          </a:xfrm>
        </p:grpSpPr>
        <p:pic>
          <p:nvPicPr>
            <p:cNvPr id="601" name="Tekstvak 10" descr=""/>
            <p:cNvPicPr/>
            <p:nvPr/>
          </p:nvPicPr>
          <p:blipFill>
            <a:blip r:embed="rId7"/>
            <a:stretch/>
          </p:blipFill>
          <p:spPr>
            <a:xfrm>
              <a:off x="4511520" y="4694400"/>
              <a:ext cx="167004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4572000" y="4786200"/>
              <a:ext cx="15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check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3" name="Tekstvak 11"/>
          <p:cNvGrpSpPr/>
          <p:nvPr/>
        </p:nvGrpSpPr>
        <p:grpSpPr>
          <a:xfrm>
            <a:off x="1798560" y="4621320"/>
            <a:ext cx="1670040" cy="689040"/>
            <a:chOff x="1798560" y="4621320"/>
            <a:chExt cx="1670040" cy="689040"/>
          </a:xfrm>
        </p:grpSpPr>
        <p:pic>
          <p:nvPicPr>
            <p:cNvPr id="604" name="Tekstvak 11" descr=""/>
            <p:cNvPicPr/>
            <p:nvPr/>
          </p:nvPicPr>
          <p:blipFill>
            <a:blip r:embed="rId8"/>
            <a:stretch/>
          </p:blipFill>
          <p:spPr>
            <a:xfrm>
              <a:off x="1798560" y="4621320"/>
              <a:ext cx="16700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1857240" y="4714920"/>
              <a:ext cx="15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plan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6" name="Tekstvak 13"/>
          <p:cNvGrpSpPr/>
          <p:nvPr/>
        </p:nvGrpSpPr>
        <p:grpSpPr>
          <a:xfrm>
            <a:off x="3438360" y="5767560"/>
            <a:ext cx="1189080" cy="688680"/>
            <a:chOff x="3438360" y="5767560"/>
            <a:chExt cx="1189080" cy="688680"/>
          </a:xfrm>
        </p:grpSpPr>
        <p:pic>
          <p:nvPicPr>
            <p:cNvPr id="607" name="Tekstvak 13" descr=""/>
            <p:cNvPicPr/>
            <p:nvPr/>
          </p:nvPicPr>
          <p:blipFill>
            <a:blip r:embed="rId9"/>
            <a:stretch/>
          </p:blipFill>
          <p:spPr>
            <a:xfrm>
              <a:off x="3438360" y="5767560"/>
              <a:ext cx="118908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>
              <a:off x="3500280" y="5857920"/>
              <a:ext cx="107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act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3 Risicobeheersing en beleidsvoering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571680" y="990360"/>
            <a:ext cx="8572320" cy="54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systematische beheersing wordt veelal bedrijfsbreed aangepak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managementsysteem bevat de beschrijving van de uitgangspunten, regels, procedures en documenten die worden ingezet om de doelstellingen van het bedrijf te realis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kwijls is er een KAM-systeem (Kwaliteit Arbo Milieu)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wettelijk verplichte RIE is daarin opgenomen: </a:t>
            </a:r>
            <a:br>
              <a:rPr sz="2200"/>
            </a:br>
            <a:r>
              <a:rPr b="0" lang="en-US" sz="2200" spc="-1" strike="noStrike">
                <a:solidFill>
                  <a:srgbClr val="c0163a"/>
                </a:solidFill>
                <a:latin typeface="Arial"/>
              </a:rPr>
              <a:t>VCA eis 2.1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ze bestaat uit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228600">
              <a:spcBef>
                <a:spcPts val="524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dentificeren van de gevare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228600">
              <a:spcBef>
                <a:spcPts val="524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ventariseren van de risico’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228600">
              <a:spcBef>
                <a:spcPts val="524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alueren van de risico’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0613-5F45-429B-8BA2-A4D1C8ADC40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1866-F6BA-46B1-BB4C-BAED26BABFE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Tekstvak 4"/>
          <p:cNvSpPr/>
          <p:nvPr/>
        </p:nvSpPr>
        <p:spPr>
          <a:xfrm>
            <a:off x="1357200" y="1246320"/>
            <a:ext cx="6643800" cy="329328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enkele van de 47 VCA checklist-eisen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a911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2aa911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V&amp;G-actiepla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T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LM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incidentregistrati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ongevallenonderzoek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voorbereiding op noodsituati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49:30Z</dcterms:modified>
  <cp:revision>244</cp:revision>
  <dc:subject/>
  <dc:title>Taak en positie VFP</dc:title>
</cp:coreProperties>
</file>