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B11-2C26-4D0F-93F4-EABCB50F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E96-AA59-41C8-975A-A570F428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123-C789-4B7F-B911-B457AF6B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E6F-E86E-438C-A2A6-B76F8C4E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9041-D8BF-4529-89F3-03DA7EA1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5DFF-7595-40C7-98DB-18946DF2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2B19-3728-48DC-848F-D19F8969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937D-9345-48EC-A2DA-61E5CE3C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26AD-2ECD-41F8-9A69-DF79E6C9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A1EC-DCEE-4FEB-875B-AC9D8550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47FF-E84A-47CA-9D0B-CA8ECC0A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D1F4-0B57-4CB3-ACED-3ACD7FDD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FA34-8DFB-40BF-B9A6-8645501F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F785-C2A0-451E-929D-91C278C4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7919-D72F-401B-B806-3AE7FE8D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D888-D8D3-4C01-8E9B-59A2CCA4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66A2-C310-49FE-855D-AF854750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8FC91-9E65-43C9-9F83-153092F1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30944-DD75-42E7-9305-2079066C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F029C-64A2-4148-834C-498F3C86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794ED-DC59-4A3D-B0ED-4A374034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086BB-A757-423A-9C79-18934A48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F86-E85B-4E87-A18B-03D9B15C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513D2-3689-40F6-99E5-F07DF7A9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8C5C2-C3C8-4E24-BCC4-266BA86E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343B-4828-46C8-8D02-9FC279EA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CDD62-05BD-49FF-93F3-9C5F372D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1D1A5-AE0F-49CB-A695-F2255B0C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D19A-EDF4-4D97-B817-8C52BE6E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754FE-F66B-4FC6-9418-3561C0A4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70C-EB53-47DF-80CF-D755ED8B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D84-3FE1-4CEA-8E08-35C37846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4BA-3C00-4598-B43F-F8C8E377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A37-6F77-46E4-A79B-1E5C8820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4AA-3647-45AA-BD2B-853CC9D9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2C8-192A-4E05-8FAC-4D731E22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FFB1-9D7A-4C14-837F-20262598ABA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1C69-25D2-42C6-96B7-D332BCE815E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7B33-44B3-415B-AA8D-35CC555610A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71320"/>
            <a:ext cx="815328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3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Hoofdstuk 6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Elektriciteit, straling, trillingen en lawaai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risico’s van de techni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1EDB-54C9-4DE0-A010-E27E20BB93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320" y="1147320"/>
            <a:ext cx="835812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gevaloorz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amengev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08E8-5979-456F-BA43-A9C966A9D79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320" y="1499760"/>
            <a:ext cx="8001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an elektrische installaties is aan regels gebo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person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atie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bekwaam persoon (elektrotechnicu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onderricht persoo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niet bevoegd: l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5425-B9F7-4693-85B4-471091360A3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1680" y="164268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 (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 persoon en een leek hebben geen elektrotechnische vakopleiding afge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e persoon heeft van een vakbekwaam persoon een instructie gekregen om zorgvuldig omschreven taken aan een elektrische installatie onder toezicht te mogen uit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163a"/>
                </a:solidFill>
                <a:latin typeface="Arial"/>
              </a:rPr>
              <a:t>een leek heeft géén instructie ontvangen en mag níet aan een installatie wer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5925-3811-48BD-8B38-8D4D745BF0B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4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Technische</a:t>
            </a:r>
            <a:br>
              <a:rPr sz="2800"/>
            </a:b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571400"/>
            <a:ext cx="7799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3C4E-4B98-476F-A5D8-BC7DF8B493C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6232680" y="0"/>
            <a:ext cx="2911320" cy="194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http://www.soer.nl/shop/images/9706278elektra.JPG"/>
          <p:cNvPicPr/>
          <p:nvPr/>
        </p:nvPicPr>
        <p:blipFill>
          <a:blip r:embed="rId3"/>
          <a:stretch/>
        </p:blipFill>
        <p:spPr>
          <a:xfrm>
            <a:off x="6643800" y="371484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9d37"/>
                </a:solidFill>
                <a:latin typeface="Arial"/>
              </a:rPr>
              <a:t>Veiligheidsaar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1320" y="164268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en defect elektrisch toestel wordt voorkomen dat uitwendige delen onder spanning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30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81B4-4AA6-4C09-A93D-92B514833A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9680" y="1428480"/>
            <a:ext cx="8442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 op: beveiligt niet tegen indringen van vocht en 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7C25-1040-4AE3-AB96-D5C716ECFC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http://www.gortzen.eu/vca/elektrisch%20gereedschap/dubbel%20geisoleerd.png"/>
          <p:cNvPicPr/>
          <p:nvPr/>
        </p:nvPicPr>
        <p:blipFill>
          <a:blip r:embed="rId2"/>
          <a:stretch/>
        </p:blipFill>
        <p:spPr>
          <a:xfrm>
            <a:off x="4675320" y="2779560"/>
            <a:ext cx="6588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57720" y="1147680"/>
            <a:ext cx="62863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isuele insp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bruik tijdelijke stroominstal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een aardlekschakelaar (30 of 300 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B589-A296-4065-83FA-84D1F0E355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Afbeelding 4" descr="insp.jpg"/>
          <p:cNvPicPr/>
          <p:nvPr/>
        </p:nvPicPr>
        <p:blipFill>
          <a:blip r:embed="rId2"/>
          <a:stretch/>
        </p:blipFill>
        <p:spPr>
          <a:xfrm>
            <a:off x="357120" y="1357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http://www.abird.nl/UserFiles/Image/Producten/VerdeelkastVS.jpg"/>
          <p:cNvPicPr/>
          <p:nvPr/>
        </p:nvPicPr>
        <p:blipFill>
          <a:blip r:embed="rId3"/>
          <a:stretch/>
        </p:blipFill>
        <p:spPr>
          <a:xfrm>
            <a:off x="785880" y="3429000"/>
            <a:ext cx="2628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85960" y="1642680"/>
            <a:ext cx="70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05BC-CF1E-4482-89D0-EB8DC97833A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Afbeelding 4" descr="kabelhaspel02.jpg"/>
          <p:cNvPicPr/>
          <p:nvPr/>
        </p:nvPicPr>
        <p:blipFill>
          <a:blip r:embed="rId2"/>
          <a:stretch/>
        </p:blipFill>
        <p:spPr>
          <a:xfrm>
            <a:off x="133200" y="2852640"/>
            <a:ext cx="17384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320" y="157140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 is de opbou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elektrische spanning bi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f spuiten of andere soortgelijke activit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vloeistoffen bij strom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een kunststofleiding of bij het ro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5A6D-1EBC-4643-B85E-358FECBFA46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7283520" y="0"/>
            <a:ext cx="1860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320" y="1147680"/>
            <a:ext cx="8358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et ontstaan van (zeer) hoge spanninge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statische elektriciteit is mogelijk,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us gevaarlijk!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2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aatregelen om statische elektriciteit te bep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68D7-C1E5-4098-AF27-0A5B5FC47B9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 Elektriciteit, straling, trillingen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680" y="71424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: gemak en risico’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n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werken met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sch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 in werk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6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-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klimaat e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9B0F-D4D8-4908-B821-3348759F3DD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F850-CC9F-44C7-8720-F629B1DC525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kstvak 4"/>
          <p:cNvSpPr/>
          <p:nvPr/>
        </p:nvSpPr>
        <p:spPr>
          <a:xfrm>
            <a:off x="1071720" y="1785960"/>
            <a:ext cx="2143080" cy="9471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actiev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kstvak 7"/>
          <p:cNvSpPr/>
          <p:nvPr/>
        </p:nvSpPr>
        <p:spPr>
          <a:xfrm>
            <a:off x="4786200" y="1643040"/>
            <a:ext cx="142884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kstvak 12"/>
          <p:cNvSpPr/>
          <p:nvPr/>
        </p:nvSpPr>
        <p:spPr>
          <a:xfrm>
            <a:off x="5500800" y="2643120"/>
            <a:ext cx="228600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chn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14"/>
          <p:cNvSpPr/>
          <p:nvPr/>
        </p:nvSpPr>
        <p:spPr>
          <a:xfrm>
            <a:off x="3214800" y="2263680"/>
            <a:ext cx="2286000" cy="64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 verbindingslijn 19"/>
          <p:cNvSpPr/>
          <p:nvPr/>
        </p:nvSpPr>
        <p:spPr>
          <a:xfrm flipV="1">
            <a:off x="3214800" y="1908000"/>
            <a:ext cx="1571400" cy="262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kstvak 24"/>
          <p:cNvSpPr/>
          <p:nvPr/>
        </p:nvSpPr>
        <p:spPr>
          <a:xfrm>
            <a:off x="5500800" y="371808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es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cen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e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al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kstvak 28"/>
          <p:cNvSpPr/>
          <p:nvPr/>
        </p:nvSpPr>
        <p:spPr>
          <a:xfrm>
            <a:off x="857160" y="3228840"/>
            <a:ext cx="2876760" cy="45972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OMLAAG 29"/>
          <p:cNvSpPr/>
          <p:nvPr/>
        </p:nvSpPr>
        <p:spPr>
          <a:xfrm>
            <a:off x="1928880" y="27860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IJL-OMLAAG 30"/>
          <p:cNvSpPr/>
          <p:nvPr/>
        </p:nvSpPr>
        <p:spPr>
          <a:xfrm>
            <a:off x="2000160" y="3714840"/>
            <a:ext cx="71640" cy="1428840"/>
          </a:xfrm>
          <a:prstGeom prst="downArrow">
            <a:avLst>
              <a:gd name="adj1" fmla="val 50000"/>
              <a:gd name="adj2" fmla="val 49862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kstvak 33"/>
          <p:cNvSpPr/>
          <p:nvPr/>
        </p:nvSpPr>
        <p:spPr>
          <a:xfrm>
            <a:off x="857160" y="5143680"/>
            <a:ext cx="2857680" cy="36828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antasting weefsel/org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kstvak 34"/>
          <p:cNvSpPr/>
          <p:nvPr/>
        </p:nvSpPr>
        <p:spPr>
          <a:xfrm>
            <a:off x="2214720" y="3786120"/>
            <a:ext cx="278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ort b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rkte b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: absorptie / reflec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kstvak 15"/>
          <p:cNvSpPr/>
          <p:nvPr/>
        </p:nvSpPr>
        <p:spPr>
          <a:xfrm>
            <a:off x="6715080" y="928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ge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kstvak 16"/>
          <p:cNvSpPr/>
          <p:nvPr/>
        </p:nvSpPr>
        <p:spPr>
          <a:xfrm>
            <a:off x="6715080" y="1785960"/>
            <a:ext cx="19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j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e/gasw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hte verbindingslijn 18"/>
          <p:cNvSpPr/>
          <p:nvPr/>
        </p:nvSpPr>
        <p:spPr>
          <a:xfrm flipV="1">
            <a:off x="6215040" y="1279440"/>
            <a:ext cx="5000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Rechte verbindingslijn met pijl 26"/>
          <p:cNvCxnSpPr>
            <a:stCxn id="236" idx="3"/>
            <a:endCxn id="247" idx="1"/>
          </p:cNvCxnSpPr>
          <p:nvPr/>
        </p:nvCxnSpPr>
        <p:spPr>
          <a:xfrm>
            <a:off x="6214680" y="1907640"/>
            <a:ext cx="5007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CEE3-E9EB-47DF-A2E5-831670C54FA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tel 2"/>
          <p:cNvSpPr/>
          <p:nvPr/>
        </p:nvSpPr>
        <p:spPr>
          <a:xfrm>
            <a:off x="571680" y="228600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er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fstand: borden en afsche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gië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pakkingen gesloten la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tingen uitvo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8 Niet-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320" y="11473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ionisatie-effecten maar wel schadelijke werking mog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V-straling en IR-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nl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er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g instructies en houd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5841-8EF7-4D28-98B4-6E4D6058154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9F5E-F797-4FC9-8098-1D8870EED9E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kstvak 3"/>
          <p:cNvSpPr/>
          <p:nvPr/>
        </p:nvSpPr>
        <p:spPr>
          <a:xfrm>
            <a:off x="642960" y="2276640"/>
            <a:ext cx="19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torische) aand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kstvak 4"/>
          <p:cNvSpPr/>
          <p:nvPr/>
        </p:nvSpPr>
        <p:spPr>
          <a:xfrm>
            <a:off x="2714760" y="1643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r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kstvak 5"/>
          <p:cNvSpPr/>
          <p:nvPr/>
        </p:nvSpPr>
        <p:spPr>
          <a:xfrm>
            <a:off x="3718080" y="2419200"/>
            <a:ext cx="13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d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kstvak 7"/>
          <p:cNvSpPr/>
          <p:nvPr/>
        </p:nvSpPr>
        <p:spPr>
          <a:xfrm>
            <a:off x="5410080" y="1676520"/>
            <a:ext cx="15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/arm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kstvak 8"/>
          <p:cNvSpPr/>
          <p:nvPr/>
        </p:nvSpPr>
        <p:spPr>
          <a:xfrm>
            <a:off x="5429160" y="25909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chaams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Vrije vorm 9"/>
          <p:cNvSpPr/>
          <p:nvPr/>
        </p:nvSpPr>
        <p:spPr>
          <a:xfrm>
            <a:off x="1928880" y="2604960"/>
            <a:ext cx="1805040" cy="39708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1253067" h="296998">
                <a:moveTo>
                  <a:pt x="0" y="50722"/>
                </a:moveTo>
                <a:cubicBezTo>
                  <a:pt x="7526" y="35670"/>
                  <a:pt x="6397" y="10190"/>
                  <a:pt x="22578" y="5567"/>
                </a:cubicBezTo>
                <a:cubicBezTo>
                  <a:pt x="42062" y="0"/>
                  <a:pt x="63636" y="14956"/>
                  <a:pt x="79022" y="28144"/>
                </a:cubicBezTo>
                <a:cubicBezTo>
                  <a:pt x="91799" y="39096"/>
                  <a:pt x="93251" y="58689"/>
                  <a:pt x="101600" y="73300"/>
                </a:cubicBezTo>
                <a:cubicBezTo>
                  <a:pt x="108331" y="85080"/>
                  <a:pt x="118110" y="95032"/>
                  <a:pt x="124178" y="107167"/>
                </a:cubicBezTo>
                <a:cubicBezTo>
                  <a:pt x="129500" y="117810"/>
                  <a:pt x="129563" y="130701"/>
                  <a:pt x="135467" y="141033"/>
                </a:cubicBezTo>
                <a:cubicBezTo>
                  <a:pt x="144802" y="157369"/>
                  <a:pt x="158397" y="170879"/>
                  <a:pt x="169333" y="186189"/>
                </a:cubicBezTo>
                <a:cubicBezTo>
                  <a:pt x="177219" y="197229"/>
                  <a:pt x="184385" y="208766"/>
                  <a:pt x="191911" y="220055"/>
                </a:cubicBezTo>
                <a:cubicBezTo>
                  <a:pt x="199437" y="208766"/>
                  <a:pt x="207758" y="197969"/>
                  <a:pt x="214489" y="186189"/>
                </a:cubicBezTo>
                <a:cubicBezTo>
                  <a:pt x="222838" y="171578"/>
                  <a:pt x="227416" y="154820"/>
                  <a:pt x="237067" y="141033"/>
                </a:cubicBezTo>
                <a:cubicBezTo>
                  <a:pt x="253921" y="116956"/>
                  <a:pt x="274696" y="95878"/>
                  <a:pt x="293511" y="73300"/>
                </a:cubicBezTo>
                <a:cubicBezTo>
                  <a:pt x="297274" y="62011"/>
                  <a:pt x="294596" y="33311"/>
                  <a:pt x="304800" y="39433"/>
                </a:cubicBezTo>
                <a:cubicBezTo>
                  <a:pt x="328068" y="53394"/>
                  <a:pt x="349955" y="107167"/>
                  <a:pt x="349955" y="107167"/>
                </a:cubicBezTo>
                <a:cubicBezTo>
                  <a:pt x="351162" y="111995"/>
                  <a:pt x="364332" y="186189"/>
                  <a:pt x="383822" y="186189"/>
                </a:cubicBezTo>
                <a:cubicBezTo>
                  <a:pt x="412480" y="186189"/>
                  <a:pt x="436503" y="163611"/>
                  <a:pt x="462844" y="152322"/>
                </a:cubicBezTo>
                <a:cubicBezTo>
                  <a:pt x="464730" y="149493"/>
                  <a:pt x="510596" y="75896"/>
                  <a:pt x="519289" y="84589"/>
                </a:cubicBezTo>
                <a:cubicBezTo>
                  <a:pt x="547947" y="113247"/>
                  <a:pt x="546319" y="161228"/>
                  <a:pt x="564444" y="197478"/>
                </a:cubicBezTo>
                <a:lnTo>
                  <a:pt x="609600" y="287789"/>
                </a:lnTo>
                <a:cubicBezTo>
                  <a:pt x="678786" y="264727"/>
                  <a:pt x="613722" y="296998"/>
                  <a:pt x="654755" y="231344"/>
                </a:cubicBezTo>
                <a:cubicBezTo>
                  <a:pt x="674307" y="200061"/>
                  <a:pt x="704634" y="183040"/>
                  <a:pt x="733778" y="163611"/>
                </a:cubicBezTo>
                <a:cubicBezTo>
                  <a:pt x="739335" y="174725"/>
                  <a:pt x="765634" y="231994"/>
                  <a:pt x="778933" y="242633"/>
                </a:cubicBezTo>
                <a:cubicBezTo>
                  <a:pt x="788225" y="250067"/>
                  <a:pt x="801511" y="250159"/>
                  <a:pt x="812800" y="253922"/>
                </a:cubicBezTo>
                <a:cubicBezTo>
                  <a:pt x="816563" y="242633"/>
                  <a:pt x="818767" y="230698"/>
                  <a:pt x="824089" y="220055"/>
                </a:cubicBezTo>
                <a:cubicBezTo>
                  <a:pt x="877407" y="113418"/>
                  <a:pt x="843787" y="206114"/>
                  <a:pt x="869244" y="129744"/>
                </a:cubicBezTo>
                <a:cubicBezTo>
                  <a:pt x="876023" y="156859"/>
                  <a:pt x="878748" y="189277"/>
                  <a:pt x="903111" y="208767"/>
                </a:cubicBezTo>
                <a:cubicBezTo>
                  <a:pt x="912403" y="216200"/>
                  <a:pt x="925689" y="216292"/>
                  <a:pt x="936978" y="220055"/>
                </a:cubicBezTo>
                <a:cubicBezTo>
                  <a:pt x="948267" y="197477"/>
                  <a:pt x="961135" y="175623"/>
                  <a:pt x="970844" y="152322"/>
                </a:cubicBezTo>
                <a:cubicBezTo>
                  <a:pt x="979997" y="130354"/>
                  <a:pt x="974838" y="99456"/>
                  <a:pt x="993422" y="84589"/>
                </a:cubicBezTo>
                <a:cubicBezTo>
                  <a:pt x="1004017" y="76113"/>
                  <a:pt x="1016000" y="99641"/>
                  <a:pt x="1027289" y="107167"/>
                </a:cubicBezTo>
                <a:cubicBezTo>
                  <a:pt x="1038578" y="122219"/>
                  <a:pt x="1050219" y="137012"/>
                  <a:pt x="1061155" y="152322"/>
                </a:cubicBezTo>
                <a:cubicBezTo>
                  <a:pt x="1069041" y="163363"/>
                  <a:pt x="1070165" y="186189"/>
                  <a:pt x="1083733" y="186189"/>
                </a:cubicBezTo>
                <a:cubicBezTo>
                  <a:pt x="1097301" y="186189"/>
                  <a:pt x="1097625" y="162745"/>
                  <a:pt x="1106311" y="152322"/>
                </a:cubicBezTo>
                <a:cubicBezTo>
                  <a:pt x="1116532" y="140057"/>
                  <a:pt x="1129788" y="130577"/>
                  <a:pt x="1140178" y="118455"/>
                </a:cubicBezTo>
                <a:cubicBezTo>
                  <a:pt x="1152422" y="104170"/>
                  <a:pt x="1162755" y="88352"/>
                  <a:pt x="1174044" y="73300"/>
                </a:cubicBezTo>
                <a:cubicBezTo>
                  <a:pt x="1185333" y="84589"/>
                  <a:pt x="1199055" y="93883"/>
                  <a:pt x="1207911" y="107167"/>
                </a:cubicBezTo>
                <a:cubicBezTo>
                  <a:pt x="1214512" y="117068"/>
                  <a:pt x="1213878" y="130390"/>
                  <a:pt x="1219200" y="141033"/>
                </a:cubicBezTo>
                <a:cubicBezTo>
                  <a:pt x="1225268" y="153168"/>
                  <a:pt x="1234797" y="163266"/>
                  <a:pt x="1241778" y="174900"/>
                </a:cubicBezTo>
                <a:cubicBezTo>
                  <a:pt x="1246107" y="182115"/>
                  <a:pt x="1249304" y="189952"/>
                  <a:pt x="1253067" y="197478"/>
                </a:cubicBezTo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Rechte verbindingslijn met pijl 11"/>
          <p:cNvCxnSpPr>
            <a:stCxn id="260" idx="3"/>
            <a:endCxn id="261" idx="1"/>
          </p:cNvCxnSpPr>
          <p:nvPr/>
        </p:nvCxnSpPr>
        <p:spPr>
          <a:xfrm flipV="1">
            <a:off x="5105520" y="2056680"/>
            <a:ext cx="305280" cy="56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5" name="Rechte verbindingslijn met pijl 13"/>
          <p:cNvCxnSpPr>
            <a:stCxn id="260" idx="3"/>
            <a:endCxn id="262" idx="1"/>
          </p:cNvCxnSpPr>
          <p:nvPr/>
        </p:nvCxnSpPr>
        <p:spPr>
          <a:xfrm>
            <a:off x="5105160" y="2617560"/>
            <a:ext cx="324360" cy="354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6" name="Tekstvak 17"/>
          <p:cNvSpPr/>
          <p:nvPr/>
        </p:nvSpPr>
        <p:spPr>
          <a:xfrm>
            <a:off x="7072200" y="2562120"/>
            <a:ext cx="192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el of vloer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e/ werktu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kstvak 18"/>
          <p:cNvSpPr/>
          <p:nvPr/>
        </p:nvSpPr>
        <p:spPr>
          <a:xfrm>
            <a:off x="7072200" y="928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and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kstvak 19"/>
          <p:cNvSpPr/>
          <p:nvPr/>
        </p:nvSpPr>
        <p:spPr>
          <a:xfrm>
            <a:off x="5257800" y="5043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IJL-OMLAAG 20"/>
          <p:cNvSpPr/>
          <p:nvPr/>
        </p:nvSpPr>
        <p:spPr>
          <a:xfrm>
            <a:off x="5857920" y="3776760"/>
            <a:ext cx="642960" cy="10000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kstvak 21"/>
          <p:cNvSpPr/>
          <p:nvPr/>
        </p:nvSpPr>
        <p:spPr>
          <a:xfrm>
            <a:off x="6858000" y="41148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requ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uitslag (ampl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2CCA-316F-4DFF-9591-0A18C48585F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3"/>
          <p:cNvSpPr/>
          <p:nvPr/>
        </p:nvSpPr>
        <p:spPr>
          <a:xfrm>
            <a:off x="571680" y="13510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letsel/gezondheidsklachten door 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ijn in handen en a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voelloze vingertop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u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moei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hoofd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pier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ncentratiever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enwichtstoor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181A-4BBF-4A18-8666-B195F3DC9DB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kstvak 3"/>
          <p:cNvSpPr/>
          <p:nvPr/>
        </p:nvSpPr>
        <p:spPr>
          <a:xfrm>
            <a:off x="571680" y="14479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preventieve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euze van nieuwe appar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illing absorberende handscho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ternatieve techn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perking blootstelling (bijv. door taakroul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7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 Binnenklimaat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1F68-537E-4E5A-A59F-909DA74E57C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kstvak 3"/>
          <p:cNvSpPr/>
          <p:nvPr/>
        </p:nvSpPr>
        <p:spPr>
          <a:xfrm>
            <a:off x="571680" y="838080"/>
            <a:ext cx="83581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t werkt beter onder comfortabele omstandighed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je blijft langer gez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limaatbehee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leving wordt bepaald door temperatuur, vocht 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to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rksoort stelt eisen: precisiewerk meer 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eigenschappen werknemer: zichtverlies bijvoorbee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oor leef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kwaliteit verlichting/inrichting (contrasten en spiegeling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onderhoud en verva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ttelijke ei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33520" y="1371600"/>
            <a:ext cx="58291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awaai is schadelijk geluid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rd geluid heeft nadelig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 verstaat mensen slecht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effecten zijn afhankelijk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781E-F4B2-43B6-A2C2-5EDC8553615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283" name="Picture 7" descr=""/>
            <p:cNvPicPr/>
            <p:nvPr/>
          </p:nvPicPr>
          <p:blipFill>
            <a:blip r:embed="rId2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"/>
            <p:cNvPicPr/>
            <p:nvPr/>
          </p:nvPicPr>
          <p:blipFill>
            <a:blip r:embed="rId3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7" descr="http://www.energytech.at/kwk/fotos/portrait_10_en.jpg"/>
            <p:cNvPicPr/>
            <p:nvPr/>
          </p:nvPicPr>
          <p:blipFill>
            <a:blip r:embed="rId4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Rechthoek 12"/>
          <p:cNvGrpSpPr/>
          <p:nvPr/>
        </p:nvGrpSpPr>
        <p:grpSpPr>
          <a:xfrm>
            <a:off x="8772480" y="-12600"/>
            <a:ext cx="384120" cy="6883200"/>
            <a:chOff x="8772480" y="-12600"/>
            <a:chExt cx="384120" cy="6883200"/>
          </a:xfrm>
        </p:grpSpPr>
        <p:pic>
          <p:nvPicPr>
            <p:cNvPr id="288" name="Rechthoek 12" descr=""/>
            <p:cNvPicPr/>
            <p:nvPr/>
          </p:nvPicPr>
          <p:blipFill>
            <a:blip r:embed="rId6"/>
            <a:stretch/>
          </p:blipFill>
          <p:spPr>
            <a:xfrm>
              <a:off x="8772480" y="-12600"/>
              <a:ext cx="3841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786880" y="0"/>
              <a:ext cx="35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hte verbindingslijn 14"/>
          <p:cNvSpPr/>
          <p:nvPr/>
        </p:nvSpPr>
        <p:spPr>
          <a:xfrm>
            <a:off x="6786720" y="3000240"/>
            <a:ext cx="20001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 verbindingslijn 16"/>
          <p:cNvSpPr/>
          <p:nvPr/>
        </p:nvSpPr>
        <p:spPr>
          <a:xfrm>
            <a:off x="6715080" y="292896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 verbindingslijn 18"/>
          <p:cNvSpPr/>
          <p:nvPr/>
        </p:nvSpPr>
        <p:spPr>
          <a:xfrm>
            <a:off x="6500880" y="2928960"/>
            <a:ext cx="35712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 verbindingslijn 20"/>
          <p:cNvSpPr/>
          <p:nvPr/>
        </p:nvSpPr>
        <p:spPr>
          <a:xfrm>
            <a:off x="6500880" y="2714760"/>
            <a:ext cx="357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71680" y="1066680"/>
            <a:ext cx="6410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 va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oring van de communicati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jdens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oren van alarmsignal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hulpgeroe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vende gehoor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41BE-D5DF-4895-B5F6-CDBD1D36FA6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http://www.docukit.nl/inhoud/ic74-2.jpg"/>
          <p:cNvPicPr/>
          <p:nvPr/>
        </p:nvPicPr>
        <p:blipFill>
          <a:blip r:embed="rId2"/>
          <a:stretch/>
        </p:blipFill>
        <p:spPr>
          <a:xfrm>
            <a:off x="5334120" y="2975040"/>
            <a:ext cx="3438360" cy="2230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1680" y="1147320"/>
            <a:ext cx="82152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lijvende gehoor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dus alle reden om lawaai serieus aan te 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8080-D3E6-41EB-BDE0-A12C74508EB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, gemak en risico’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E957-5145-487C-9BB3-EAD0694C69B2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09480" y="1752480"/>
            <a:ext cx="82296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onmisb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ma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stroom kan doden en brand en explosies veroorz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en kunnen effecten geven op 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 kunnen de gezondheid bedr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 kan ernstige schade toebre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48A2-BE3F-416B-BCC4-38FF02633C1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3"/>
          <p:cNvSpPr/>
          <p:nvPr/>
        </p:nvSpPr>
        <p:spPr>
          <a:xfrm>
            <a:off x="571680" y="1143000"/>
            <a:ext cx="8397720" cy="47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geluidssterkte in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oor rekenen met geluidsbelasting wordt decibel(A) gebruikt</a:t>
            </a:r>
            <a:br>
              <a:rPr sz="2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A staat voor toepassen van een geluidsfilter A dat overeenkomt met het menselijk oor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eenheid decibel bevat een logarit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aardoor gelden andere rekenregels als lineaire een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erdubbeling van geluid betekent een toename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halvering van geluid betekent een vermindering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elke puntbron, dus meestal ook voor geluid, geldt: 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ubbele afstand: 1/4 van de intensiteit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geluid is dat  dus  -6 decibel!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: gemak en risico’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25F2-1314-475D-95FD-4A311BFA5C8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95440" y="1676520"/>
            <a:ext cx="82627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de basis van de industrie, huishouden en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veel ervaring met en er zijn veel voorschriften voor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het algemene gebruik en de goede bescherming kunnen we overblijvende risico’s gaan onder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962D-EBCD-4805-B0EA-CD8DD2FA42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71680" y="1600200"/>
            <a:ext cx="83581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7DD2-F11C-4D08-86A5-08BCF185F27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http://aivpc41.vub.ac.be/preventie/Images/VE_EL_electrocutie.gif"/>
          <p:cNvPicPr/>
          <p:nvPr/>
        </p:nvPicPr>
        <p:blipFill>
          <a:blip r:embed="rId2">
            <a:grayscl/>
          </a:blip>
          <a:stretch/>
        </p:blipFill>
        <p:spPr>
          <a:xfrm>
            <a:off x="4003560" y="1071720"/>
            <a:ext cx="2000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15228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85" name="Titel 1"/>
          <p:cNvSpPr/>
          <p:nvPr/>
        </p:nvSpPr>
        <p:spPr>
          <a:xfrm>
            <a:off x="571680" y="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01200" y="2133720"/>
            <a:ext cx="7651440" cy="39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gevaren van stroom door het licha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en door meerdere factoren bepaa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anning (50 Volt, 230 Volt of hoogspan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ochtigheidsgraad van de huid (droog of n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kte van de huid (een eeltlaag biedt bescherm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anrakingsoppervlak (hoe groter hoe meer stro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olatieweerstand van de standplaa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oleum en een rubbermat hebben een ho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en betonnen vloer heeft een la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8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(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04AB-38AE-4586-AC51-F300ACB13C4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21420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90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71680" y="2362320"/>
            <a:ext cx="6867360" cy="27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om door het lichaam kan op een indirec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er leiden tot een ong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waardoor letsel ontsta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rondvliegend materia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71320" y="2071440"/>
            <a:ext cx="87296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tsluit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kortsluiting en/of een 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9997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kortslui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7BE2-0B8D-4D06-9A66-FA6D6231C39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8:10Z</dcterms:modified>
  <cp:revision>131</cp:revision>
  <dc:subject/>
  <dc:title>Taak en positie VFP</dc:title>
</cp:coreProperties>
</file>