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6.jpeg" ContentType="image/jpe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5.png" ContentType="image/png"/>
  <Override PartName="/ppt/media/image28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9DF3-6E27-4758-9316-F83FFBDF6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FAE6-3371-4C0A-90E1-0D11378F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0216-4408-4C3F-B04F-C2A59461A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C94E-7388-42C2-9533-607FFE4B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DE4A-128F-4E8A-9FF4-446652CD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A03A-EBED-4DE4-94DD-2899ED74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821B-101A-4D2B-82B8-562D1598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D7C2-B183-49FF-A5FD-78334C17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6480-A40F-4E54-AD46-B830E52A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B1E4-8680-45A2-A8A0-64CD82F8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150E-BC33-4D26-9FDB-FB6D6AB3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4AE8-D627-4C05-9DD8-65630E08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504D-1FDB-4376-B07F-70A1E8AB904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ptieklammerant.be/Graphics/Veiligheidsbril1.jpg&amp;imgrefurl=http://www.optieklammerant.be/NL/Veiligheidsbrillen.php&amp;h=188&amp;w=242&amp;sz=56&amp;hl=nl&amp;start=55&amp;sig2=ZHSBzjhp1tgxrFk0n8Xgiw&amp;um=1&amp;usg=__CUKcKlhaujcnzqIWdiECb6GPUJc=&amp;tbnid=uPQHGKo37lH6iM:&amp;tbnh=85&amp;tbnw=110&amp;ei=yPEGSeywCJH-1QaUk4mKBw&amp;prev=/images?q=veiligheidsbril&amp;start=40&amp;ndsp=20&amp;um=1&amp;hl=nl&amp;rlz=1T4GGLL_nl&amp;sa=N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images.google.nl/imgres?imgurl=http://www.enormbrabander.nl/Html/Images/Veiligheidsbril.jpg&amp;imgrefurl=http://www.enormbrabander.nl/Html/assortiment/assortiment/nederlands/website_enorm_brabander/04Sale.html&amp;h=250&amp;w=250&amp;sz=8&amp;hl=nl&amp;start=9&amp;sig2=F92OidaQdtn4Emo0ID_lVA&amp;um=1&amp;usg=__VLvTLF5n8rszb-RxCsU4tFdw7tU=&amp;tbnid=V07os4M3iNu1EM:&amp;tbnh=111&amp;tbnw=111&amp;ei=CvAGSaDbBIOo1gaU8K2BBw&amp;prev=/images?q=veiligheidsbril&amp;um=1&amp;hl=nl&amp;rlz=1T4GGLL_nl&amp;sa=N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toolstation.nl/images/library/stock/webbig/56509.jpg&amp;imgrefurl=http://www.toolstation.nl/shop/Veiligheid/Hoofdengezicht/d70/sd520&amp;h=500&amp;w=500&amp;sz=27&amp;hl=nl&amp;start=7&amp;sig2=ejdeNPhmpSX36vuhQzL0ZA&amp;um=1&amp;usg=__Tlazlr_pSoVL_0HCIcBUFaIxnHQ=&amp;tbnid=Lbv8ckYmnagLRM:&amp;tbnh=130&amp;tbnw=130&amp;ei=6PUGSf-SMom-1wbLtfGHBw&amp;prev=/images?q=gehoorbescherming&amp;um=1&amp;hl=nl&amp;rlz=1T4GGLL_nl&amp;sa=G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10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Persoonlijke beschermingsmidd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0920" y="907560"/>
            <a:ext cx="78454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assen, dampen of stof in de luch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inderlijk, ook gevaar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embeschermingsmiddelen zij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termasker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(niet in besloten ruim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hankelijk van de werksituatie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weinig zuurstof: geen filtermasker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n verse lucht of zuurstof mas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sen en dampen andere filters dan 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mask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ventil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persluchtf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kap op een luchtlei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ttps://www.youtube.com/watch?v=GjvqgyLyy88&amp;feature=relmf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ttps://www.youtube.com/watch?v=ya-sxVfNm_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ttps://www.youtube.com/watch?v=cQGIMKORTUo&amp;feature=relmf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" descr=""/>
          <p:cNvPicPr/>
          <p:nvPr/>
        </p:nvPicPr>
        <p:blipFill>
          <a:blip r:embed="rId1"/>
          <a:srcRect l="8696" t="0" r="21505" b="0"/>
          <a:stretch/>
        </p:blipFill>
        <p:spPr>
          <a:xfrm>
            <a:off x="7572240" y="0"/>
            <a:ext cx="1571760" cy="226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http://www.preventia.nl/images/Hamilton3"/>
          <p:cNvPicPr/>
          <p:nvPr/>
        </p:nvPicPr>
        <p:blipFill>
          <a:blip r:embed="rId2"/>
          <a:stretch/>
        </p:blipFill>
        <p:spPr>
          <a:xfrm>
            <a:off x="7461360" y="3054240"/>
            <a:ext cx="16761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6" descr=""/>
          <p:cNvPicPr/>
          <p:nvPr/>
        </p:nvPicPr>
        <p:blipFill>
          <a:blip r:embed="rId1"/>
          <a:srcRect l="23803" t="5386" r="26782" b="33079"/>
          <a:stretch/>
        </p:blipFill>
        <p:spPr>
          <a:xfrm>
            <a:off x="7640640" y="0"/>
            <a:ext cx="1503360" cy="2214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1905120" y="4724280"/>
            <a:ext cx="142848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gas/dam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65760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stoffilters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P1/P2/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100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aanzuigen verse luc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70102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luchtfles of luchtlei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785880" y="4714920"/>
            <a:ext cx="128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oort P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785880" y="3714840"/>
            <a:ext cx="192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hoofdin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071880" y="36432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filtermask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857920" y="2500200"/>
            <a:ext cx="2000160" cy="85752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loten ruim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zuurstoftek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071880" y="2500200"/>
            <a:ext cx="1785960" cy="857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f vluch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529160" y="1357200"/>
            <a:ext cx="1614600" cy="90036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adem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785880" y="2900520"/>
            <a:ext cx="18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itu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867280" y="36576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nafhankelijke adem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duur van het filterpatroo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gt af van de concentratie van verontreinig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sterke verontreiniging vaker nieuw patroon nodi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als je meer lucht verbruikt bij zwaar 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 filtermas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uitje (geperst mondkapj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lfgelaatmaskermask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m de mond en de ne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filterpatroon/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elaatmask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sker waarmee tevens de og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d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met patroon of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5" descr="http://www.arbostore.eu/UserFiles/Image/x_06970273.jpg"/>
          <p:cNvPicPr/>
          <p:nvPr/>
        </p:nvPicPr>
        <p:blipFill>
          <a:blip r:embed="rId1"/>
          <a:stretch/>
        </p:blipFill>
        <p:spPr>
          <a:xfrm>
            <a:off x="7016760" y="3584520"/>
            <a:ext cx="171288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van filters, nadelen en risico’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age langs het filter, bijvoorbeeld door baardgroe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van een beschadigd of verouderd fil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oppen of doorsl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bescherming tegen zuurstoftek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838080" y="4114800"/>
            <a:ext cx="6858000" cy="1736640"/>
          </a:xfrm>
          <a:prstGeom prst="rect">
            <a:avLst/>
          </a:prstGeom>
          <a:ln w="0">
            <a:noFill/>
          </a:ln>
        </p:spPr>
      </p:pic>
      <p:pic>
        <p:nvPicPr>
          <p:cNvPr id="94" name="Afbeelding 9" descr="imagesCANAECO9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6994440" y="0"/>
            <a:ext cx="21495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inder dan 20% zuurstof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</a:t>
            </a: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hoge concentraties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onbekende stoffen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en onafhankelijke adem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e luchtkappen met toegevoerde lu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le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mpress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nti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elaatmasker in combinatie met luchtfl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lucht (ademlucht) wordt via een longautomaa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 de flessen in de ademruimte aangezo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cht voor verse luchtkappen, ademluchtleidingen en ademluchtflessen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et van goede kwaliteit en temperatuur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dembescherming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 en oefening voor het gebru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 of het masker goed passend is (fit te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onderhoud en schoon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Afbeelding 4" descr="imagesCAPA3MR9.jpg"/>
          <p:cNvPicPr/>
          <p:nvPr/>
        </p:nvPicPr>
        <p:blipFill>
          <a:blip r:embed="rId1"/>
          <a:stretch/>
        </p:blipFill>
        <p:spPr>
          <a:xfrm>
            <a:off x="7467480" y="3809880"/>
            <a:ext cx="1285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4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helm of een stoothe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laag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ofd sto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innenwerk vangt de schok op en verdeelt de krachten over het hoo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men vervangen na een val of stoot of na het opvangen van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vangen na een bepaalde perio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helmen zijn in de industri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bo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Afbeelding 7" descr="imagesCA740JAN.jpg"/>
          <p:cNvPicPr/>
          <p:nvPr/>
        </p:nvPicPr>
        <p:blipFill>
          <a:blip r:embed="rId1"/>
          <a:stretch/>
        </p:blipFill>
        <p:spPr>
          <a:xfrm>
            <a:off x="6553080" y="4419720"/>
            <a:ext cx="2062440" cy="1714320"/>
          </a:xfrm>
          <a:prstGeom prst="rect">
            <a:avLst/>
          </a:prstGeom>
          <a:ln w="0">
            <a:noFill/>
          </a:ln>
        </p:spPr>
      </p:pic>
      <p:pic>
        <p:nvPicPr>
          <p:cNvPr id="103" name="Afbeelding 6" descr="s_108.jpg"/>
          <p:cNvPicPr/>
          <p:nvPr/>
        </p:nvPicPr>
        <p:blipFill>
          <a:blip r:embed="rId2"/>
          <a:stretch/>
        </p:blipFill>
        <p:spPr>
          <a:xfrm>
            <a:off x="6991200" y="6480"/>
            <a:ext cx="2152800" cy="32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5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rte handschoenen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schoenen met verlengde pols- of arm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illende gebruiksdo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ijbestendige handschoenen voor bij het sn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olerende handschoenen of wanten bij hitte of kou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shandschoe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of rubberen handschoenen bij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 zijn gemaakt van material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relatie tot het gebruiksdo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fbeelding 14" descr="imagesCAXRQ26V.jpg"/>
          <p:cNvPicPr/>
          <p:nvPr/>
        </p:nvPicPr>
        <p:blipFill>
          <a:blip r:embed="rId1"/>
          <a:stretch/>
        </p:blipFill>
        <p:spPr>
          <a:xfrm>
            <a:off x="7500960" y="0"/>
            <a:ext cx="1643040" cy="2635200"/>
          </a:xfrm>
          <a:prstGeom prst="rect">
            <a:avLst/>
          </a:prstGeom>
          <a:ln w="0">
            <a:noFill/>
          </a:ln>
        </p:spPr>
      </p:pic>
      <p:pic>
        <p:nvPicPr>
          <p:cNvPr id="107" name="Afbeelding 13" descr="imagesCAQL3HR7.jpg"/>
          <p:cNvPicPr/>
          <p:nvPr/>
        </p:nvPicPr>
        <p:blipFill>
          <a:blip r:embed="rId2"/>
          <a:stretch/>
        </p:blipFill>
        <p:spPr>
          <a:xfrm>
            <a:off x="7315200" y="43434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6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 te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erpe voorwerpen,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 op gladde vloeren en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een explosiegevaarlijk gebied: antistatis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door extra beschermende delen, zo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versterkte neus die de tenen bescherm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terkte tussenzool tegen trappen in scherpe voorwer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tislipzool tegen uitglij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schoenen veelal verplicht in de bou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erkte neus en versterkte tussenz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er en/of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hankelijk van je werkplek, de omstandig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het werk, is passende kleding verplic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tistatische kleding bij explosiegev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bevui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ijdens het lassen en slijpen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ale beschermende kled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itte, koude, stra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alkleding voor zichtbaa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werkkleding en isolerend onderg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lage temperat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fbeelding 4" descr="imagesCAGNZWRX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358040" y="0"/>
            <a:ext cx="17859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PBM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strijding onvoldoen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cherming gevarenbron niet toereikend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fscherming van mensen kan falen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990720" y="1828800"/>
            <a:ext cx="7543800" cy="41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dachtspunten bij het gebru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>
              <a:lnSpc>
                <a:spcPct val="10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leding wisselen bij verandering van taak/omg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leding niet schoonblazen met perslucht en zeker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t met zuurstof (ernstig brandgeva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uilde kleding direct reinigen of omwiss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bewegende, draaiende delen kleding geslot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apotte kleding onmiddellijk laten herstellen of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a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gwerpkleding na één keer dragen weggoo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bescherming voorkomt vallen en/of bepe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en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regels en 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harnas moet goed passen en is afgestemd op dr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drager controleert vooraf op goede 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lijnen mogen niet vervuild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dempers en veiligheidsharnassen opslaan op een droge en schone 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 die een val heeft opgevangen, laten ke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ssystemen en veiligheidsharnassen minstens eenmaal per jaar laten keu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s belangrijk lichamelijke schade te beper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hoogte zo klein mogelij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schok maximaal dem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 bij een gedempte val is er 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maal opgevangen in het harnas wordt de bloedsomloop naar het onderlichaam afgekne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ans op bewusteloos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zo’n situatie altijd benen blijven bewegen en optrekken aan de vallijn om de druk op de benen te verl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minimaal twee personen werken om zonodig hulp te kunnen inroe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ep 7"/>
          <p:cNvGrpSpPr/>
          <p:nvPr/>
        </p:nvGrpSpPr>
        <p:grpSpPr>
          <a:xfrm>
            <a:off x="7620120" y="2057400"/>
            <a:ext cx="1523880" cy="2209680"/>
            <a:chOff x="7620120" y="2057400"/>
            <a:chExt cx="1523880" cy="2209680"/>
          </a:xfrm>
        </p:grpSpPr>
        <p:pic>
          <p:nvPicPr>
            <p:cNvPr id="123" name="Picture 5" descr="Ein Arbeiter hängt nach dem Unfall auf einer Baustelle in Grevenbroich an einem Gerüst. Bei dem schweren Unfall auf der Baustelle des neuen RWE-Kraftwerks sind vermutlich mehrere Menschen getötet worden."/>
            <p:cNvPicPr/>
            <p:nvPr/>
          </p:nvPicPr>
          <p:blipFill>
            <a:blip r:embed="rId1"/>
            <a:stretch/>
          </p:blipFill>
          <p:spPr>
            <a:xfrm>
              <a:off x="7620120" y="2057400"/>
              <a:ext cx="152388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Ovaal 6"/>
            <p:cNvSpPr/>
            <p:nvPr/>
          </p:nvSpPr>
          <p:spPr>
            <a:xfrm>
              <a:off x="8185320" y="2558160"/>
              <a:ext cx="463680" cy="10000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Afbeelding 4" descr="untitled.bmp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PBM zijn er om je te bescherm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                 </a:t>
            </a: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maak er goed gebruik va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is de laatste verdediging tegen gevaren v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of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worden gebruikt als het niet anders k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BM moeten wel goed zij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trouwba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bescherming bi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test en voorzien van een CE-merkte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 voor het gebru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controleert PBM kwaliteit en CE-merkt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moet er op een goede manier mee omg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9" descr=""/>
          <p:cNvPicPr/>
          <p:nvPr/>
        </p:nvPicPr>
        <p:blipFill>
          <a:blip r:embed="rId1"/>
          <a:stretch/>
        </p:blipFill>
        <p:spPr>
          <a:xfrm>
            <a:off x="6711840" y="2597040"/>
            <a:ext cx="24256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1 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2 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3 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4 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5 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6 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7 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8 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gen zijn heel kwetsb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op het werk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e deelt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de, scherpe of stofdeeltjes bij verspanen, slijpen, hakken of b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oeiende deeltjes bij slijpen, lassen en bra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rmte- en lichtstraling, waaronder ultraviolet (UV) en infrarood (I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ten van gevaarlijke vloei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corrosief, irriterend, schadelijk of gifti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335720" y="0"/>
            <a:ext cx="1808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stal uitgevoerd  met zijkap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lazen van gehard glas of kunst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imzicht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p het gezicht a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en of volledig stofdichte ventilatieopenin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ing tegen stof bij slijpen, hakken, bo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ing tegen spatten gevaarlijke vloeist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aatsche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unststof of metaalgazen scherm rondom het gehele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escherming tegen stoffen, gassen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mpen, stofdeeltjes die van onder k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1" descr="http://tbn0.google.com/images?q=tbn:uPQHGKo37lH6iM:http://www.optieklammerant.be/Graphics/Veiligheidsbril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38760" y="1530360"/>
            <a:ext cx="1571760" cy="1212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http://tbn0.google.com/images?q=tbn:V07os4M3iNu1EM:http://www.enormbrabander.nl/Html/Images/Veiligheidsbri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21680" y="3206880"/>
            <a:ext cx="1573200" cy="106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~1\gerard\LOCALS~1\Temp\~DEST\0001iw\Scannen0017.bmp"/>
          <p:cNvPicPr/>
          <p:nvPr/>
        </p:nvPicPr>
        <p:blipFill>
          <a:blip r:embed="rId5"/>
          <a:stretch/>
        </p:blipFill>
        <p:spPr>
          <a:xfrm>
            <a:off x="7796160" y="4724280"/>
            <a:ext cx="134136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br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dere ruit van gehard glas of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en een donkere r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gebruik bij (autogeen) lass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rondvliegende deeltjes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afbikken en slij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laskappen/lasscher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dekken het hele gezi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bben een donkere ruit tegen 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ltraviolette en infrarode straling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rmte, metaaldeeltjes en 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Afbeelding 5" descr="images.jpg"/>
          <p:cNvPicPr/>
          <p:nvPr/>
        </p:nvPicPr>
        <p:blipFill>
          <a:blip r:embed="rId1"/>
          <a:stretch/>
        </p:blipFill>
        <p:spPr>
          <a:xfrm>
            <a:off x="6254640" y="2365200"/>
            <a:ext cx="1785960" cy="160992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4" descr="images2.jpg"/>
          <p:cNvPicPr/>
          <p:nvPr/>
        </p:nvPicPr>
        <p:blipFill>
          <a:blip r:embed="rId2"/>
          <a:stretch/>
        </p:blipFill>
        <p:spPr>
          <a:xfrm>
            <a:off x="6254640" y="4505400"/>
            <a:ext cx="1762200" cy="15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veel lawaai is gevaarlij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municatie moei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doof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plich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ter beschikking stellen bij een geluids(druk)niveau vanaf 80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verplicht dragen bij een geluids(druk)niveau vanaf 85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Afbeelding 5" descr="gehoor.jpg"/>
          <p:cNvPicPr/>
          <p:nvPr/>
        </p:nvPicPr>
        <p:blipFill>
          <a:blip r:embed="rId1"/>
          <a:stretch/>
        </p:blipFill>
        <p:spPr>
          <a:xfrm>
            <a:off x="7162920" y="6480"/>
            <a:ext cx="1987560" cy="29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atten /prop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rpluggen / oordo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toplasti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hoork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1" descr="http://tbn0.google.com/images?q=tbn:Lbv8ckYmnagLRM:http://www.toolstation.nl/images/library/stock/webbig/5650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510552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ttp://tbn0.google.com/images?q=tbn:sUedTQkv7_DL1M:http://boneschansker.com/images/otoplastieken.JPG"/>
          <p:cNvPicPr/>
          <p:nvPr/>
        </p:nvPicPr>
        <p:blipFill>
          <a:blip r:embed="rId3"/>
          <a:stretch/>
        </p:blipFill>
        <p:spPr>
          <a:xfrm>
            <a:off x="3124080" y="4114800"/>
            <a:ext cx="1414440" cy="128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http://tbn0.google.com/images?q=tbn:eTsdTFVHnl2ubM:http://www.toolspecial.com/images/1984-1.jpg"/>
          <p:cNvPicPr/>
          <p:nvPr/>
        </p:nvPicPr>
        <p:blipFill>
          <a:blip r:embed="rId4">
            <a:lum bright="-20000"/>
          </a:blip>
          <a:stretch/>
        </p:blipFill>
        <p:spPr>
          <a:xfrm>
            <a:off x="6553080" y="2590920"/>
            <a:ext cx="1428840" cy="118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5"/>
          <a:srcRect l="0" t="0" r="13370" b="0"/>
          <a:stretch/>
        </p:blipFill>
        <p:spPr>
          <a:xfrm>
            <a:off x="3200400" y="1828800"/>
            <a:ext cx="142884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Gerrit Hoff</cp:lastModifiedBy>
  <cp:lastPrinted>2015-10-06T06:41:37Z</cp:lastPrinted>
  <dcterms:modified xsi:type="dcterms:W3CDTF">2015-10-06T14:13:37Z</dcterms:modified>
  <cp:revision>42</cp:revision>
  <dc:subject/>
  <dc:title>Test</dc:title>
</cp:coreProperties>
</file>