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B71A-25EA-4DFF-B7EE-0590D07A861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DFED-C8B7-44E8-9E78-4EE33B697AF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4C4-4C39-444D-9559-B8B2BE2D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034-1355-47C0-8D18-FBB520D3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9E6-A020-4385-811A-9AAD913E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AA4-7D65-4D25-A740-08F0679F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64F4-DC9F-497E-B241-F29C1146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8552-38D9-4F32-920C-C4716153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D475-1FB8-4994-83E1-82AA11BF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2D9-E541-446F-BA05-6590E4F7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09C-6707-4FEA-83D8-4CB39CE4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B73-757B-4947-967B-D873F95F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9539-EC6C-4407-8966-498C611C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BB2-242E-4058-A453-B9E01FC0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24BD-0D46-4970-AA42-670E95B4975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er mis kan 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slijpstenen op één machine mogen niet te veel verschi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es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fbeelding 5" descr="http://www.metabo.nl/uploads/tx_commerce/feinbilder/0300020003s_51_m.jpg"/>
          <p:cNvPicPr/>
          <p:nvPr/>
        </p:nvPicPr>
        <p:blipFill>
          <a:blip r:embed="rId1"/>
          <a:stretch/>
        </p:blipFill>
        <p:spPr>
          <a:xfrm>
            <a:off x="6934320" y="3124080"/>
            <a:ext cx="19764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nderlijke of gevaarlijk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, stevig bevestigde beschuttings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rote werkstukken assistentie van tweede persoon of gebruik rollenb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ttp://www.metabo.nl/uploads/tx_commerce/feinbilder/0104605000s_51_m.jpg"/>
          <p:cNvPicPr/>
          <p:nvPr/>
        </p:nvPicPr>
        <p:blipFill>
          <a:blip r:embed="rId1"/>
          <a:stretch/>
        </p:blipFill>
        <p:spPr>
          <a:xfrm>
            <a:off x="7172280" y="152280"/>
            <a:ext cx="1971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 geïsoleerd betekent niet bescherming tegen water of vochtig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neumat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erslucht = pneumatis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gereedsc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, bij slijpschijven groter dan 125m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slijpschijf moet st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slijpmachin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3800" y="18892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cirkel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 schermt de buitenrand zaag volledig a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 aanpassen aan diameter en dikte van de z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oer steeds achter de zaag 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nagel/niet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ketting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40227" t="0" r="8150" b="0"/>
          <a:stretch/>
        </p:blipFill>
        <p:spPr>
          <a:xfrm>
            <a:off x="7500960" y="1523880"/>
            <a:ext cx="16430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er van machines en gereedschappen heb je een belangrijke rol in risico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zelf vragen stellen en zonodig in actie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het apparaat in ord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risico's bij gebruik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b je een duidelijke instructie gekregen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ren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oldoende kennis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rsleutels en slagsleu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6458040" y="1905120"/>
            <a:ext cx="2685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roevendraa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ij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ndz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aat en (soort) zaag aangepas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ug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fbeelding 6" descr="zagen.jpg"/>
          <p:cNvPicPr/>
          <p:nvPr/>
        </p:nvPicPr>
        <p:blipFill>
          <a:blip r:embed="rId1"/>
          <a:stretch/>
        </p:blipFill>
        <p:spPr>
          <a:xfrm>
            <a:off x="7531200" y="312408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i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t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8" descr="tangen.jpg"/>
          <p:cNvPicPr/>
          <p:nvPr/>
        </p:nvPicPr>
        <p:blipFill>
          <a:blip r:embed="rId1"/>
          <a:srcRect l="0" t="0" r="0" b="35266"/>
          <a:stretch/>
        </p:blipFill>
        <p:spPr>
          <a:xfrm>
            <a:off x="6678720" y="2967120"/>
            <a:ext cx="2465280" cy="923760"/>
          </a:xfrm>
          <a:prstGeom prst="rect">
            <a:avLst/>
          </a:prstGeom>
          <a:ln w="0">
            <a:noFill/>
          </a:ln>
        </p:spPr>
      </p:pic>
      <p:pic>
        <p:nvPicPr>
          <p:cNvPr id="99" name="Afbeelding 4" descr="images.jpg"/>
          <p:cNvPicPr/>
          <p:nvPr/>
        </p:nvPicPr>
        <p:blipFill>
          <a:blip r:embed="rId2"/>
          <a:stretch/>
        </p:blipFill>
        <p:spPr>
          <a:xfrm>
            <a:off x="5638680" y="1523880"/>
            <a:ext cx="1378080" cy="1443240"/>
          </a:xfrm>
          <a:prstGeom prst="rect">
            <a:avLst/>
          </a:prstGeom>
          <a:ln w="0">
            <a:noFill/>
          </a:ln>
        </p:spPr>
      </p:pic>
      <p:pic>
        <p:nvPicPr>
          <p:cNvPr id="100" name="Afbeelding 7" descr="imagesCAPWV5WN.jpg"/>
          <p:cNvPicPr/>
          <p:nvPr/>
        </p:nvPicPr>
        <p:blipFill>
          <a:blip r:embed="rId3"/>
          <a:stretch/>
        </p:blipFill>
        <p:spPr>
          <a:xfrm>
            <a:off x="6705720" y="4419720"/>
            <a:ext cx="1725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1  Veiligheidseisen voor arbeidsmidde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en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2  Algemene eisen en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3  Vast opgestelde machines/gereedsc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4 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5  Handgereedschap zonder aand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1 Veiligheidseis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- voor arbeidsmiddelen en machin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kunnen er ongevallen ont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sp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ontwer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s- en onderhoudsvoorschrift in taal gebruik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aan bedieners van 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opleiding/ervaring en ouder dan 18 j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uste inzet van techniek in ruimtes met explosie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dreven 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erhog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loop- en bewegingsruim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nderhoud machines of gereedschappen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mansknop op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reikbaar, duidelijk zichtbaar en herken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ulspanningschakel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: tweehandenbediening en koppelscherm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let zelf op dat je instructies krijgt</a:t>
            </a:r>
            <a:br>
              <a:rPr sz="2400"/>
            </a:b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voor nieuw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olomboormachines en boor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boren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 werken is van bela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0:37:45Z</dcterms:modified>
  <cp:revision>34</cp:revision>
  <dc:subject/>
  <dc:title>Test</dc:title>
</cp:coreProperties>
</file>