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3.wmf" ContentType="image/x-wmf"/>
  <Override PartName="/ppt/media/image26.wmf" ContentType="image/x-wmf"/>
  <Override PartName="/ppt/media/image2.wmf" ContentType="image/x-wmf"/>
  <Override PartName="/ppt/media/image23.jpeg" ContentType="image/jpeg"/>
  <Override PartName="/ppt/media/image10.png" ContentType="image/png"/>
  <Override PartName="/ppt/media/image27.jpeg" ContentType="image/jpeg"/>
  <Override PartName="/ppt/media/image25.png" ContentType="image/png"/>
  <Override PartName="/ppt/media/image24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28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11E4-84F8-4471-B218-7647D8A0C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4128-7018-4064-B2FC-9E921A41A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1A72-E639-4E9F-B433-488842DC8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544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0892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96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544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0892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0919-F3A4-4A9B-B8EB-C96681887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84D8E-1D71-4E44-A889-E7A7EAF88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A1410-3419-4BAD-8D4C-4A6FC7BD5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5D25F-E73C-4BE1-A5F4-64E2F29CF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D6F74-0755-4BC0-A5F9-123039AF4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1D4C3-F19F-487F-B7DB-AF0634198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0040" y="609120"/>
            <a:ext cx="8415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BDCAE-CB74-4029-BD9B-3D5675D38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29F7C-FE5F-4673-BB6F-048DD891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CD35-27DF-4997-8E49-624BD696A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580CF-3DFA-4C05-B2C3-2696AF51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14232-E631-48BD-9C22-A8509D95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39200-B77B-4C2B-8F45-D1ADF88CF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E9B89-5BF6-4405-AB39-E3AFDE9BF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544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0892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996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544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0892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7DF3F-9973-413F-AE9A-66A6A2B12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3C8AB-FCA4-489C-A93A-849241E25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D2739-A95E-433A-9264-9E5D80DA3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ED6B7-8C79-44CC-B9C1-199BB7F10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1B892-515C-42D6-9C89-1C1927710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8CB90-80C4-47ED-B92A-025C4047E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37EE-42FA-412D-B18C-C20E2DEE7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500040" y="609120"/>
            <a:ext cx="8415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0895B-5BB1-4DB0-9EE7-F649CD7DB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4ED3D-DA76-4FA9-A2CB-D4F7A263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A8FEB-7F3E-4710-BE1A-5E00F8EF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241C6-CEF9-4372-9F36-C3874474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50A70-6B9A-4BEC-A35D-7F4AD3D18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CF7F2-0BBA-4872-B25F-D9F5DEA5B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544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20892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996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544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20892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C89D8-173F-4A3E-ABB4-EADC5595C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9EEA-C5E8-496F-9421-36385386D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CD78-72DE-4D41-A34F-3312D7779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00040" y="609120"/>
            <a:ext cx="8415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4EB6-7B58-4036-BDD0-D928D9C10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4671-431C-45FD-AF5B-FF117A7A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9775-B1B1-4F94-9A4C-AEE8C947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DB97-1DF0-4688-A635-3B4B0594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image" Target="../media/image2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74925-06CE-4F53-BD18-E0E0DF6A46B3}" type="slidenum"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7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6"/>
          <a:stretch/>
        </p:blipFill>
        <p:spPr>
          <a:xfrm>
            <a:off x="771516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7"/>
          <a:stretch/>
        </p:blipFill>
        <p:spPr>
          <a:xfrm>
            <a:off x="533520" y="5867280"/>
            <a:ext cx="838080" cy="542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84A0A-55E4-443D-B8BD-FF72BD8596FE}" type="slidenum"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1039680" cy="1092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F912C-2CD1-4309-B00F-E08608D08E7D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kerckebosch.nl/html/home.php" TargetMode="External"/><Relationship Id="rId2" Type="http://schemas.openxmlformats.org/officeDocument/2006/relationships/hyperlink" Target="http://www.kerckebosch.nl/html/home.php" TargetMode="External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AutoShape 5">
            <a:hlinkClick r:id="rId1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AutoShape 7">
            <a:hlinkClick r:id="rId2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ijdelijke aanduiding voor dianummer 6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179CC-06EF-43D4-973F-78E80F08E3F4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itel 4"/>
          <p:cNvSpPr/>
          <p:nvPr/>
        </p:nvSpPr>
        <p:spPr>
          <a:xfrm>
            <a:off x="642960" y="571680"/>
            <a:ext cx="802008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dbb2d"/>
                </a:solidFill>
                <a:latin typeface="Arial"/>
                <a:ea typeface="Arial"/>
              </a:rPr>
              <a:t>VCA V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2dbb2d"/>
                </a:solidFill>
                <a:latin typeface="Arial"/>
                <a:ea typeface="Arial"/>
              </a:rPr>
              <a:t>Hoofdstuk 2</a:t>
            </a:r>
            <a:br>
              <a:rPr sz="4400"/>
            </a:br>
            <a:r>
              <a:rPr b="1" lang="nl-NL" sz="4400" spc="-1" strike="noStrike">
                <a:solidFill>
                  <a:srgbClr val="2dbb2d"/>
                </a:solidFill>
                <a:latin typeface="Arial"/>
                <a:ea typeface="Arial"/>
              </a:rPr>
              <a:t>Wetten en rege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835812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3 Plichten van de werkgev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C5484-9C54-4F04-A7E9-A0DDFD5996BF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571680" y="1604880"/>
            <a:ext cx="7868880" cy="28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5840">
              <a:lnSpc>
                <a:spcPct val="100000"/>
              </a:lnSpc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e werkgever moet ook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-228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evaren voorkomen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-228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evaren zo veel mogelijk bij de bron verminderen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-228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e werknemer goed voorlichte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-228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e veilige werkwijze laten zien en laten toepassen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-228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oede PBM’s beschikbaar stelle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-228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zorgen dat er hulp is in geval van noo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798660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3 Plichten van de werkgev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71680" y="1499760"/>
            <a:ext cx="8370720" cy="29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werkgever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ventariseert de risico’s (schriftelijk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elt  preventiebeleid op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perkt risico’s (rekening houden met techniek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ernstige risico’s voorkeur voor materiële maatregelen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76280" indent="-343080">
              <a:spcBef>
                <a:spcPts val="601"/>
              </a:spcBef>
              <a:buClr>
                <a:srgbClr val="00ffff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B837B-9B41-473B-936F-78C386677760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798660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3 Plichten van de werkgev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71320" y="999720"/>
            <a:ext cx="83581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e werkgeve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anpak beheers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ysteembenadering (bijv. KAM-systeem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verleggen met werknem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(wijze) zo nodig aanpas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e arbeidsmiddel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assende opleid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nderen (derden) bescher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oodhulp organis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gevallen, onderzoeken en melden aan Arbeidsinspecti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38D5A-09BA-4FC3-97D6-5A82650C7CA5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798660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3 Plichten van de werkgev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71320" y="999720"/>
            <a:ext cx="83581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e werkgeve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beheersing betekent vooral dat beleid en procedures worden nageleefd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tru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gelei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oezicht  hou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BM geven en laten gebrui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ongewenst gedrag toler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F70B0-673B-4990-92F3-030E4C8B106A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798660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3 Plichten van de werkgev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71320" y="1000080"/>
            <a:ext cx="835812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e werkgeve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c0163a"/>
                </a:solidFill>
                <a:latin typeface="Arial"/>
              </a:rPr>
              <a:t>effectiviteit verbeteren door te reageren op incidenten en te leren van ongevallen en inciden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62A21-D7E4-4DDD-BB8E-A52C2DE9BE5B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Veiligheidssignalering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71680" y="1499760"/>
            <a:ext cx="72864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s moet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ich veilig kunnen gedra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ich veilig willen gedra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wust blijven van de risico’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ignaler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ogelijke geva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gelegde maatreg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plicht dragen van PB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HBO- en brandbestrijdingsmid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vacuatiewe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ijdelijke aanduiding voor dianumm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AA780-9AA7-41A1-9854-C4AB42B18E0C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7215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Veiligheidssignalering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785520" y="1142640"/>
            <a:ext cx="45003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bo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o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arschuw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voorzie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bestrij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8" descr=""/>
          <p:cNvPicPr/>
          <p:nvPr/>
        </p:nvPicPr>
        <p:blipFill>
          <a:blip r:embed="rId1"/>
          <a:stretch/>
        </p:blipFill>
        <p:spPr>
          <a:xfrm>
            <a:off x="5500800" y="5286240"/>
            <a:ext cx="928440" cy="9288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3" descr="http://www.biname.be/images/produits/signalisation/signalweb.gif"/>
          <p:cNvPicPr/>
          <p:nvPr/>
        </p:nvPicPr>
        <p:blipFill>
          <a:blip r:embed="rId2"/>
          <a:stretch/>
        </p:blipFill>
        <p:spPr>
          <a:xfrm>
            <a:off x="7858080" y="142920"/>
            <a:ext cx="1076400" cy="1076400"/>
          </a:xfrm>
          <a:prstGeom prst="rect">
            <a:avLst/>
          </a:prstGeom>
          <a:ln w="0">
            <a:noFill/>
          </a:ln>
        </p:spPr>
      </p:pic>
      <p:sp>
        <p:nvSpPr>
          <p:cNvPr id="224" name="Tijdelijke aanduiding voor dianummer 10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275DB-0521-446B-8E0B-EB8FFA5851BA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5" name="Picture 9" descr=""/>
          <p:cNvPicPr/>
          <p:nvPr/>
        </p:nvPicPr>
        <p:blipFill>
          <a:blip r:embed="rId3"/>
          <a:stretch/>
        </p:blipFill>
        <p:spPr>
          <a:xfrm>
            <a:off x="5108400" y="1378080"/>
            <a:ext cx="1616400" cy="19317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"/>
          <p:cNvPicPr/>
          <p:nvPr/>
        </p:nvPicPr>
        <p:blipFill>
          <a:blip r:embed="rId4"/>
          <a:stretch/>
        </p:blipFill>
        <p:spPr>
          <a:xfrm>
            <a:off x="5181480" y="2444760"/>
            <a:ext cx="1590840" cy="18716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"/>
          <p:cNvPicPr/>
          <p:nvPr/>
        </p:nvPicPr>
        <p:blipFill>
          <a:blip r:embed="rId5"/>
          <a:stretch/>
        </p:blipFill>
        <p:spPr>
          <a:xfrm>
            <a:off x="6143760" y="3286080"/>
            <a:ext cx="987120" cy="8668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0" descr=""/>
          <p:cNvPicPr/>
          <p:nvPr/>
        </p:nvPicPr>
        <p:blipFill>
          <a:blip r:embed="rId6"/>
          <a:stretch/>
        </p:blipFill>
        <p:spPr>
          <a:xfrm>
            <a:off x="5500800" y="4357800"/>
            <a:ext cx="9633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Markering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71680" y="1285920"/>
            <a:ext cx="78516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geven aan dat er een gevaar is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2536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 gebied aanduiden en/of afscher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463680" indent="-2383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voorbeeld bij hijswerkzaamhe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25360" indent="-225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4" descr="http://www.biname.be/images/produits/signalisation/ballisage.gif"/>
          <p:cNvPicPr/>
          <p:nvPr/>
        </p:nvPicPr>
        <p:blipFill>
          <a:blip r:embed="rId1"/>
          <a:stretch/>
        </p:blipFill>
        <p:spPr>
          <a:xfrm>
            <a:off x="6715080" y="3429000"/>
            <a:ext cx="1138320" cy="11383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http://www.biname.be/images/produits/signalisation/barriere.gif"/>
          <p:cNvPicPr/>
          <p:nvPr/>
        </p:nvPicPr>
        <p:blipFill>
          <a:blip r:embed="rId2"/>
          <a:stretch/>
        </p:blipFill>
        <p:spPr>
          <a:xfrm>
            <a:off x="5500800" y="47862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0" descr="http://www.biname.be/images/produits/signalisation/conesweb.gif"/>
          <p:cNvPicPr/>
          <p:nvPr/>
        </p:nvPicPr>
        <p:blipFill>
          <a:blip r:embed="rId3"/>
          <a:stretch/>
        </p:blipFill>
        <p:spPr>
          <a:xfrm>
            <a:off x="7643880" y="214200"/>
            <a:ext cx="1357200" cy="1717920"/>
          </a:xfrm>
          <a:prstGeom prst="rect">
            <a:avLst/>
          </a:prstGeom>
          <a:ln w="0">
            <a:noFill/>
          </a:ln>
        </p:spPr>
      </p:pic>
      <p:sp>
        <p:nvSpPr>
          <p:cNvPr id="234" name="Tijdelijke aanduiding voor dianummer 7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83657-5E8E-4823-A9C0-98E59DBD76CE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kstvak 8"/>
          <p:cNvSpPr/>
          <p:nvPr/>
        </p:nvSpPr>
        <p:spPr>
          <a:xfrm>
            <a:off x="571680" y="4071960"/>
            <a:ext cx="607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223920" indent="-22392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ls linten: wit - rood, of geel - zwart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Tekstvak 9"/>
          <p:cNvSpPr/>
          <p:nvPr/>
        </p:nvSpPr>
        <p:spPr>
          <a:xfrm>
            <a:off x="571680" y="4500720"/>
            <a:ext cx="6143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25360" indent="-22536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rood - witte hekken worden ook gebruikt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kstvak 11"/>
          <p:cNvSpPr/>
          <p:nvPr/>
        </p:nvSpPr>
        <p:spPr>
          <a:xfrm>
            <a:off x="571680" y="2720880"/>
            <a:ext cx="585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Arial"/>
              </a:rPr>
              <a:t>markeringen komen voor in diverse vorm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kstvak 12"/>
          <p:cNvSpPr/>
          <p:nvPr/>
        </p:nvSpPr>
        <p:spPr>
          <a:xfrm>
            <a:off x="571680" y="3643200"/>
            <a:ext cx="4286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35080" indent="-2350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eplakt of geschilderd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8" descr=""/>
          <p:cNvPicPr/>
          <p:nvPr/>
        </p:nvPicPr>
        <p:blipFill>
          <a:blip r:embed="rId1">
            <a:lum bright="-30000"/>
          </a:blip>
          <a:stretch/>
        </p:blipFill>
        <p:spPr>
          <a:xfrm rot="20067600">
            <a:off x="4846320" y="-439560"/>
            <a:ext cx="2500200" cy="25002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428400"/>
            <a:ext cx="5500440" cy="92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Markering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71320" y="1219320"/>
            <a:ext cx="6786360" cy="44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geel-zwarte marker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-220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malle/lage doorga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-220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 voor stoten (bijv. hijsblok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-220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bieden met gevaarlijke stoff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-220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bij trapp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-220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streep in een afwijkende kleur geven bovenste en/of de onderste trede a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-220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le of witte streep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9848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ruikelgevaa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9848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inig onderscheid tussen vloer en traptre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60AC1-C3BF-48E7-9E40-1784BF9536CA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Picture 9" descr=""/>
          <p:cNvPicPr/>
          <p:nvPr/>
        </p:nvPicPr>
        <p:blipFill>
          <a:blip r:embed="rId2"/>
          <a:srcRect l="27321" t="40454" r="0" b="41551"/>
          <a:stretch/>
        </p:blipFill>
        <p:spPr>
          <a:xfrm>
            <a:off x="6711840" y="642960"/>
            <a:ext cx="2432160" cy="6033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" descr=""/>
          <p:cNvPicPr/>
          <p:nvPr/>
        </p:nvPicPr>
        <p:blipFill>
          <a:blip r:embed="rId3">
            <a:lum bright="-30000"/>
          </a:blip>
          <a:stretch/>
        </p:blipFill>
        <p:spPr>
          <a:xfrm rot="20067600">
            <a:off x="6440040" y="-296640"/>
            <a:ext cx="250056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Markeringen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71680" y="149976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gele of witte strepen worden ook gebruikt om aan te gev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lke doorgangen je moet vrijhouden 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nnen welk gebied niet opgeslagen/gestapeld kan word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c0163a"/>
                </a:solidFill>
                <a:latin typeface="Arial"/>
              </a:rPr>
              <a:t>voor het aangeven van een </a:t>
            </a:r>
            <a:r>
              <a:rPr b="1" i="1" lang="nl-NL" sz="2200" spc="-1" strike="noStrike">
                <a:solidFill>
                  <a:srgbClr val="c0163a"/>
                </a:solidFill>
                <a:latin typeface="Arial"/>
              </a:rPr>
              <a:t>explosiegevaarlijke zone</a:t>
            </a:r>
            <a:r>
              <a:rPr b="0" i="1" lang="nl-NL" sz="2200" spc="-1" strike="noStrike">
                <a:solidFill>
                  <a:srgbClr val="c0163a"/>
                </a:solidFill>
                <a:latin typeface="Arial"/>
              </a:rPr>
              <a:t>, wordt het waarschuwingsbord met de letters </a:t>
            </a:r>
            <a:r>
              <a:rPr b="1" i="1" lang="nl-NL" sz="2200" spc="-1" strike="noStrike">
                <a:solidFill>
                  <a:srgbClr val="c0163a"/>
                </a:solidFill>
                <a:latin typeface="Arial"/>
              </a:rPr>
              <a:t>EX</a:t>
            </a:r>
            <a:r>
              <a:rPr b="0" i="1" lang="nl-NL" sz="2200" spc="-1" strike="noStrike">
                <a:solidFill>
                  <a:srgbClr val="c0163a"/>
                </a:solidFill>
                <a:latin typeface="Arial"/>
              </a:rPr>
              <a:t> gebruik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6DAFF-B902-442D-8CCB-06086A532799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Picture 5" descr="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5429160" y="4857840"/>
            <a:ext cx="1700280" cy="1409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9680" y="571320"/>
            <a:ext cx="8358120" cy="57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Verplichte risicobeheers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571320" y="1500120"/>
            <a:ext cx="814356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Nederland is verplicht de Europese Richtlijnen te vol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onze wetgeving gaat verder </a:t>
            </a:r>
            <a:r>
              <a:rPr b="0" lang="nl-NL" sz="2400" spc="-1" strike="noStrike">
                <a:solidFill>
                  <a:srgbClr val="c0163a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 Arbow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ing veiligheid en gezondhei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ichten voor werkgevers én werknem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verheid houdt toezicht op nale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92000" indent="-2174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spectiediensten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Arbeidsinspect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92000" indent="-2174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ilieuwetgev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92000" indent="-2174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rbeidstijdenwetgeving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800C4-48E1-4DCB-AE03-1852A691127E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6514920" cy="10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Arbeidsplaatsen en projectlocatie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71680" y="1285560"/>
            <a:ext cx="828648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werkgever én werknemer moeten ongevallen</a:t>
            </a:r>
            <a:br>
              <a:rPr sz="2400"/>
            </a:b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voorkom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meest voorkomende ongeval is onderuitgaan </a:t>
            </a:r>
            <a:br>
              <a:rPr sz="2400"/>
            </a:b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bij het lopen doo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glijden, struikelen en verstapp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-egale (niet vlakke) of losse ondergro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verwachte hoogteverschi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 hoge afsta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osliggende tege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ladde vlo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geschikt schoeisel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nnen in plaats van normaal lop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0DA00-0399-4FD6-987B-658B12693CDA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AutoShape 5"/>
          <p:cNvSpPr/>
          <p:nvPr/>
        </p:nvSpPr>
        <p:spPr>
          <a:xfrm>
            <a:off x="88920" y="-212760"/>
            <a:ext cx="42670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AutoShape 7"/>
          <p:cNvSpPr/>
          <p:nvPr/>
        </p:nvSpPr>
        <p:spPr>
          <a:xfrm>
            <a:off x="88920" y="-212760"/>
            <a:ext cx="42670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AutoShape 9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Afbeelding 7" descr="IMG_5781%20bouwplaats%20entree.jpg"/>
          <p:cNvPicPr/>
          <p:nvPr/>
        </p:nvPicPr>
        <p:blipFill>
          <a:blip r:embed="rId1"/>
          <a:stretch/>
        </p:blipFill>
        <p:spPr>
          <a:xfrm>
            <a:off x="7286760" y="0"/>
            <a:ext cx="18572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6929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Voorkom onveilige situaties</a:t>
            </a:r>
            <a:br>
              <a:rPr sz="2800"/>
            </a:b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bronbestrijding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571680" y="1499760"/>
            <a:ext cx="8572320" cy="26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zorg besteden aan ontwerp en werkvoorberei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scheiden van mens en gevaa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2880" indent="-181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t behulp van een fysieke afschei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2880" indent="-181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scheiden rij- en voetpa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2880" indent="-181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assende verlich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4B6CC-7277-4AB3-A56F-6AC74BBB4A6B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0" name="Afbeelding 4" descr="Aquallure%201.jpg"/>
          <p:cNvPicPr/>
          <p:nvPr/>
        </p:nvPicPr>
        <p:blipFill>
          <a:blip r:embed="rId1"/>
          <a:stretch/>
        </p:blipFill>
        <p:spPr>
          <a:xfrm>
            <a:off x="2738520" y="4071960"/>
            <a:ext cx="33336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Voorkom onveilige situaties </a:t>
            </a:r>
            <a:br>
              <a:rPr sz="2800"/>
            </a:br>
            <a:br>
              <a:rPr sz="2800"/>
            </a:b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plichten werknemer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71680" y="1500120"/>
            <a:ext cx="837072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zelf do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od housekeeping: 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ordelijke en nette werkple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nel verhelpen van onveilige situat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 opletten tijdens het lop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dingen dragen die het gezichtsveld hind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aangegeven, voorziene wegen en paden vol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past schoeisel dra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C5C53-1DE9-4009-A9DD-DC95088330B2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Plichten van de werknem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571680" y="149976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houding en kenn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en voor eigen veiligheid en gezondheid en voor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die van and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amenwerken met werkgever en preventiediens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positieve bijdrage leveren aan het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preventiebele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ongewenst gedrag op het 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lden van ongevallen, gevaren of bijna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ongeva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leiding, voorlichting en instructies vol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83387-44E4-41B5-8C5F-34F8644845B5}" type="slidenum">
              <a:rPr b="1" lang="nl-NL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6572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Plichten van de werknemer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571320" y="1642680"/>
            <a:ext cx="83581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veilige werkwijze toepass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op de goede manier gebruik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63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chines, toestellen, gereedschappen, gevaarlijke stoffen, vervoermiddelen en andere mid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angebrachte beveiliging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63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veranderen of wegha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63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de juiste wijze toepas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persoonlijke beschermingsmidde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63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de goede manier gebruik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63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vuldig onderhou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365E5-19F6-48DD-BE5F-3B993FAAB153}" type="slidenum">
              <a:rPr b="1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571320" y="499680"/>
            <a:ext cx="8156520" cy="30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0163a"/>
                </a:solidFill>
                <a:latin typeface="Arial"/>
              </a:rPr>
              <a:t>rechten van de werknem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veilige en gezonde werkomge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formatie over de veiligheid en het 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leid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derbreking van werk bij ernstig gevaar voor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men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AB858-3CD3-49F0-875D-3D63D7B462CC}" type="slidenum">
              <a:rPr b="1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2" name="Afbeelding 7" descr="werkonderbreking_ns_personeel_425.jpg"/>
          <p:cNvPicPr/>
          <p:nvPr/>
        </p:nvPicPr>
        <p:blipFill>
          <a:blip r:embed="rId1"/>
          <a:stretch/>
        </p:blipFill>
        <p:spPr>
          <a:xfrm>
            <a:off x="4498920" y="3645000"/>
            <a:ext cx="3108240" cy="29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6215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5 Deskundige bijstand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571680" y="1571400"/>
            <a:ext cx="82152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werkgever moet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interne preventiedienst oprich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een of meer deskundigen aanstel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heidskundig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drijfsar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s het bedrijf zelf niet over de nodige deskundigheid beschikt: externe bijstand inschake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9B10C-EA89-4F7E-9935-0457CD69BC49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Picture 6" descr=""/>
          <p:cNvPicPr/>
          <p:nvPr/>
        </p:nvPicPr>
        <p:blipFill>
          <a:blip r:embed="rId1"/>
          <a:srcRect l="41175" t="0" r="0" b="0"/>
          <a:stretch/>
        </p:blipFill>
        <p:spPr>
          <a:xfrm>
            <a:off x="7475400" y="0"/>
            <a:ext cx="16686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6715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Bedrijfsgezondheidszor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71680" y="135684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de bedrijfsarts is belangrij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zondheidsbeoordelin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zondheidsbeschermin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8548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werkgever is verantwoordelijk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nemers in de gelegenheid stellen om periodiek, onderzoek te ondergaan om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08200" indent="-18108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zondheidsrisico’s te signaler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08200" indent="-18108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zondheidsrisico’s te voorkomen en te beper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57D98-DD84-4906-BD3C-C84CFA5435ED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Picture 7" descr=""/>
          <p:cNvPicPr/>
          <p:nvPr/>
        </p:nvPicPr>
        <p:blipFill>
          <a:blip r:embed="rId1"/>
          <a:stretch/>
        </p:blipFill>
        <p:spPr>
          <a:xfrm>
            <a:off x="7410600" y="0"/>
            <a:ext cx="17334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735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6 Toezicht op V+G wetgev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71680" y="1142640"/>
            <a:ext cx="798192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inspectiediensten waaronder de Arbeidsinspecti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n en rechten van de inspectiedienst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ntroleren naleven van de wetgev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isen naleving van de w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gevallen onderzoe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illeggen werk bij ernstig gevaa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oces-verbaal schrijven bij strafbaar fe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ragen geldige legitimatie werknem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zoeken van alle werkplekk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FA790-EDC8-49CC-BA17-4F0D8BFF3260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Picture 7" descr="MPj04373830000[1]"/>
          <p:cNvPicPr/>
          <p:nvPr/>
        </p:nvPicPr>
        <p:blipFill>
          <a:blip r:embed="rId1"/>
          <a:srcRect l="0" t="0" r="35719" b="0"/>
          <a:stretch/>
        </p:blipFill>
        <p:spPr>
          <a:xfrm>
            <a:off x="6934320" y="4495680"/>
            <a:ext cx="172404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716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7 Milieuwetgev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71680" y="1218960"/>
            <a:ext cx="764352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do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2880" indent="-181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ns en omgeving beschermen teg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de schadelijke gevolgen van activitei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2880" indent="-181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stoot milieubelastende stoffen 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afvalstromen beper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2880" indent="-181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en voor doelmatige en correct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verwijdering van afvalstoff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98B7C-B242-40B2-9963-0B87324C10A5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8" name="Picture 5" descr="http://www.ivarem.be/images/ladder-van-lansink.GIF"/>
          <p:cNvPicPr/>
          <p:nvPr/>
        </p:nvPicPr>
        <p:blipFill>
          <a:blip r:embed="rId1">
            <a:grayscl/>
          </a:blip>
          <a:stretch/>
        </p:blipFill>
        <p:spPr>
          <a:xfrm>
            <a:off x="6000840" y="-108000"/>
            <a:ext cx="4000320" cy="69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1680" y="571320"/>
            <a:ext cx="8237520" cy="57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Verplichte risicobeheers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71320" y="1499760"/>
            <a:ext cx="82674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vloed van Europ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tionale wetgeving veiligheid en gezondhei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ichten van de werkgev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ichten van de werknem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skundige bijsta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6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zicht op V&amp;G-wetgev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7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lieuwetgev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8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sbestbepaling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9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eidstijdenw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10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zendwe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6DF42-E43F-4F46-992D-79F4D82CCBBE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8 Asbestbepaling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71680" y="149976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sbest inventarise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niet verwerken of bewer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sbesthoudend afval gescheiden afvoe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sbestverdacht materiaal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aten onderzoeken door onafhankelijk lab (niet bij werke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sbesthoudende producten met gebonden vezels kan iedereen afvo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D4A30-5CD8-4475-AED7-0BA7F83E0DD8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9 Arbeidstijdenwe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571680" y="128556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doe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63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komen dat de veiligheid en de gezondheid van werknemers in gevaar ko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08200" indent="-18108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geven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maximale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rbeidstij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08200" indent="-181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geven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minimale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usttijde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63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vorderen dat werken en zorgtaken/gezin gecombineerd kunnen wor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04CB1-B78C-4EEA-8137-E70B52A941B2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AutoShape 5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AutoShape 7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7" name="Picture 8" descr=""/>
          <p:cNvPicPr/>
          <p:nvPr/>
        </p:nvPicPr>
        <p:blipFill>
          <a:blip r:embed="rId1"/>
          <a:stretch/>
        </p:blipFill>
        <p:spPr>
          <a:xfrm>
            <a:off x="3144960" y="4071960"/>
            <a:ext cx="30178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10 Uitzendwerk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571680" y="1285560"/>
            <a:ext cx="837072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CU-gecertificeerde uitzendbureaus moeten vooraf goede voorlichting over risicobeheersing gev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lenende organisatie is verantwoordelijk voor bescherming en veilig laten werken van inleenkrach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AC3B0-B6E1-4F3E-B881-90320B433DC2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AutoShape 5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AutoShape 7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10 Uitzendwerk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533520" y="121896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zendorganisatie informeert  medewerker over eigen beleid, inlenende bedrijf, werk en werkplek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beleidsverklaring uitzendorganisa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gemene regels inlenende bedrijf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3384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gemene veiligheid- en gezondheidsrege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3384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lden onveiligheid en noodmaatreg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3384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 en werkple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44480" indent="-344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unctie-eisen, gevaren, beheersmaatregel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44480" indent="-344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BM-gebruik, vergunningen en specifieke rege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1798D-C5BD-4293-A85E-AE900C45A65E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AutoShape 5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AutoShape 7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Tekstvak 6"/>
          <p:cNvSpPr/>
          <p:nvPr/>
        </p:nvSpPr>
        <p:spPr>
          <a:xfrm>
            <a:off x="1714680" y="5486400"/>
            <a:ext cx="48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c0163a"/>
                </a:solidFill>
                <a:latin typeface="Arial"/>
                <a:ea typeface="Tahoma"/>
              </a:rPr>
              <a:t>de inleenkracht krijgt documentatie mee</a:t>
            </a:r>
            <a:r>
              <a:rPr b="0" i="1" lang="nl-NL" sz="2000" spc="-1" strike="noStrike">
                <a:solidFill>
                  <a:srgbClr val="00ffff"/>
                </a:solidFill>
                <a:latin typeface="Arial"/>
                <a:ea typeface="Tahom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10 Uitzendwerk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1571400" y="1147680"/>
            <a:ext cx="722772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B9A52-7F02-4201-825C-E5F583F6CCD1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AutoShape 5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AutoShape 7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Tekstvak 6"/>
          <p:cNvSpPr/>
          <p:nvPr/>
        </p:nvSpPr>
        <p:spPr>
          <a:xfrm>
            <a:off x="571680" y="1285920"/>
            <a:ext cx="8429400" cy="40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Tahoma"/>
              </a:rPr>
              <a:t>inlenende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Tahoma"/>
              </a:rPr>
              <a:t>bedrijf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 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Tahoma"/>
              </a:rPr>
              <a:t>directe instructie over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2286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melden gevar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2286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handelen bij noodsitua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2286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meedoen met oefening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2286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inschakelen hulpdienst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Tahoma"/>
              </a:rPr>
              <a:t>inzet inleenkracht op afgesproken werk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 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Tahoma"/>
              </a:rPr>
              <a:t>voor nieuwe taken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2286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aangeven wat de risico’s en preventiemaatregelen zij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2286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afspraken met uitzendorganisatie over  taakverdeling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2286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(wie informeert, instrueert en verstrekt de PB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1320" y="642600"/>
            <a:ext cx="7072200" cy="50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1 Invloed van Europa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71680" y="1828440"/>
            <a:ext cx="7951680" cy="44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Nederland is lid van de Europese Un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3120" indent="-23328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plicht de Europese richtlijnen te vol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onze wetten moeten zo nodig worden aangepas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3120" indent="-23328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voorbeeld: CE-marker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CE-markering op machines en PBM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m.b.t. veiligheid voldoen CE-producten aan de betreffende Europese richtlij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lleen CE-gemarkeerde arbeidsmiddelen mogen op de markt worden gebracht en worden gebruik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5A5D5-2313-48D6-BE5A-52FB5180327E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AutoShape 7"/>
          <p:cNvSpPr/>
          <p:nvPr/>
        </p:nvSpPr>
        <p:spPr>
          <a:xfrm>
            <a:off x="181080" y="-509760"/>
            <a:ext cx="161928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Picture 11" descr=""/>
          <p:cNvPicPr/>
          <p:nvPr/>
        </p:nvPicPr>
        <p:blipFill>
          <a:blip r:embed="rId1"/>
          <a:stretch/>
        </p:blipFill>
        <p:spPr>
          <a:xfrm>
            <a:off x="6242040" y="30240"/>
            <a:ext cx="272592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320" y="214200"/>
            <a:ext cx="642924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2 Nationale wetgeving </a:t>
            </a:r>
            <a:br>
              <a:rPr sz="2800"/>
            </a:b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over veilig  en gezond werken</a:t>
            </a:r>
            <a:r>
              <a:rPr b="1" lang="nl-NL" sz="2800" spc="-1" strike="noStrike">
                <a:solidFill>
                  <a:srgbClr val="47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71320" y="1500120"/>
            <a:ext cx="8156520" cy="47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rbeidsomstandighedenwet  is d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belangrijkste wet op het gebied va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veiligheid en gezondheid bij wer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 wel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owet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genoem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doel: werknemers bij het werk bescherm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beteren van de veilighei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arborgen van gezondheid en welzij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 goed mogelijke arbeidsomstandighe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alle plaatsen waar gewerkt word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EB90E-E4D9-4C71-8143-0F33D0908D1B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tretch/>
        </p:blipFill>
        <p:spPr>
          <a:xfrm>
            <a:off x="7286760" y="0"/>
            <a:ext cx="18572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168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Arbowe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71320" y="1428480"/>
            <a:ext cx="71434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Arbowet geeft plichten aa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gevers én werknemers</a:t>
            </a:r>
            <a:br>
              <a:rPr sz="2400"/>
            </a:br>
            <a:br>
              <a:rPr sz="2400"/>
            </a:br>
            <a:r>
              <a:rPr b="1" lang="nl-NL" sz="2400" spc="-1" strike="noStrike">
                <a:solidFill>
                  <a:srgbClr val="c0163a"/>
                </a:solidFill>
                <a:latin typeface="Arial"/>
              </a:rPr>
              <a:t>werkgever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gever van het bedrijf waar je in dienst bent, maar ook degene die jou aanwijzingen geeft, toezicht houdt en middelen verstrekt</a:t>
            </a:r>
            <a:br>
              <a:rPr sz="2400"/>
            </a:br>
            <a:br>
              <a:rPr sz="2400"/>
            </a:br>
            <a:r>
              <a:rPr b="1" lang="nl-NL" sz="2400" spc="-1" strike="noStrike">
                <a:solidFill>
                  <a:srgbClr val="c0163a"/>
                </a:solidFill>
                <a:latin typeface="Arial"/>
              </a:rPr>
              <a:t>werknemers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s in vaste/tijdelijke dienst, uitzendkrachten, stagiairs, vrijwillig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27160" indent="-227160"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227160" indent="-227160"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63F64-8684-4601-BA93-4402F5F91A10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7286760" y="0"/>
            <a:ext cx="18572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653544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dbc09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Welzijn in de Arbowe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71320" y="1428840"/>
            <a:ext cx="826740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richting werkplek aanpass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 werknem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tten op persoonsfacto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eftijd en geslach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ennis, vakmanschap en voertaal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D574F-354E-4B03-91B5-B469F706214A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Picture 5" descr=""/>
          <p:cNvPicPr/>
          <p:nvPr/>
        </p:nvPicPr>
        <p:blipFill>
          <a:blip r:embed="rId1"/>
          <a:stretch/>
        </p:blipFill>
        <p:spPr>
          <a:xfrm>
            <a:off x="7284960" y="0"/>
            <a:ext cx="1859040" cy="2359080"/>
          </a:xfrm>
          <a:prstGeom prst="rect">
            <a:avLst/>
          </a:prstGeom>
          <a:ln w="0">
            <a:noFill/>
          </a:ln>
        </p:spPr>
      </p:pic>
      <p:sp>
        <p:nvSpPr>
          <p:cNvPr id="192" name="Tijdelijke aanduiding voor inhoud 3"/>
          <p:cNvSpPr/>
          <p:nvPr/>
        </p:nvSpPr>
        <p:spPr>
          <a:xfrm>
            <a:off x="571680" y="3571920"/>
            <a:ext cx="8267400" cy="23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nvloed op eigen werkzaamhed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een eentonig werk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680" y="428400"/>
            <a:ext cx="6230880" cy="92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dbc09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Kennis als uitgangspun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71320" y="1643040"/>
            <a:ext cx="788652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lichting aan werknemers  o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GW algeme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plekgevaren en veiligheidsmaatreg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schriften en rege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ennistoets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15B6F-7BF2-46AC-8F30-237370224955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Picture 5" descr=""/>
          <p:cNvPicPr/>
          <p:nvPr/>
        </p:nvPicPr>
        <p:blipFill>
          <a:blip r:embed="rId1"/>
          <a:stretch/>
        </p:blipFill>
        <p:spPr>
          <a:xfrm>
            <a:off x="7284960" y="0"/>
            <a:ext cx="1859040" cy="2359080"/>
          </a:xfrm>
          <a:prstGeom prst="rect">
            <a:avLst/>
          </a:prstGeom>
          <a:ln w="0">
            <a:noFill/>
          </a:ln>
        </p:spPr>
      </p:pic>
      <p:sp>
        <p:nvSpPr>
          <p:cNvPr id="197" name="Tijdelijke aanduiding voor inhoud 3"/>
          <p:cNvSpPr/>
          <p:nvPr/>
        </p:nvSpPr>
        <p:spPr>
          <a:xfrm>
            <a:off x="609480" y="3733920"/>
            <a:ext cx="701352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erkgever laat zich bijstaan door deskundigen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1680" y="30456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3 Plichten van de werkgev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9" name="Tijdelijke aanduiding voor dianummer 3"/>
          <p:cNvSpPr/>
          <p:nvPr/>
        </p:nvSpPr>
        <p:spPr>
          <a:xfrm>
            <a:off x="7010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92376-B8FA-47E8-B489-7AB740900935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Picture 5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7358040" y="0"/>
            <a:ext cx="1785960" cy="2357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201" name=""/>
          <p:cNvSpPr txBox="1"/>
          <p:nvPr/>
        </p:nvSpPr>
        <p:spPr>
          <a:xfrm>
            <a:off x="571680" y="183960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werkgev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t dat de werknemer veilig werkt en geen gezondheidsschade oploopt door het 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als de werkgever dat niet goed doet, kan hij gestraft   worden en zal hij de schade aan de werknemer moeten vergoede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oet alle gevaren in kaart bre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214280" indent="-228600">
              <a:spcBef>
                <a:spcPts val="499"/>
              </a:spcBef>
              <a:buClr>
                <a:srgbClr val="c0163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isico-inventarisatie en -evaluatie (RI&amp;E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14280" indent="-228600">
              <a:spcBef>
                <a:spcPts val="499"/>
              </a:spcBef>
              <a:buClr>
                <a:srgbClr val="c0163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rgen dat de risico’s worden beheerst (plan van aanpak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5:19:44Z</dcterms:created>
  <dc:creator>de Groot</dc:creator>
  <dc:description/>
  <dc:language>en-US</dc:language>
  <cp:lastModifiedBy>Hans Mulder</cp:lastModifiedBy>
  <dcterms:modified xsi:type="dcterms:W3CDTF">2016-10-06T09:07:09Z</dcterms:modified>
  <cp:revision>211</cp:revision>
  <dc:subject/>
  <dc:title>Taak en positie VFP</dc:title>
</cp:coreProperties>
</file>