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5DD-E478-419D-BC54-BCCB08C8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42A-8EFD-41D2-9887-472D9EF2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B19-F724-460E-8F0A-87AAF5C4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087-223A-4360-A6F8-CE8FAAA2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8A0-D5D2-4618-A848-63D60F37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7B5-5D85-4B53-9BBE-FFBD7240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31F-EB19-4724-A8B7-45F238C0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AF9A-AE8F-4B00-9D85-87259D12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172-9EA1-4E95-834C-85979AD3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3C8-E2AF-4E67-882A-23676603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549-4973-4E6A-88B4-CAAF4289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CDB-BBE8-4AA2-9F13-8D8448B2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720F-BC6E-4D8B-9511-38BC20438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Toolboxmeeting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Versie 1,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7bbb"/>
                </a:solidFill>
                <a:latin typeface="Times New Roman"/>
              </a:rPr>
              <a:t>Tillen van zware las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UMELA%20RGB" descr=""/>
          <p:cNvPicPr/>
          <p:nvPr/>
        </p:nvPicPr>
        <p:blipFill>
          <a:blip r:embed="rId2"/>
          <a:stretch/>
        </p:blipFill>
        <p:spPr>
          <a:xfrm>
            <a:off x="76320" y="5987880"/>
            <a:ext cx="144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eer niet te ver te reiken, te strekken of te bu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alleen niet meer dan 25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nieuw" descr=""/>
          <p:cNvPicPr/>
          <p:nvPr/>
        </p:nvPicPr>
        <p:blipFill>
          <a:blip r:embed="rId1"/>
          <a:stretch/>
        </p:blipFill>
        <p:spPr>
          <a:xfrm>
            <a:off x="7238880" y="6248520"/>
            <a:ext cx="1828800" cy="603000"/>
          </a:xfrm>
          <a:prstGeom prst="rect">
            <a:avLst/>
          </a:prstGeom>
          <a:ln w="0">
            <a:noFill/>
          </a:ln>
        </p:spPr>
      </p:pic>
      <p:pic>
        <p:nvPicPr>
          <p:cNvPr id="9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353040" cy="266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73520" y="3657600"/>
            <a:ext cx="18352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Houd de last dicht bij je licha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raai tijdens het tillen nooit met j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Maak een positieverandering alleen met de voe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0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903320"/>
            <a:ext cx="3047760" cy="243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1066680"/>
            <a:ext cx="2190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voldoende bewegingsruimte en een stabiele ondergr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at de noodzakelijke kracht go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over een zo kort mogelijke afst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uif, kantel of rol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314964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3600" y="313524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038480" y="2971800"/>
            <a:ext cx="14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oordelen van verantwoord t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t lichaam blijft gezond, ook op lange term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nder ziekteverzuim en WAO-inst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gere reïntegratiekosten en verzekeringsprem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ilig tillen kan ongevallen voork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Belangrijke 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k de te tillen last stevig v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m een goede tilhouding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bruik hulpmiddelen of til met meerdere perso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s deskundig in het gebruik van tilhulp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t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antwoord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zonde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el lasten worden mechanisch get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ware lichamelijke belasting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wielen ver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estsla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aanbouwwerktu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frontgew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kunstmestz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het veld of in de werkpla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28195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verbelasting van d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chamelijke klach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iekteverzuim, (gedeeltelijk) arbeidsongeschi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j onveilig tillen letsel door bekn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232740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20228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Wetg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w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De werkzaamheden mogen geen gezondheidsschade veroorz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regelingen en nor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Praktische voorschriften over bijv. het max. te tillen gewicht en de 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erantwoordelijk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g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zorg dragen dat het tillen van (te) zware lasten verantwoord gebe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ne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de voorschriften en de voorlichting over de juiste wijze van tillen opvol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abrik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geeft de gebruiksmogelijkheden en de technische veiligheidseisen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last is moeilijk goed vast te pa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stand van het lichaam t.o.v.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91132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terrein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ing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noodzakelijke spieren zijn in een slecht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handschoenen, steunbalkjes, strop of ketting als een beter aangrijpingsp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bij te zware lasten tilhulpmiddelen (tilbok, steek-/kruiwagen, hijs- en hefwerktuigen, bandenk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18651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7:56:57Z</dcterms:created>
  <dc:creator>jpolman</dc:creator>
  <dc:description/>
  <dc:language>en-US</dc:language>
  <cp:lastModifiedBy>Anne Soldaat</cp:lastModifiedBy>
  <dcterms:modified xsi:type="dcterms:W3CDTF">2005-06-08T13:16:58Z</dcterms:modified>
  <cp:revision>23</cp:revision>
  <dc:subject/>
  <dc:title>Toolboxmeeting NUMMER Maand en jaar</dc:title>
</cp:coreProperties>
</file>