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70CD-4F4E-4D25-A8D2-EADD54EF11A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D856-F8FF-44FC-B290-872527B32A2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48B4-529E-4DB8-AD1A-A8134FEBE40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A470-90D8-4802-8006-5FAA0793DE5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3BC-0EAF-4FAA-926B-03FD61F8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CDA-4014-4A79-B6D6-8A97EAC1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5C3-758C-473D-8991-2D95CF4D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E74-F939-42EC-A86A-526511E9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9737-5927-483E-94E7-C55C1F1C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A210-4803-4303-A08A-7196D1EC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7CC8-D0A5-4BBE-BE2B-2E711D5B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3F2D-9E95-4758-9B81-B92E1CC3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593D-AE42-4B09-B98E-4B002AF6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2D57-4BDF-4166-A957-FE203545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5D97-6DDC-4D4E-81B1-77F71E15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B60-5F4F-4742-9425-19590AE1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FFE9-F64F-46AD-BAA9-CEA080C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08DD-BE50-4010-A2B3-15728BC6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EEF7-EF8B-4382-BF9C-DE03CFAD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E0AC-5662-4FC6-9F17-AE56C018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A7E1-450C-4934-82E8-3A88AB9F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955B-2A22-439F-AA5A-DD7B0D2B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CE71-AC00-4240-967A-B90D4FA9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28271-59CD-44B1-BDE4-E6A579F7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A4B0-3ABB-40E4-A5C2-F660CEB4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DAA84-59CF-4F74-A17E-1AD26B73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ABF-F677-4257-8940-3FD1B5D3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9434-3875-443D-A1DC-05B17876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6E05-263F-48F6-BD10-E892A913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63AC-134E-4A66-A365-84EA96C3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1073-872B-4203-BFAE-EC12B88B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94ED1-29E6-4D88-9BE6-86F2AF25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1C28-23E9-4A45-936D-C7246475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4E88-ADA9-43B5-9B6E-E07C725A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692-8666-4AE8-8441-CFB768F2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F0E-773E-4B3B-AB04-622F59CC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9F7-D5C6-4206-8EDC-DA175B75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012-D8B2-4706-AD64-B045E330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FFC-7A58-471E-8E49-7F95996D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6C2-244B-434A-BC67-1A256B8B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9FE0-9FF3-47F9-A39B-0F3640C651C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6FDF-F259-4BF7-9478-51A25633165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B672-FF72-443B-987A-BEA20111089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a60d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Hoofdstuk 9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Machines en gereedschapp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keuze, gebruik en onderhou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6B35-96EE-4225-934A-BC50C4BF75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</a:rPr>
              <a:t>9.3 Algemene eisen en veiligheidsmaatregel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142640"/>
            <a:ext cx="843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bereikbaar, duidelijk zichtbaar en herkenb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ulspanningschakela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: tweehandbediening en koppelscherm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FB5F-07F3-46CE-A577-88F28B0095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320" y="1066680"/>
            <a:ext cx="74293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kolomboormachines en boor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bor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ilig werken is van bel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07FF-589A-4CF4-A2F2-DDAD75AA0B6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71680" y="1356840"/>
            <a:ext cx="8038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er mis ka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80D8-7418-42A4-956D-F71ADAF3053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5" descr="http://www.metabo.nl/uploads/tx_commerce/feinbilder/0300020003s_51_m.jpg"/>
          <p:cNvPicPr/>
          <p:nvPr/>
        </p:nvPicPr>
        <p:blipFill>
          <a:blip r:embed="rId2"/>
          <a:srcRect l="0" t="0" r="0" b="3860"/>
          <a:stretch/>
        </p:blipFill>
        <p:spPr>
          <a:xfrm>
            <a:off x="6715080" y="714240"/>
            <a:ext cx="2357640" cy="1785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128592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ee slijpstenen op één machine mogen niet te ve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venme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1493-506C-4747-8D49-1AEDFACB0B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144756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st opgestelde cirkelz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erlijk of gevaarlijk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75B6-157F-441E-AF1B-B8DD758D3D4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rote werkstukk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ntie van tweede perso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rollenb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D116-10AE-4B1C-BC1B-A6B9C31CB8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7" name="Afbeelding 5" descr="http://www.metabo.nl/uploads/tx_commerce/feinbilder/0104605000s_51_m.jpg"/>
          <p:cNvPicPr/>
          <p:nvPr/>
        </p:nvPicPr>
        <p:blipFill>
          <a:blip r:embed="rId2"/>
          <a:stretch/>
        </p:blipFill>
        <p:spPr>
          <a:xfrm>
            <a:off x="6500880" y="171468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42848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isolatie biedt geen bescherming tegen water of vochtig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pneumat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(perslucht = pneumatis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6776-9EFD-4CE3-A52D-6EA952F5B4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320" y="1428480"/>
            <a:ext cx="8538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elektrische 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mansknop, bij slijpschijven groter dan 125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slijpschijf moet 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81A9-09E5-4ADF-B9C0-A4DE4061B1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5360" y="2138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1320" y="1285560"/>
            <a:ext cx="77864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C54A-7809-4DAA-BB51-08DEB1AA9B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1320" y="928800"/>
            <a:ext cx="85388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cirkel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 schermt de buitenrand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ledig 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 aanpassen aan diameter en dik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 de za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 weghouden van zaagbl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E0B7-1D01-413F-A475-E2107E3319A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 Machines en 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214280"/>
            <a:ext cx="8501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Goed en 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Veiligheidseisen: de achtergr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Algemene veiligheidseisen  en -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Vast opgestelde machines/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Handgereedschap zonder aandrij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A367-F1F4-4DDF-AFE3-1F56272D35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1428840"/>
            <a:ext cx="85723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nagel/nietmach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498D-ABDB-4AB8-9463-97408EA846F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2"/>
          <a:srcRect l="40227" t="0" r="8150" b="0"/>
          <a:stretch/>
        </p:blipFill>
        <p:spPr>
          <a:xfrm>
            <a:off x="7500960" y="0"/>
            <a:ext cx="1643040" cy="255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14732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ketting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0121-1C11-440F-8EB8-7E2E7584B4B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320" y="1285560"/>
            <a:ext cx="8538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ersleutels en slagsleut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A85D-B007-45B7-9485-8D989A46F4F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6458040" y="857160"/>
            <a:ext cx="268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roevendraa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ij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0C8E-A906-4630-A56C-BC8B715BADF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35684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at en (soort) zaag aangepa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ugelza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80B7-9524-42F3-94AB-3041E6F7D6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kstvak 4"/>
          <p:cNvSpPr/>
          <p:nvPr/>
        </p:nvSpPr>
        <p:spPr>
          <a:xfrm>
            <a:off x="914400" y="4937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voor messen, zagen, beitels en boren geldt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scherp is veiliger, als je er maar voorzichtig mee omgaa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Afbeelding 6" descr="zagen.jpg"/>
          <p:cNvPicPr/>
          <p:nvPr/>
        </p:nvPicPr>
        <p:blipFill>
          <a:blip r:embed="rId2"/>
          <a:stretch/>
        </p:blipFill>
        <p:spPr>
          <a:xfrm>
            <a:off x="7531200" y="107172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E13-D082-41A7-B95B-F0147307653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itel 2"/>
          <p:cNvSpPr/>
          <p:nvPr/>
        </p:nvSpPr>
        <p:spPr>
          <a:xfrm>
            <a:off x="571680" y="0"/>
            <a:ext cx="831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  <a:ea typeface="Arial"/>
              </a:rPr>
              <a:t>9.6 Handgereedschap zonder aandrijving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ijdelijke aanduiding voor inhoud 3"/>
          <p:cNvSpPr/>
          <p:nvPr/>
        </p:nvSpPr>
        <p:spPr>
          <a:xfrm>
            <a:off x="571680" y="928800"/>
            <a:ext cx="61401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koudbeit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ta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ess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98508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Afbeelding 4" descr="images.jpg"/>
          <p:cNvPicPr/>
          <p:nvPr/>
        </p:nvPicPr>
        <p:blipFill>
          <a:blip r:embed="rId2"/>
          <a:stretch/>
        </p:blipFill>
        <p:spPr>
          <a:xfrm>
            <a:off x="6429240" y="928800"/>
            <a:ext cx="1714680" cy="1795320"/>
          </a:xfrm>
          <a:prstGeom prst="rect">
            <a:avLst/>
          </a:prstGeom>
          <a:ln w="0">
            <a:noFill/>
          </a:ln>
        </p:spPr>
      </p:pic>
      <p:pic>
        <p:nvPicPr>
          <p:cNvPr id="254" name="Afbeelding 7" descr="imagesCAPWV5WN.jpg"/>
          <p:cNvPicPr/>
          <p:nvPr/>
        </p:nvPicPr>
        <p:blipFill>
          <a:blip r:embed="rId3"/>
          <a:stretch/>
        </p:blipFill>
        <p:spPr>
          <a:xfrm>
            <a:off x="6858000" y="4000680"/>
            <a:ext cx="1725480" cy="1785600"/>
          </a:xfrm>
          <a:prstGeom prst="rect">
            <a:avLst/>
          </a:prstGeom>
          <a:ln w="0">
            <a:noFill/>
          </a:ln>
        </p:spPr>
      </p:pic>
      <p:pic>
        <p:nvPicPr>
          <p:cNvPr id="255" name="Afbeelding 8" descr="tangen.jpg"/>
          <p:cNvPicPr/>
          <p:nvPr/>
        </p:nvPicPr>
        <p:blipFill>
          <a:blip r:embed="rId4"/>
          <a:srcRect l="0" t="0" r="0" b="35266"/>
          <a:stretch/>
        </p:blipFill>
        <p:spPr>
          <a:xfrm>
            <a:off x="6324480" y="2881440"/>
            <a:ext cx="2465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EEE7-D103-4BC0-9181-E9BB15C24963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ol leidinggeven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ze bij aansch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lichting en instructie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va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zicht op juist 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varingen evalueren met uitvoeren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0919-87F8-4FB2-897E-B07DB5103E2F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gevaren van gereedschappen zijn di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etsel gebruik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nijden, knellen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bij omstan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gschietend materiaal, straling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belastingseffecten ook op term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illingen, straling, vrijkomende stoffen, lawaai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orzaken schade / letsel in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es door vonken, wegschietende dele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sten constructiesterkte enz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9.2 Veiligheidseisen </a:t>
            </a:r>
            <a:br>
              <a:rPr sz="2800"/>
            </a:b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voor arbeidsmiddelen en machin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500120"/>
            <a:ext cx="8429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gebruik kunnen er ongevallen ont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asp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ontwerp, goedgemaakt produ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013D-6F16-4AF0-B304-DD739324B540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chines en gereedschapp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sta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afscherming van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ek gekeu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digheid keuring is zichtbaar (kleur/stic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al van de gebruiker is toegep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A868-3032-42B1-88BF-1B5D4C5619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 aan bedieners van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D8A4-069C-47D1-9387-2E1F0CB233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</a:t>
            </a: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veiligheidsmaatregel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1320" y="1357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uste inzet van techni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uimtes met explosie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 aangedreven gereedsch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verho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8B44-65DA-457C-A1AA-40BB1419AE7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320" y="1428480"/>
            <a:ext cx="778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loop- en bewegingsruim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onderhoud machines of gereedschappen 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313E-4634-4F25-AE9F-AAA1D3ED91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1:53Z</dcterms:modified>
  <cp:revision>122</cp:revision>
  <dc:subject/>
  <dc:title>Taak en positie VFP</dc:title>
</cp:coreProperties>
</file>