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B9FF-46BC-45B9-995D-CBCBAF78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9701-9D24-4E3A-A3A9-0809E0AA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F566-5B71-436D-8703-C3A5EF0F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6A30-AA6D-4094-8815-483F154B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C13-D52C-40C2-8807-9460B164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A903-8594-4356-BF33-1B8A8348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91FE-84CF-4282-ABFE-C37BEF76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3D0C-7D30-4054-9D55-B0E9F254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6626-2B6A-4A48-95C3-B12E36D7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5238-E782-41C5-968C-F662E5A5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A37C-4824-4FA2-BEFF-9B16AB7F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AFB7-5A74-4770-8324-2A2FFF58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5AAE-9E8B-4F32-8A3D-02C2BD58A2A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55640" y="450864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333cc"/>
                </a:solidFill>
                <a:latin typeface="Times New Roman"/>
              </a:rPr>
              <a:t>Sortimentskennis niveau 3 &amp;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nl-NL" sz="6000" spc="-1" strike="noStrike">
                <a:solidFill>
                  <a:srgbClr val="3333cc"/>
                </a:solidFill>
                <a:latin typeface="Times New Roman"/>
              </a:rPr>
              <a:t>Kuipplant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195640" y="2060640"/>
            <a:ext cx="46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OleanderFlwrs"/>
          <p:cNvPicPr/>
          <p:nvPr/>
        </p:nvPicPr>
        <p:blipFill>
          <a:blip r:embed="rId1"/>
          <a:stretch/>
        </p:blipFill>
        <p:spPr>
          <a:xfrm>
            <a:off x="324000" y="404640"/>
            <a:ext cx="4032000" cy="387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Punica granatum ‘Nana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3520" y="990720"/>
            <a:ext cx="380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Puni</a:t>
            </a:r>
            <a:br>
              <a:rPr sz="2000"/>
            </a:b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c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sto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7" descr="02521"/>
          <p:cNvPicPr/>
          <p:nvPr/>
        </p:nvPicPr>
        <p:blipFill>
          <a:blip r:embed="rId1"/>
          <a:stretch/>
        </p:blipFill>
        <p:spPr>
          <a:xfrm>
            <a:off x="1692360" y="1197000"/>
            <a:ext cx="6624720" cy="496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cc"/>
                </a:solidFill>
                <a:latin typeface="Times New Roman"/>
              </a:rPr>
              <a:t>Solanum jasminio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8" descr="witsolanum"/>
          <p:cNvPicPr/>
          <p:nvPr/>
        </p:nvPicPr>
        <p:blipFill>
          <a:blip r:embed="rId1"/>
          <a:stretch/>
        </p:blipFill>
        <p:spPr>
          <a:xfrm>
            <a:off x="1403280" y="119700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533520" y="990720"/>
            <a:ext cx="380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So</a:t>
            </a:r>
            <a:br>
              <a:rPr sz="2000"/>
            </a:b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l</a:t>
            </a:r>
            <a:br>
              <a:rPr sz="2000"/>
            </a:b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nacea</a:t>
            </a:r>
            <a:br>
              <a:rPr sz="2000"/>
            </a:b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jasmijnach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1" descr="Solanum%20jasminoides"/>
          <p:cNvPicPr/>
          <p:nvPr/>
        </p:nvPicPr>
        <p:blipFill>
          <a:blip r:embed="rId2"/>
          <a:stretch/>
        </p:blipFill>
        <p:spPr>
          <a:xfrm>
            <a:off x="5076720" y="1700280"/>
            <a:ext cx="3405240" cy="460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Abutilon cultiv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butiloninsubtropborders"/>
          <p:cNvPicPr/>
          <p:nvPr/>
        </p:nvPicPr>
        <p:blipFill>
          <a:blip r:embed="rId1"/>
          <a:stretch/>
        </p:blipFill>
        <p:spPr>
          <a:xfrm>
            <a:off x="2057400" y="3808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Abutilon%20megapotanicum"/>
          <p:cNvPicPr/>
          <p:nvPr/>
        </p:nvPicPr>
        <p:blipFill>
          <a:blip r:embed="rId2"/>
          <a:stretch/>
        </p:blipFill>
        <p:spPr>
          <a:xfrm>
            <a:off x="1219320" y="2286000"/>
            <a:ext cx="4206600" cy="315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Abutilon%20hybridum"/>
          <p:cNvPicPr/>
          <p:nvPr/>
        </p:nvPicPr>
        <p:blipFill>
          <a:blip r:embed="rId3"/>
          <a:stretch/>
        </p:blipFill>
        <p:spPr>
          <a:xfrm>
            <a:off x="4800600" y="1295280"/>
            <a:ext cx="4100400" cy="38181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lampion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33520" y="99072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MALV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57200" y="6095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cultuurvarië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Agapanthus cultiv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3"/>
          <p:cNvGraphicFramePr/>
          <p:nvPr/>
        </p:nvGraphicFramePr>
        <p:xfrm>
          <a:off x="4859280" y="1484280"/>
          <a:ext cx="410544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484280"/>
                    <a:ext cx="410544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4" descr="Agapanthus%20Elaine"/>
          <p:cNvPicPr/>
          <p:nvPr/>
        </p:nvPicPr>
        <p:blipFill>
          <a:blip r:embed="rId3"/>
          <a:stretch/>
        </p:blipFill>
        <p:spPr>
          <a:xfrm>
            <a:off x="1017720" y="1492200"/>
            <a:ext cx="3402000" cy="43848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395280" y="6093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Afrikaanse lel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04920" y="5943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33520" y="114300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LL I 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403280" y="6093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cultuurvarië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Brugmansia cultiv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8" descr="Brugmansia_Inca_Gold"/>
          <p:cNvPicPr/>
          <p:nvPr/>
        </p:nvPicPr>
        <p:blipFill>
          <a:blip r:embed="rId1"/>
          <a:stretch/>
        </p:blipFill>
        <p:spPr>
          <a:xfrm>
            <a:off x="3924360" y="1557360"/>
            <a:ext cx="4308480" cy="4896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179280" y="4941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engelstromp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33520" y="99072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ERIC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79280" y="5445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cultuurvarië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1" descr="Brugmansia2"/>
          <p:cNvPicPr/>
          <p:nvPr/>
        </p:nvPicPr>
        <p:blipFill>
          <a:blip r:embed="rId2"/>
          <a:stretch/>
        </p:blipFill>
        <p:spPr>
          <a:xfrm>
            <a:off x="1187280" y="1557360"/>
            <a:ext cx="2268720" cy="302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amellia japo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camellia-japonica"/>
          <p:cNvPicPr/>
          <p:nvPr/>
        </p:nvPicPr>
        <p:blipFill>
          <a:blip r:embed="rId1"/>
          <a:stretch/>
        </p:blipFill>
        <p:spPr>
          <a:xfrm>
            <a:off x="4716360" y="2997360"/>
            <a:ext cx="4095720" cy="3071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amellia%20japonica%20cv"/>
          <p:cNvPicPr/>
          <p:nvPr/>
        </p:nvPicPr>
        <p:blipFill>
          <a:blip r:embed="rId2"/>
          <a:stretch/>
        </p:blipFill>
        <p:spPr>
          <a:xfrm>
            <a:off x="1187280" y="1052640"/>
            <a:ext cx="3434040" cy="3352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uit 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camel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THE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x Citrofortunella microcarp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citrofortunella-microcarpa-"/>
          <p:cNvPicPr/>
          <p:nvPr/>
        </p:nvPicPr>
        <p:blipFill>
          <a:blip r:embed="rId1"/>
          <a:stretch/>
        </p:blipFill>
        <p:spPr>
          <a:xfrm>
            <a:off x="2987640" y="105264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0" y="530064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met kleine vr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0" y="429264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sinaasappelboomp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RUT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Fuchsia cultiv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50920" y="60930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bellen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533520" y="990720"/>
            <a:ext cx="380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ONAGR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457200" y="6095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cultuurvarië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8" descr="fuchsia"/>
          <p:cNvPicPr/>
          <p:nvPr/>
        </p:nvPicPr>
        <p:blipFill>
          <a:blip r:embed="rId1"/>
          <a:stretch/>
        </p:blipFill>
        <p:spPr>
          <a:xfrm>
            <a:off x="1258920" y="1052640"/>
            <a:ext cx="7128000" cy="458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Laurus nobil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Bay-Laurus-nobilis"/>
          <p:cNvPicPr/>
          <p:nvPr/>
        </p:nvPicPr>
        <p:blipFill>
          <a:blip r:embed="rId1"/>
          <a:stretch/>
        </p:blipFill>
        <p:spPr>
          <a:xfrm>
            <a:off x="1258920" y="333360"/>
            <a:ext cx="3352680" cy="63374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228600" y="548640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50920" y="4869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no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33520" y="99072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Laur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1" descr="laurus_nobilis_small"/>
          <p:cNvPicPr/>
          <p:nvPr/>
        </p:nvPicPr>
        <p:blipFill>
          <a:blip r:embed="rId2"/>
          <a:stretch/>
        </p:blipFill>
        <p:spPr>
          <a:xfrm>
            <a:off x="4932360" y="1484280"/>
            <a:ext cx="3889440" cy="388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Nerium olea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OleanderFlwrs"/>
          <p:cNvPicPr/>
          <p:nvPr/>
        </p:nvPicPr>
        <p:blipFill>
          <a:blip r:embed="rId1"/>
          <a:stretch/>
        </p:blipFill>
        <p:spPr>
          <a:xfrm>
            <a:off x="1258920" y="620640"/>
            <a:ext cx="3840120" cy="4572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250920" y="5950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Spaanse en Italiaanse volksna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50920" y="530064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ole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33520" y="1127160"/>
            <a:ext cx="380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POCYN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7" descr="sld19321"/>
          <p:cNvPicPr/>
          <p:nvPr/>
        </p:nvPicPr>
        <p:blipFill>
          <a:blip r:embed="rId2"/>
          <a:stretch/>
        </p:blipFill>
        <p:spPr>
          <a:xfrm>
            <a:off x="5364000" y="1628640"/>
            <a:ext cx="3230640" cy="453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Bianca Harink</cp:lastModifiedBy>
  <dcterms:modified xsi:type="dcterms:W3CDTF">2012-10-15T06:55:45Z</dcterms:modified>
  <cp:revision>103</cp:revision>
  <dc:subject/>
  <dc:title>PowerPoint-presentatie</dc:title>
</cp:coreProperties>
</file>