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69A5C-2735-47B8-919D-4B1DF38F19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4D086-8A95-49BE-8E3A-78945E3720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DCB1F-7A67-4498-8B84-E6464878BF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EEE6F-07C0-42F3-87F3-F7BB944EF3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11709-FA4E-4582-9F26-88770DF38A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930A8-D893-4A50-AAB9-2C75476BB2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7CAE4-0C34-4596-AB50-EAF579AF0B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ADA78-476A-4889-A658-198104B969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AF0B9-5EF9-44CE-BC34-7B45A3A916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CD27E-D6EC-40BF-BB99-459B94D83D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AEB9D-5D2D-4F16-AFED-0650B626DB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86DD4-74C9-41B8-9336-A45A231EE6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1E5B7-3FA6-4327-8307-840FFA8ED3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2611B-B229-44DA-9288-B676C27693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DCDF9-A9CA-4180-8E07-603264D06F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1BE-6A6B-448B-8543-8F143BE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590-C007-462B-BBD1-DC5C401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B36-447E-4D56-8206-4C188F5C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B2B-765B-49C6-B4CF-7B4AEDC4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36F2-9161-443E-8096-A6AF3F7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5E34-F402-47C9-B4C2-D7A453C1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68C1-53CC-4ECF-B33F-34B39C98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C10-E7AF-40C9-84F0-AFA85F8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B85-C294-4D17-A987-A2485EC6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2B8-99FC-4FA5-9A6C-8BC8408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8846-53F1-4277-86C2-65D4FC6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079-C366-4433-BEBF-9F90839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3556-2D9E-43F2-909A-191B61F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D14C-9CB5-4203-9413-44883B3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B160-DC25-421C-9DCC-3811C57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D7B8-F876-427E-9AD2-20C23423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FC2-5C37-4160-AFE6-FFF06CFB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91FE-F64D-475B-9E5E-CD57B755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9034-C7FD-4F5D-B8DC-D283D42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773B-3515-4F46-997A-0D35CA43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3292-CAEC-4A03-9EBB-A4C8918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81A4-725F-49B6-8825-B4E4F0EE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DD3-675B-45B4-B539-86A5AE6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5A60-FFFF-4532-990F-614F3E03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EBF4-FA10-47E0-8BF8-32CBDD3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B485-D2FB-4DC5-9609-E7095F00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C06A-B307-4BC1-BD2D-F5DEC56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9259-78DA-4030-B8FB-4FEBE30D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C5F1-4828-4FCD-BA93-D241D951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8403-D1B6-4DE0-8318-E82ED9C5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AD51-2D3B-4616-93F4-AE945E8A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09F7-692E-44CC-BEFE-4BEB8E9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466E-7651-41E4-93DA-6F8BDDD1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2C8-C370-470F-9980-EA7EFA6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C078-8E0F-4F41-877A-C42C15E9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2D28-4DA0-4DBE-90B2-9D63F646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9659-A606-42CA-BFB9-3882676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B353-5F52-4B17-8468-C33C8AA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CC61-571B-4BF8-886E-F0C1531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7AC7-687B-4D18-BEBF-CB64299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78BCF-9E5A-4CC4-ACE3-D02AD6B4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F4C0-BCC6-4816-B0FE-070D6616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4C7A-C70C-4C44-AAFC-EC9D0929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FB4-BDEA-4CD1-861B-6B35C1B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428-E773-45EA-9EF9-879ED767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77A-7825-4BB6-A0AE-55CE68E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CD9-CB8C-47D1-AEA2-E67EE16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20E-2083-4218-8A35-0781824A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CBD51-9274-4AF6-8792-90D198E4AF0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E8169-FE13-42C6-A5CF-BC35AF9796B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22548-50C8-4CB5-B5DA-A85A465DDA1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7F4AF-1FF2-4EDB-A05A-C1105CEA512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www.visoflora.com/images/original/hibiscus-syriacus-visoflora-5461.jpg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403280" y="1628640"/>
            <a:ext cx="54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6600" spc="-1" strike="noStrike">
                <a:solidFill>
                  <a:srgbClr val="99ca3c"/>
                </a:solidFill>
                <a:latin typeface="Arial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556000" y="249228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763640" y="249228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ookman Old Style"/>
              </a:rPr>
              <a:t>Plantenkennis – Heest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0" name="AutoShape 14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231" name="Line 15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3348000" y="1844640"/>
            <a:ext cx="579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haenomeles x superba - dwergkwe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0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o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groene blade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alle gronden zolang die maar niet blijvend nat zij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herfst heeft de plant vruchten die op appels lijk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73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74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5" name="Picture 22" descr="http://www.hort.net/images/gallery/jpg-wm/ros/chasuho41.jpg?Chaenomeles%20x%20superba%20%27Hollandia%27&amp;cat=flowers"/>
          <p:cNvPicPr/>
          <p:nvPr/>
        </p:nvPicPr>
        <p:blipFill>
          <a:blip r:embed="rId1"/>
          <a:stretch/>
        </p:blipFill>
        <p:spPr>
          <a:xfrm>
            <a:off x="900000" y="1052640"/>
            <a:ext cx="2374920" cy="2543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4" descr="http://www.ruhr-uni-bochum.de/boga/html/Chaenomeles.x.superba.bg77.ja.jpg"/>
          <p:cNvPicPr/>
          <p:nvPr/>
        </p:nvPicPr>
        <p:blipFill>
          <a:blip r:embed="rId2"/>
          <a:stretch/>
        </p:blipFill>
        <p:spPr>
          <a:xfrm>
            <a:off x="900000" y="4149720"/>
            <a:ext cx="240660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3348000" y="1844640"/>
            <a:ext cx="5796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lethra alnifolia - schijne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0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. Verschijnen overvloedig in witte langwerpige trossen van ongeveer 6 tot 10 centimeter aan de strui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oen en langwerpig toegespits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liefst aanplanten op humeuze grond, die vocht kan vasthoud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89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90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20" descr="https://facultystaff.richmond.edu/~jhayden/landscape_plants/summer_woody_plants/clethra_alnifolia_611QU_01s.JPG"/>
          <p:cNvPicPr/>
          <p:nvPr/>
        </p:nvPicPr>
        <p:blipFill>
          <a:blip r:embed="rId1"/>
          <a:stretch/>
        </p:blipFill>
        <p:spPr>
          <a:xfrm>
            <a:off x="971640" y="3544920"/>
            <a:ext cx="2232000" cy="2971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9" descr="http://www.talltreesgroup.com/Clethra%20alnifolia.jpg"/>
          <p:cNvPicPr/>
          <p:nvPr/>
        </p:nvPicPr>
        <p:blipFill>
          <a:blip r:embed="rId2"/>
          <a:stretch/>
        </p:blipFill>
        <p:spPr>
          <a:xfrm>
            <a:off x="971640" y="981000"/>
            <a:ext cx="223200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3348000" y="1844640"/>
            <a:ext cx="579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lutea arborescens - blazen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5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afwisselend, oneven geveerd, met 9-13 bije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en specifieke eise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zwarte, bitter smakende zaden zijn giftig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05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06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7" name="Picture 20" descr="http://t0.gstatic.com/images?q=tbn:cK5QuWnv6vOiCM:http://www.giftpflanzen.com/Copyright_giftpflanzen.com/colutea_arborescens.jpg&amp;t=1"/>
          <p:cNvPicPr/>
          <p:nvPr/>
        </p:nvPicPr>
        <p:blipFill>
          <a:blip r:embed="rId1"/>
          <a:stretch/>
        </p:blipFill>
        <p:spPr>
          <a:xfrm>
            <a:off x="900000" y="90792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http://www.garten.cz/images_data/4689-colutea-arborescens-1.jpg"/>
          <p:cNvPicPr/>
          <p:nvPr/>
        </p:nvPicPr>
        <p:blipFill>
          <a:blip r:embed="rId2"/>
          <a:stretch/>
        </p:blipFill>
        <p:spPr>
          <a:xfrm>
            <a:off x="950760" y="3732120"/>
            <a:ext cx="232596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826920" y="54936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3348000" y="1844640"/>
            <a:ext cx="547200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rnus kousa – Japanse kornoelj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 - 6 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half mei / half ju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frisgroene bladeren die bezet is met fragiel dunne ha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oort: geen wensen over grondsoo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87091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21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22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3" name="Picture 19" descr="Cornus-kousa-'National"/>
          <p:cNvPicPr/>
          <p:nvPr/>
        </p:nvPicPr>
        <p:blipFill>
          <a:blip r:embed="rId1"/>
          <a:stretch/>
        </p:blipFill>
        <p:spPr>
          <a:xfrm>
            <a:off x="900000" y="981000"/>
            <a:ext cx="2376720" cy="2111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1" descr="Cornus_kousa_fruit"/>
          <p:cNvPicPr/>
          <p:nvPr/>
        </p:nvPicPr>
        <p:blipFill>
          <a:blip r:embed="rId2"/>
          <a:stretch/>
        </p:blipFill>
        <p:spPr>
          <a:xfrm>
            <a:off x="900000" y="321300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3348000" y="1844640"/>
            <a:ext cx="5472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rnus sanguinea - rode kornoelj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 t/m 3 meter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 / oranj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tegenover elkaar, behaard, aan beide kanten groen, een korte steel, eirond, spits, een gave rand, 5 tot 8 cm, 3 tot 5 paar nerv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op vochtige, matig voedselrijke humeuze zwakzure tot kalkhoudende 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uchten: talrijk glanzende purperrood / blauwzwa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38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39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0" name="Picture 18" descr="Cornus_sanguinea_jfg5B15D"/>
          <p:cNvPicPr/>
          <p:nvPr/>
        </p:nvPicPr>
        <p:blipFill>
          <a:blip r:embed="rId1"/>
          <a:stretch/>
        </p:blipFill>
        <p:spPr>
          <a:xfrm>
            <a:off x="971640" y="907920"/>
            <a:ext cx="2303280" cy="2808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0" descr="Cornus%20alba%20'Gouchaulti'%20bark"/>
          <p:cNvPicPr/>
          <p:nvPr/>
        </p:nvPicPr>
        <p:blipFill>
          <a:blip r:embed="rId2"/>
          <a:stretch/>
        </p:blipFill>
        <p:spPr>
          <a:xfrm>
            <a:off x="971640" y="3789360"/>
            <a:ext cx="2232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348000" y="1844640"/>
            <a:ext cx="5472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rylopsis pauciflora - schijnhazelaa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00 – 12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 stevige hoekige stengels met daarlangs tegenoverstaand getand blad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alle grondsoorten mits het vochtig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54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55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6" name="Picture 17" descr="corylopsis-pauciflora"/>
          <p:cNvPicPr/>
          <p:nvPr/>
        </p:nvPicPr>
        <p:blipFill>
          <a:blip r:embed="rId1"/>
          <a:stretch/>
        </p:blipFill>
        <p:spPr>
          <a:xfrm>
            <a:off x="1042920" y="981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9" descr="Corylopsis_Pauciflora_C"/>
          <p:cNvPicPr/>
          <p:nvPr/>
        </p:nvPicPr>
        <p:blipFill>
          <a:blip r:embed="rId2"/>
          <a:stretch/>
        </p:blipFill>
        <p:spPr>
          <a:xfrm>
            <a:off x="1042920" y="3789360"/>
            <a:ext cx="215892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348000" y="1844640"/>
            <a:ext cx="579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toneaster franchetii - dwergmisp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tot 1,75 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lichtros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lad iets glanzend groen, onderzijde grijs tot geelachtige vilt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veral op vochtige plaatsen, wel op goed doorlatend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 - 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bloem is zeer winterhar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867096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70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71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2" name="Picture 21" descr="168464992890272"/>
          <p:cNvPicPr/>
          <p:nvPr/>
        </p:nvPicPr>
        <p:blipFill>
          <a:blip r:embed="rId1"/>
          <a:stretch/>
        </p:blipFill>
        <p:spPr>
          <a:xfrm>
            <a:off x="900000" y="1268280"/>
            <a:ext cx="2400480" cy="2163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0" descr="http://courses.washington.edu/ehuf331/Photos/Cotoneaster_franchetii_4_k.jpg"/>
          <p:cNvPicPr/>
          <p:nvPr/>
        </p:nvPicPr>
        <p:blipFill>
          <a:blip r:embed="rId2"/>
          <a:stretch/>
        </p:blipFill>
        <p:spPr>
          <a:xfrm>
            <a:off x="884160" y="3867120"/>
            <a:ext cx="24163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3348000" y="1844640"/>
            <a:ext cx="5472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otoneaster x suecicus - dwergmispe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0 − 10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omwit, Verspreid, Stervorm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kleine donkergroene leerachtige bla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droge of normale, kalkrijke tot zure gron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uchten: overvloed aan feloranje bessen die tot ver in de winter aan de takken blijven. Gift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7" name="AutoShape 22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488" name="Line 23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0" y="0"/>
          <a:ext cx="1327320" cy="915840"/>
        </p:xfrm>
        <a:graphic>
          <a:graphicData uri="http://schemas.openxmlformats.org/drawingml/2006/table">
            <a:tbl>
              <a:tblPr/>
              <a:tblGrid>
                <a:gridCol w="1327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0" y="0"/>
          <a:ext cx="798480" cy="549360"/>
        </p:xfrm>
        <a:graphic>
          <a:graphicData uri="http://schemas.openxmlformats.org/drawingml/2006/table">
            <a:tbl>
              <a:tblPr/>
              <a:tblGrid>
                <a:gridCol w="7984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1" name="Picture 38" descr="transpa"/>
          <p:cNvPicPr/>
          <p:nvPr/>
        </p:nvPicPr>
        <p:blipFill>
          <a:blip r:embed="rId1"/>
          <a:stretch/>
        </p:blipFill>
        <p:spPr>
          <a:xfrm>
            <a:off x="428760" y="27144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45" descr="transpa"/>
          <p:cNvPicPr/>
          <p:nvPr/>
        </p:nvPicPr>
        <p:blipFill>
          <a:blip r:embed="rId2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4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5" name="Picture 52" descr="transpa"/>
          <p:cNvPicPr/>
          <p:nvPr/>
        </p:nvPicPr>
        <p:blipFill>
          <a:blip r:embed="rId3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7" name="Picture 59" descr="transpa"/>
          <p:cNvPicPr/>
          <p:nvPr/>
        </p:nvPicPr>
        <p:blipFill>
          <a:blip r:embed="rId4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9" name="Picture 66" descr="transpa"/>
          <p:cNvPicPr/>
          <p:nvPr/>
        </p:nvPicPr>
        <p:blipFill>
          <a:blip r:embed="rId5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Picture 73" descr="transpa"/>
          <p:cNvPicPr/>
          <p:nvPr/>
        </p:nvPicPr>
        <p:blipFill>
          <a:blip r:embed="rId6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3" name="Picture 80" descr="transpa"/>
          <p:cNvPicPr/>
          <p:nvPr/>
        </p:nvPicPr>
        <p:blipFill>
          <a:blip r:embed="rId7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5" name="Picture 87" descr="transpa"/>
          <p:cNvPicPr/>
          <p:nvPr/>
        </p:nvPicPr>
        <p:blipFill>
          <a:blip r:embed="rId8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94" descr="transpa"/>
          <p:cNvPicPr/>
          <p:nvPr/>
        </p:nvPicPr>
        <p:blipFill>
          <a:blip r:embed="rId9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0" y="0"/>
          <a:ext cx="755640" cy="8240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Picture 101" descr="transpa"/>
          <p:cNvPicPr/>
          <p:nvPr/>
        </p:nvPicPr>
        <p:blipFill>
          <a:blip r:embed="rId10"/>
          <a:stretch/>
        </p:blipFill>
        <p:spPr>
          <a:xfrm>
            <a:off x="155520" y="460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2" descr="a_115"/>
          <p:cNvPicPr/>
          <p:nvPr/>
        </p:nvPicPr>
        <p:blipFill>
          <a:blip r:embed="rId11"/>
          <a:stretch/>
        </p:blipFill>
        <p:spPr>
          <a:xfrm>
            <a:off x="900000" y="1052640"/>
            <a:ext cx="2376720" cy="1490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3" descr="Cotoneaster x suecicus �Coral Beauty�"/>
          <p:cNvPicPr/>
          <p:nvPr/>
        </p:nvPicPr>
        <p:blipFill>
          <a:blip r:embed="rId12"/>
          <a:stretch/>
        </p:blipFill>
        <p:spPr>
          <a:xfrm>
            <a:off x="900000" y="2781360"/>
            <a:ext cx="2376720" cy="1608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8" descr="Cotoneaster02"/>
          <p:cNvPicPr/>
          <p:nvPr/>
        </p:nvPicPr>
        <p:blipFill>
          <a:blip r:embed="rId13"/>
          <a:stretch/>
        </p:blipFill>
        <p:spPr>
          <a:xfrm>
            <a:off x="900000" y="4508640"/>
            <a:ext cx="2376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ytisus x praecox - br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5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 / me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kleine eirond omgekeerde bla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arme humeuze goed doorlatend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868212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5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526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7" name="Picture 17" descr="Cytisus x praecox 'Allgold'"/>
          <p:cNvPicPr/>
          <p:nvPr/>
        </p:nvPicPr>
        <p:blipFill>
          <a:blip r:embed="rId1"/>
          <a:stretch/>
        </p:blipFill>
        <p:spPr>
          <a:xfrm>
            <a:off x="900000" y="907920"/>
            <a:ext cx="2376720" cy="3097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0" descr="http://www.jeanrichard.ch/images/botanik/Cytisus%20x%20praecox.jpg"/>
          <p:cNvPicPr/>
          <p:nvPr/>
        </p:nvPicPr>
        <p:blipFill>
          <a:blip r:embed="rId2"/>
          <a:stretch/>
        </p:blipFill>
        <p:spPr>
          <a:xfrm>
            <a:off x="900000" y="415620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348000" y="1844640"/>
            <a:ext cx="579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aphne mezereum – peperboompj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5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februari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z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laderen dof en soepel, 3 – 8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vochtige kalkrijk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delen van de plant zijn giftig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868212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41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542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Picture 19" descr="D"/>
          <p:cNvPicPr/>
          <p:nvPr/>
        </p:nvPicPr>
        <p:blipFill>
          <a:blip r:embed="rId1"/>
          <a:stretch/>
        </p:blipFill>
        <p:spPr>
          <a:xfrm>
            <a:off x="922320" y="981000"/>
            <a:ext cx="2346480" cy="2346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0" descr="http://www.henriettesherbal.com/files/images/photos/p05/daphne-mezereum-21.jpg"/>
          <p:cNvPicPr/>
          <p:nvPr/>
        </p:nvPicPr>
        <p:blipFill>
          <a:blip r:embed="rId2"/>
          <a:srcRect l="0" t="0" r="0" b="13841"/>
          <a:stretch/>
        </p:blipFill>
        <p:spPr>
          <a:xfrm>
            <a:off x="934920" y="3519360"/>
            <a:ext cx="23338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382920" y="1844640"/>
            <a:ext cx="54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ralia elata - duivelswandelsto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400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ugustus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dubbelgeveerde bladeren, blaadjes 5 -12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goed op droge grond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/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er winterhar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4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245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3" descr="http://www.groen.net/uploadedImages/Tuinaannemers/fotos/clip_image001(64).jpg"/>
          <p:cNvPicPr/>
          <p:nvPr/>
        </p:nvPicPr>
        <p:blipFill>
          <a:blip r:embed="rId1"/>
          <a:srcRect l="0" t="7235" r="0" b="0"/>
          <a:stretch/>
        </p:blipFill>
        <p:spPr>
          <a:xfrm>
            <a:off x="900000" y="981000"/>
            <a:ext cx="2376720" cy="272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5" descr="http://www.garten-pur.de/images/Aralia_elata.jpg"/>
          <p:cNvPicPr/>
          <p:nvPr/>
        </p:nvPicPr>
        <p:blipFill>
          <a:blip r:embed="rId2"/>
          <a:srcRect l="0" t="0" r="0" b="14948"/>
          <a:stretch/>
        </p:blipFill>
        <p:spPr>
          <a:xfrm>
            <a:off x="900000" y="3840120"/>
            <a:ext cx="237492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348000" y="1844640"/>
            <a:ext cx="57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utzia gracilis - bruidsblo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60 tot 8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 ei / jun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stervormig, wit/crèm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oofvormig donkergroen bl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zware klei, humus/normal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869328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57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558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9" name="Picture 18" descr="deutzia-gracilis"/>
          <p:cNvPicPr/>
          <p:nvPr/>
        </p:nvPicPr>
        <p:blipFill>
          <a:blip r:embed="rId1"/>
          <a:srcRect l="0" t="24861" r="0" b="0"/>
          <a:stretch/>
        </p:blipFill>
        <p:spPr>
          <a:xfrm>
            <a:off x="900000" y="3846600"/>
            <a:ext cx="2376720" cy="26794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0" descr="http://static.skynetblogs.be/media/142790/dyn007_original_270_187_pjpeg__6248f072754360c82b5aa033ca3c82ba.jpg"/>
          <p:cNvPicPr/>
          <p:nvPr/>
        </p:nvPicPr>
        <p:blipFill>
          <a:blip r:embed="rId2"/>
          <a:srcRect l="0" t="0" r="35601" b="0"/>
          <a:stretch/>
        </p:blipFill>
        <p:spPr>
          <a:xfrm>
            <a:off x="900000" y="950760"/>
            <a:ext cx="237672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3348000" y="1844640"/>
            <a:ext cx="57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nkianthus campanulatus - enkianth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kan 250cm worde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klokvormig wit/crème met een roze ra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angwerpig licht groen bla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veen, humus/normale grond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nazomer krijgt de Enkianthus bruine vruchten in tros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73108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574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5" name="Picture 23" descr="http://courses.washington.edu/ehuf331/Photos/Enkianthus_campanulatus_1.jpg"/>
          <p:cNvPicPr/>
          <p:nvPr/>
        </p:nvPicPr>
        <p:blipFill>
          <a:blip r:embed="rId1"/>
          <a:srcRect l="0" t="0" r="30024" b="0"/>
          <a:stretch/>
        </p:blipFill>
        <p:spPr>
          <a:xfrm>
            <a:off x="900000" y="4005360"/>
            <a:ext cx="2365560" cy="2535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5" descr="http://i.telegraph.co.uk/telegraph/multimedia/archive/01075/gardening-graphics_1075732a.jpg"/>
          <p:cNvPicPr/>
          <p:nvPr/>
        </p:nvPicPr>
        <p:blipFill>
          <a:blip r:embed="rId2"/>
          <a:srcRect l="0" t="0" r="0" b="14276"/>
          <a:stretch/>
        </p:blipFill>
        <p:spPr>
          <a:xfrm>
            <a:off x="905040" y="932040"/>
            <a:ext cx="23652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348000" y="1844640"/>
            <a:ext cx="579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uonymus alatus - gevleugelde kardinaalsmu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175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september / oktobe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groen stervorm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oot ovaal licht groen blad. In het najaar roodkleure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humeuz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e plaatsen maar kan ook in de 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uchten: roze ronde vrucht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87422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89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590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2" name="Picture 22" descr="http://oregonstate.edu/dept/ldplants/images/eualc95.jpg"/>
          <p:cNvPicPr/>
          <p:nvPr/>
        </p:nvPicPr>
        <p:blipFill>
          <a:blip r:embed="rId1"/>
          <a:srcRect l="11008" t="0" r="0" b="0"/>
          <a:stretch/>
        </p:blipFill>
        <p:spPr>
          <a:xfrm>
            <a:off x="920880" y="907920"/>
            <a:ext cx="2355840" cy="24498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4" descr="http://www.duke.edu/~cwcook/trees/eual5486.jpg"/>
          <p:cNvPicPr/>
          <p:nvPr/>
        </p:nvPicPr>
        <p:blipFill>
          <a:blip r:embed="rId2"/>
          <a:stretch/>
        </p:blipFill>
        <p:spPr>
          <a:xfrm>
            <a:off x="909720" y="3397320"/>
            <a:ext cx="235584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348000" y="1844640"/>
            <a:ext cx="5472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aultheria procumbens - gaultheria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cm hoo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ni / ju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/roz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e groene bladeren , die in de herfst paars kleu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goed op zure tot lichtzure grond. Op kalkrijke grond kwijnt het heestertje langzaam, maar zeker we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groene blad volop aanwezige rode besse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06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07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8" name="Picture 20" descr="http://www.ecoflora.be/site_images/WP_gaultheriaprocumbens01.jpg"/>
          <p:cNvPicPr/>
          <p:nvPr/>
        </p:nvPicPr>
        <p:blipFill>
          <a:blip r:embed="rId1"/>
          <a:stretch/>
        </p:blipFill>
        <p:spPr>
          <a:xfrm>
            <a:off x="917640" y="1052640"/>
            <a:ext cx="2340000" cy="2016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2" descr="http://www.ct-botanical-society.org/galleries/pics_g/gaultheriaproc.jpg"/>
          <p:cNvPicPr/>
          <p:nvPr/>
        </p:nvPicPr>
        <p:blipFill>
          <a:blip r:embed="rId2"/>
          <a:srcRect l="9333" t="0" r="0" b="0"/>
          <a:stretch/>
        </p:blipFill>
        <p:spPr>
          <a:xfrm>
            <a:off x="936720" y="3271680"/>
            <a:ext cx="2340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3348000" y="1844640"/>
            <a:ext cx="547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aultheria shallon – gaultheria (appeltjesbl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60 - 80 cm  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mei / jun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ze/crème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blad, grootte 5 -12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rijke humus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lad is wintergroen en word vaak in boeketten gebruik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bodembedekk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870444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23" name="AutoShape 22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24" name="Line 23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5" name="Picture 27" descr="gaultheria_shallon-640H"/>
          <p:cNvPicPr/>
          <p:nvPr/>
        </p:nvPicPr>
        <p:blipFill>
          <a:blip r:embed="rId1"/>
          <a:srcRect l="0" t="3565" r="0" b="0"/>
          <a:stretch/>
        </p:blipFill>
        <p:spPr>
          <a:xfrm>
            <a:off x="900000" y="3860640"/>
            <a:ext cx="2300400" cy="2660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1" descr="http://www.wildflowers-and-weeds.com/Plant_Families/Ericaceae_pics/Gaultheria_shallon.jpg"/>
          <p:cNvPicPr/>
          <p:nvPr/>
        </p:nvPicPr>
        <p:blipFill>
          <a:blip r:embed="rId2"/>
          <a:srcRect l="0" t="8920" r="0" b="0"/>
          <a:stretch/>
        </p:blipFill>
        <p:spPr>
          <a:xfrm>
            <a:off x="900000" y="905040"/>
            <a:ext cx="230040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enista lydia - brem “Lydia”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80 - 10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l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kleine smalle blaadjes. Ongeveer 1 cm groo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voorkeur voor lichte arme tamelijk vruchtbare doorlatende 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 :  z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39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40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1" name="Picture 18" descr="gely66"/>
          <p:cNvPicPr/>
          <p:nvPr/>
        </p:nvPicPr>
        <p:blipFill>
          <a:blip r:embed="rId1"/>
          <a:stretch/>
        </p:blipFill>
        <p:spPr>
          <a:xfrm>
            <a:off x="942840" y="927000"/>
            <a:ext cx="2333880" cy="3110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0" descr="http://t3.gstatic.com/images?q=tbn:mAc3j1LjtcxJpM:http://www.floralimages.co.uk/images/genista_lydia_16f.jpg&amp;t=1"/>
          <p:cNvPicPr/>
          <p:nvPr/>
        </p:nvPicPr>
        <p:blipFill>
          <a:blip r:embed="rId2"/>
          <a:stretch/>
        </p:blipFill>
        <p:spPr>
          <a:xfrm>
            <a:off x="942840" y="4316400"/>
            <a:ext cx="2333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amamelis mollis - toverhazelaa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ruim 35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anuari / maa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ijkt veel op het ovale blad van de hazelaar. Deze verkleurt in de herfs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humus gro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e plaatse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 bloem bloeit in de winterperiod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87091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55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56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7" name="Picture 17" descr="hamamelis_mollis"/>
          <p:cNvPicPr/>
          <p:nvPr/>
        </p:nvPicPr>
        <p:blipFill>
          <a:blip r:embed="rId1"/>
          <a:stretch/>
        </p:blipFill>
        <p:spPr>
          <a:xfrm>
            <a:off x="1042920" y="981000"/>
            <a:ext cx="2160720" cy="25909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8" descr="hamamelis%20mollis%2001"/>
          <p:cNvPicPr/>
          <p:nvPr/>
        </p:nvPicPr>
        <p:blipFill>
          <a:blip r:embed="rId2"/>
          <a:stretch/>
        </p:blipFill>
        <p:spPr>
          <a:xfrm>
            <a:off x="1042920" y="3716280"/>
            <a:ext cx="21607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3348000" y="1844640"/>
            <a:ext cx="54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ebe ochracea - heb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5 - 5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ni / augustu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/crém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oofkleur is geel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eist humeuze 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groene struik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71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72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20" descr="http://www.hebesoc.org/hebes/hebes_o/hebe_ochracea/hebe_ochracea_145-219_2_20kb.jpg"/>
          <p:cNvPicPr/>
          <p:nvPr/>
        </p:nvPicPr>
        <p:blipFill>
          <a:blip r:embed="rId1"/>
          <a:stretch/>
        </p:blipFill>
        <p:spPr>
          <a:xfrm>
            <a:off x="919080" y="907920"/>
            <a:ext cx="2346480" cy="2241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2" descr="http://www.bbc.co.uk/gardening/plants/plant_finder/images/large_db_pics/large/hebe_ochracea_james_stirling.jpg"/>
          <p:cNvPicPr/>
          <p:nvPr/>
        </p:nvPicPr>
        <p:blipFill>
          <a:blip r:embed="rId2"/>
          <a:stretch/>
        </p:blipFill>
        <p:spPr>
          <a:xfrm>
            <a:off x="919080" y="3284640"/>
            <a:ext cx="234648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ebe pinguifolia - heb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30 – 5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august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dof blauw groene bla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een humusgrond met een goede waterdoorlatendhei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lichte schaduw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8715240" y="61657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87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688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89" name="Picture 20" descr="http://www.mooseyscountrygarden.com/native-new-zealand-pictures/hebe-native.jpg"/>
          <p:cNvPicPr/>
          <p:nvPr/>
        </p:nvPicPr>
        <p:blipFill>
          <a:blip r:embed="rId1"/>
          <a:stretch/>
        </p:blipFill>
        <p:spPr>
          <a:xfrm>
            <a:off x="900000" y="909720"/>
            <a:ext cx="2354400" cy="2646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2" descr="http://flower.onego.ru/other/other/enc_8003.jpg"/>
          <p:cNvPicPr/>
          <p:nvPr/>
        </p:nvPicPr>
        <p:blipFill>
          <a:blip r:embed="rId2"/>
          <a:stretch/>
        </p:blipFill>
        <p:spPr>
          <a:xfrm>
            <a:off x="900000" y="3645000"/>
            <a:ext cx="235440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3348000" y="1844640"/>
            <a:ext cx="579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ibiscus syriacus - althaea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3 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augustu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bla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lad is drielobbig,  grootte 4 – 8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vrijwel op alle gronden die luchtig, goed doorlatend zijn en flink wat humus bevatt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 : Volle zon groeit de plant minder goed, getemperde zon is veruit het best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ed winterh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873108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03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04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05" name="Picture 19" descr="http://www.landscapedia.info/images/plant_images/Hibiscus_syriacus__Hibiscus_Syriacus__Rose_Of_Sharon__Althea.jpg"/>
          <p:cNvPicPr/>
          <p:nvPr/>
        </p:nvPicPr>
        <p:blipFill>
          <a:blip r:embed="rId1"/>
          <a:stretch/>
        </p:blipFill>
        <p:spPr>
          <a:xfrm>
            <a:off x="900000" y="907920"/>
            <a:ext cx="2411640" cy="2449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5" descr="HIBISCUS syriacu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96760" y="3471840"/>
            <a:ext cx="24148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348000" y="1844640"/>
            <a:ext cx="5472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rberis candidula - zuur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 / 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limmend groen blad. Onderzijde grij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en specifieke ei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– half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groene laagblijvende hees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pe door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1" name="AutoShape 23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262" name="Line 24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8" descr="http://www.hort.uconn.edu/plants/help/barktex/bercan.jpg"/>
          <p:cNvPicPr/>
          <p:nvPr/>
        </p:nvPicPr>
        <p:blipFill>
          <a:blip r:embed="rId1"/>
          <a:stretch/>
        </p:blipFill>
        <p:spPr>
          <a:xfrm>
            <a:off x="900000" y="907920"/>
            <a:ext cx="2400480" cy="302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0" descr="http://www.koju.de/pflanzen_pictures/BERBERIS_candidula_Jytte_61_1.jpg"/>
          <p:cNvPicPr/>
          <p:nvPr/>
        </p:nvPicPr>
        <p:blipFill>
          <a:blip r:embed="rId2"/>
          <a:stretch/>
        </p:blipFill>
        <p:spPr>
          <a:xfrm>
            <a:off x="896760" y="410544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3348000" y="1844640"/>
            <a:ext cx="54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ydrangea macrophylla - hortens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 tot 3 meter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ni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ze, wit, rood of blau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laderen zijn breed eirond tot elliptisch en 8-20 cm lang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oort: neutrale tot lichtzur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870444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19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20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21" name="Picture 19" descr="http://greengrasslandscape.com/photogallery/Hydrangea%20macrophylla%20%27Nikko%20Blue%27.jpg"/>
          <p:cNvPicPr/>
          <p:nvPr/>
        </p:nvPicPr>
        <p:blipFill>
          <a:blip r:embed="rId1"/>
          <a:stretch/>
        </p:blipFill>
        <p:spPr>
          <a:xfrm>
            <a:off x="903240" y="911160"/>
            <a:ext cx="2379600" cy="25034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1" descr="http://kan-lir.dk/4web/uploads/hydrangea_macrophylla_7c6.jpg"/>
          <p:cNvPicPr/>
          <p:nvPr/>
        </p:nvPicPr>
        <p:blipFill>
          <a:blip r:embed="rId2"/>
          <a:stretch/>
        </p:blipFill>
        <p:spPr>
          <a:xfrm>
            <a:off x="914400" y="3573360"/>
            <a:ext cx="236844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870444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34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35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Text Box 12"/>
          <p:cNvSpPr/>
          <p:nvPr/>
        </p:nvSpPr>
        <p:spPr>
          <a:xfrm>
            <a:off x="3348000" y="1844640"/>
            <a:ext cx="5472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Hypericum calycinum – hertshooi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80 cm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septemb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onderzijde blauwachtig gro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oort: klei, zand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koude winters vriezen er vaak takken dood, waarna men ze tot op de grond moet terugsnoei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7" name="Picture 2" descr="http://classes.hortla.wsu.edu/hort231/List09/Slide7.jpg"/>
          <p:cNvPicPr/>
          <p:nvPr/>
        </p:nvPicPr>
        <p:blipFill>
          <a:blip r:embed="rId1"/>
          <a:stretch/>
        </p:blipFill>
        <p:spPr>
          <a:xfrm>
            <a:off x="892080" y="981000"/>
            <a:ext cx="2384640" cy="21114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http://www.growingforyou.com/images/276_HypericumCalycinum3x4.jpg"/>
          <p:cNvPicPr/>
          <p:nvPr/>
        </p:nvPicPr>
        <p:blipFill>
          <a:blip r:embed="rId2"/>
          <a:stretch/>
        </p:blipFill>
        <p:spPr>
          <a:xfrm>
            <a:off x="900000" y="3324240"/>
            <a:ext cx="240516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348000" y="1844640"/>
            <a:ext cx="547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lex crenata - dwerghul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 m.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lanzend groen, grootte 3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vochtig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lichte schadu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nblijve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873108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51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52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3" name="Picture 19" descr="http://discardedlies.com/images/ilex%20crenata%20convesa.jpg"/>
          <p:cNvPicPr/>
          <p:nvPr/>
        </p:nvPicPr>
        <p:blipFill>
          <a:blip r:embed="rId1"/>
          <a:stretch/>
        </p:blipFill>
        <p:spPr>
          <a:xfrm>
            <a:off x="905040" y="1052640"/>
            <a:ext cx="2365200" cy="2305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21" descr="http://www.baumschule-friedeburg.de/baeume/images/ilex_crenata_convexa_2.jpg"/>
          <p:cNvPicPr/>
          <p:nvPr/>
        </p:nvPicPr>
        <p:blipFill>
          <a:blip r:embed="rId2"/>
          <a:stretch/>
        </p:blipFill>
        <p:spPr>
          <a:xfrm>
            <a:off x="900000" y="3592440"/>
            <a:ext cx="236556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785880" y="836640"/>
            <a:ext cx="252072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3348000" y="1844640"/>
            <a:ext cx="57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almia latifolia - lepelboo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 tot 3 m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zachtroze, witte bloem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ote glimmende groene bla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humeuze gronde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Text Box 14"/>
          <p:cNvSpPr/>
          <p:nvPr/>
        </p:nvSpPr>
        <p:spPr>
          <a:xfrm>
            <a:off x="873108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67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68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69" name="Picture 19" descr="http://www.duke.edu/~jspippen/plants/kalmia-latifolia060420-0750occncheez.jpg"/>
          <p:cNvPicPr/>
          <p:nvPr/>
        </p:nvPicPr>
        <p:blipFill>
          <a:blip r:embed="rId1"/>
          <a:stretch/>
        </p:blipFill>
        <p:spPr>
          <a:xfrm>
            <a:off x="919080" y="981000"/>
            <a:ext cx="2301840" cy="25862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1" descr="http://www.fs.fed.us/wildflowers/features/wallpapers/images/kalmia_latifolia1600.jpg"/>
          <p:cNvPicPr/>
          <p:nvPr/>
        </p:nvPicPr>
        <p:blipFill>
          <a:blip r:embed="rId2"/>
          <a:stretch/>
        </p:blipFill>
        <p:spPr>
          <a:xfrm>
            <a:off x="923760" y="3716280"/>
            <a:ext cx="230220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785880" y="836640"/>
            <a:ext cx="249084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3348000" y="1844640"/>
            <a:ext cx="5796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ria japonica - ranonkelstruik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tot 2 m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oen lancetvormig getand bla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dijt in elke vochtige, goed doorlatend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87091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83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784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85" name="Picture 19" descr="kerria%20japonica%2002"/>
          <p:cNvPicPr/>
          <p:nvPr/>
        </p:nvPicPr>
        <p:blipFill>
          <a:blip r:embed="rId1"/>
          <a:stretch/>
        </p:blipFill>
        <p:spPr>
          <a:xfrm>
            <a:off x="900000" y="4076640"/>
            <a:ext cx="2343240" cy="23972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3" descr="yamas114"/>
          <p:cNvPicPr/>
          <p:nvPr/>
        </p:nvPicPr>
        <p:blipFill>
          <a:blip r:embed="rId2"/>
          <a:stretch/>
        </p:blipFill>
        <p:spPr>
          <a:xfrm>
            <a:off x="900000" y="907920"/>
            <a:ext cx="234324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85716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3348000" y="1844640"/>
            <a:ext cx="57960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olkwitzia amabilis - kolkwitzia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 tot 3 meter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augustus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lila roze tot witte bloem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reed eivormig, tegenoverstaan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 Bovenzijde dofgroen, onderzijde lichter, met behaard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 nerv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ndsoort: op goed doorlatend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verlieze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873108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99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00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01" name="Picture 19" descr="http://upload.wikimedia.org/wikipedia/commons/thumb/d/d1/Kolkwitzia_amabilis3.jpg/250px-Kolkwitzia_amabilis3.jpg"/>
          <p:cNvPicPr/>
          <p:nvPr/>
        </p:nvPicPr>
        <p:blipFill>
          <a:blip r:embed="rId1"/>
          <a:stretch/>
        </p:blipFill>
        <p:spPr>
          <a:xfrm>
            <a:off x="927000" y="896760"/>
            <a:ext cx="2381400" cy="22384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1" descr="http://green-24.de/forum/files/thumbs/t_kolkwitzia_amabilis_452.jpg"/>
          <p:cNvPicPr/>
          <p:nvPr/>
        </p:nvPicPr>
        <p:blipFill>
          <a:blip r:embed="rId2"/>
          <a:stretch/>
        </p:blipFill>
        <p:spPr>
          <a:xfrm>
            <a:off x="927000" y="3308400"/>
            <a:ext cx="23814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348000" y="1844640"/>
            <a:ext cx="57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Lavandula angustifolia -  lavend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30 tot 4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ni - august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paa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ancetvormig en grijs tot groen van kleu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Is vooral geschikt voor wat droge, maar humusrijk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874872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0" y="0"/>
          <a:ext cx="1459080" cy="2149560"/>
        </p:xfrm>
        <a:graphic>
          <a:graphicData uri="http://schemas.openxmlformats.org/drawingml/2006/table">
            <a:tbl>
              <a:tblPr/>
              <a:tblGrid>
                <a:gridCol w="1240200"/>
                <a:gridCol w="218880"/>
              </a:tblGrid>
              <a:tr h="2272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nl-NL" sz="1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22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16" name="AutoShape 23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17" name="Line 24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8" name="Picture 2" descr="http://www.healthandherbs.ie/shop/images/lavandula_angustifolia_476.jpg"/>
          <p:cNvPicPr/>
          <p:nvPr/>
        </p:nvPicPr>
        <p:blipFill>
          <a:blip r:embed="rId1"/>
          <a:stretch/>
        </p:blipFill>
        <p:spPr>
          <a:xfrm>
            <a:off x="928800" y="907920"/>
            <a:ext cx="2347920" cy="27608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http://www.soquelnursery.com/images/lavandula_angustifolia.JPG"/>
          <p:cNvPicPr/>
          <p:nvPr/>
        </p:nvPicPr>
        <p:blipFill>
          <a:blip r:embed="rId2"/>
          <a:stretch/>
        </p:blipFill>
        <p:spPr>
          <a:xfrm>
            <a:off x="947880" y="3792600"/>
            <a:ext cx="23288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3348000" y="1844640"/>
            <a:ext cx="5472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Ligustrum ovalifolium - haagligus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0 -  30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 wi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groen blad. Gaafrandig en met een duidelijk hoofdnerf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en specifieke eis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 - 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zwarte bes is gifti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87487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32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33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4" name="Picture 21" descr="http://www.rasadnik-strk.com/cvjetovi/LigustrumOvalifolium(Kalina).jpg"/>
          <p:cNvPicPr/>
          <p:nvPr/>
        </p:nvPicPr>
        <p:blipFill>
          <a:blip r:embed="rId1"/>
          <a:stretch/>
        </p:blipFill>
        <p:spPr>
          <a:xfrm>
            <a:off x="900000" y="4149720"/>
            <a:ext cx="2354400" cy="23828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3" descr="http://www.carolscornwall.com/Plants%20Lichens%20and%20Fungi/Shrub-Ligustrum%20ovalifolium-lvs-26-06-09.jpg"/>
          <p:cNvPicPr/>
          <p:nvPr/>
        </p:nvPicPr>
        <p:blipFill>
          <a:blip r:embed="rId2"/>
          <a:stretch/>
        </p:blipFill>
        <p:spPr>
          <a:xfrm>
            <a:off x="900000" y="907920"/>
            <a:ext cx="235764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3348000" y="1844640"/>
            <a:ext cx="5472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agnolia x soulangeana - valse tulpenboom / beverboo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 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 / mei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 rosé/wit, verschijnen voor de blader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, gaafrandig ovaal bl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/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het liefst op lichtzure en waterdoorlatend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lant is zeer winterh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Text Box 14"/>
          <p:cNvSpPr/>
          <p:nvPr/>
        </p:nvSpPr>
        <p:spPr>
          <a:xfrm>
            <a:off x="871236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48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49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0" name="Picture 2" descr="http://www.talltreesgroup.com/Magnolia%20x%20soulangiana.jpg"/>
          <p:cNvPicPr/>
          <p:nvPr/>
        </p:nvPicPr>
        <p:blipFill>
          <a:blip r:embed="rId1"/>
          <a:stretch/>
        </p:blipFill>
        <p:spPr>
          <a:xfrm>
            <a:off x="928800" y="907920"/>
            <a:ext cx="2357280" cy="2521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0" descr="http://upload.wikimedia.org/wikipedia/commons/1/18/Magnolia_x_soulangeana_-_01.jpg"/>
          <p:cNvPicPr/>
          <p:nvPr/>
        </p:nvPicPr>
        <p:blipFill>
          <a:blip r:embed="rId2"/>
          <a:stretch/>
        </p:blipFill>
        <p:spPr>
          <a:xfrm>
            <a:off x="893880" y="3548160"/>
            <a:ext cx="239220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3348000" y="1844640"/>
            <a:ext cx="5472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agnolia stellata - stermagnol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,50 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 / me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spier wit, stervorm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ancetvormig, 1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best op goede waterdoorlatende humeuze 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ortelen oppervlakki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871236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64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65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6" name="Picture 19" descr="Magnolia_stellata_rosea"/>
          <p:cNvPicPr/>
          <p:nvPr/>
        </p:nvPicPr>
        <p:blipFill>
          <a:blip r:embed="rId1"/>
          <a:stretch/>
        </p:blipFill>
        <p:spPr>
          <a:xfrm>
            <a:off x="915840" y="939960"/>
            <a:ext cx="2343240" cy="23446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1" descr="Magnolia_stellata8"/>
          <p:cNvPicPr/>
          <p:nvPr/>
        </p:nvPicPr>
        <p:blipFill>
          <a:blip r:embed="rId2"/>
          <a:stretch/>
        </p:blipFill>
        <p:spPr>
          <a:xfrm>
            <a:off x="936720" y="3411360"/>
            <a:ext cx="23670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3348000" y="1844640"/>
            <a:ext cx="579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rberis julianae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- zuur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5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oot, langwerpig glanzend en getand, eindigend op een stekelige pun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op alle grondsoorten mits het niet te vochti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berberis heeft zeer grote doorn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7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278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5" descr="Berberis julianae (lente)"/>
          <p:cNvPicPr/>
          <p:nvPr/>
        </p:nvPicPr>
        <p:blipFill>
          <a:blip r:embed="rId1"/>
          <a:srcRect l="0" t="11655" r="0" b="0"/>
          <a:stretch/>
        </p:blipFill>
        <p:spPr>
          <a:xfrm>
            <a:off x="971640" y="1052640"/>
            <a:ext cx="2278080" cy="2684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7" descr="Berberis julianae (winter)"/>
          <p:cNvPicPr/>
          <p:nvPr/>
        </p:nvPicPr>
        <p:blipFill>
          <a:blip r:embed="rId2"/>
          <a:srcRect l="11263" t="0" r="9649" b="0"/>
          <a:stretch/>
        </p:blipFill>
        <p:spPr>
          <a:xfrm>
            <a:off x="971640" y="4011480"/>
            <a:ext cx="22780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Text Box 13"/>
          <p:cNvSpPr/>
          <p:nvPr/>
        </p:nvSpPr>
        <p:spPr>
          <a:xfrm>
            <a:off x="3348000" y="1844640"/>
            <a:ext cx="547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ahonia aquifolium - mahonie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50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samengesteld glanzend, hulstachtig, donkergroen bla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zure gro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/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n blijvend, met glanzende blader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heid : zeer winterh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Text Box 14"/>
          <p:cNvSpPr/>
          <p:nvPr/>
        </p:nvSpPr>
        <p:spPr>
          <a:xfrm>
            <a:off x="871236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80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81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2" name="Picture 19" descr="http://www.greenscenelandscape.com/images/Plants/Mahonia_aquifolium.jpg"/>
          <p:cNvPicPr/>
          <p:nvPr/>
        </p:nvPicPr>
        <p:blipFill>
          <a:blip r:embed="rId1"/>
          <a:stretch/>
        </p:blipFill>
        <p:spPr>
          <a:xfrm>
            <a:off x="917640" y="907920"/>
            <a:ext cx="2347920" cy="230364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1" descr="http://www.kuleuven-kortrijk.be/facult/wet/biologie/pb/kulakbiocampus/bomen-heesters/Mahonia%20aquifolium%20-%20Mahonie/Mahonia%20aquifolium-mahonie-05.jpg"/>
          <p:cNvPicPr/>
          <p:nvPr/>
        </p:nvPicPr>
        <p:blipFill>
          <a:blip r:embed="rId2"/>
          <a:stretch/>
        </p:blipFill>
        <p:spPr>
          <a:xfrm>
            <a:off x="917640" y="3357720"/>
            <a:ext cx="2367000" cy="31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ahonia bealei - Japanse mahonie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00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december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, in gele trossen van 10 a 15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dikke, lederachtig, blauwgroen, geveerde               ( 9 – 11) bladeren in totaal tot 40 cm lang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humeuz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– halfschaduw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uids is de stengel ge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Text Box 14"/>
          <p:cNvSpPr/>
          <p:nvPr/>
        </p:nvSpPr>
        <p:spPr>
          <a:xfrm>
            <a:off x="875340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96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897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8" name="Picture 18" descr="http://www.tuinkrant.com/plantengids/heesters/22621.jpg"/>
          <p:cNvPicPr/>
          <p:nvPr/>
        </p:nvPicPr>
        <p:blipFill>
          <a:blip r:embed="rId1"/>
          <a:stretch/>
        </p:blipFill>
        <p:spPr>
          <a:xfrm>
            <a:off x="928800" y="114300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0" descr="http://www.magnoliagardensnursery.com/productdescrip/pictures300/Mahonia_Bea300.jpg"/>
          <p:cNvPicPr/>
          <p:nvPr/>
        </p:nvPicPr>
        <p:blipFill>
          <a:blip r:embed="rId2"/>
          <a:stretch/>
        </p:blipFill>
        <p:spPr>
          <a:xfrm>
            <a:off x="928800" y="3643200"/>
            <a:ext cx="23572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smanthus heterophyllus – osmanthus / schijnhul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25 – 175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september / okto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/crè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stekelig getand, 3 – 6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 tot licht schaduwplaa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 toch een warme beschutte plaats nodi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11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12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Rechthoek 19"/>
          <p:cNvSpPr/>
          <p:nvPr/>
        </p:nvSpPr>
        <p:spPr>
          <a:xfrm>
            <a:off x="876348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4" name="Picture 19" descr="http://upload.wikimedia.org/wikipedia/commons/7/74/Osmanthus-heterophyllus-flowers2.JPG"/>
          <p:cNvPicPr/>
          <p:nvPr/>
        </p:nvPicPr>
        <p:blipFill>
          <a:blip r:embed="rId1"/>
          <a:stretch/>
        </p:blipFill>
        <p:spPr>
          <a:xfrm>
            <a:off x="898560" y="907920"/>
            <a:ext cx="2433600" cy="23767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21" descr="Osmanthus burkwoodii - schijnhulst"/>
          <p:cNvPicPr/>
          <p:nvPr/>
        </p:nvPicPr>
        <p:blipFill>
          <a:blip r:embed="rId2"/>
          <a:stretch/>
        </p:blipFill>
        <p:spPr>
          <a:xfrm>
            <a:off x="898560" y="3500280"/>
            <a:ext cx="239400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0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3348000" y="1844640"/>
            <a:ext cx="5472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ernettya mucronata - pernettya / parelb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 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De bloemkroon is rond-kruikvormig en 4 tot 5 mm lang. Wit soms roz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eerachtig en glanzend groen aan de bovenzijde; onderzijde lichter van kleur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kalkrijke en vochthoudende gron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27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28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Rechthoek 17"/>
          <p:cNvSpPr/>
          <p:nvPr/>
        </p:nvSpPr>
        <p:spPr>
          <a:xfrm>
            <a:off x="8744400" y="621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0" name="Picture 21" descr="fruits-Pernettya-mucronata-2-26112006"/>
          <p:cNvPicPr/>
          <p:nvPr/>
        </p:nvPicPr>
        <p:blipFill>
          <a:blip r:embed="rId1"/>
          <a:stretch/>
        </p:blipFill>
        <p:spPr>
          <a:xfrm>
            <a:off x="909720" y="1146240"/>
            <a:ext cx="2379600" cy="2727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0" descr="http://www.plant-identification.co.uk/images/ericaceae/pernettya-mucronata-4.jpg"/>
          <p:cNvPicPr/>
          <p:nvPr/>
        </p:nvPicPr>
        <p:blipFill>
          <a:blip r:embed="rId2"/>
          <a:stretch/>
        </p:blipFill>
        <p:spPr>
          <a:xfrm>
            <a:off x="901800" y="4019400"/>
            <a:ext cx="2377800" cy="23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3348000" y="1844640"/>
            <a:ext cx="5796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iladelphus coronarius – boerenjasmij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3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tijd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en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10 cm, lancetvormig. Voelt ruw aa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roeit het liefst op humusrijke grond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44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45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6" name="Picture 19" descr="http://www.apinguela.com/Plantas/P/Philadelphus-coronarius/Philadelphus%20coronarius%202.jpg"/>
          <p:cNvPicPr/>
          <p:nvPr/>
        </p:nvPicPr>
        <p:blipFill>
          <a:blip r:embed="rId1"/>
          <a:stretch/>
        </p:blipFill>
        <p:spPr>
          <a:xfrm>
            <a:off x="925560" y="981000"/>
            <a:ext cx="2340000" cy="2295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21" descr="http://oncampus.richmond.edu/academics/biology/trees/images/Philadelphus_coronarius_main.jpg"/>
          <p:cNvPicPr/>
          <p:nvPr/>
        </p:nvPicPr>
        <p:blipFill>
          <a:blip r:embed="rId2"/>
          <a:stretch/>
        </p:blipFill>
        <p:spPr>
          <a:xfrm>
            <a:off x="925560" y="3605040"/>
            <a:ext cx="2340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eris floribunda - pier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gte: 1,75  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april / 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kleur: witte pluimen staa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: leerachtig, groenblijvend, grootte 3 – 8 cm. Fel rood gekleurd bij nieuwe blaad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plaats: Groeit het liefst op humusrijk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rsprong: Noord-Amerik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8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60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61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2" name="Picture 19" descr="http://www.sustainable-gardening.com/wp-content/uploads/pieris800-wiki.jpg"/>
          <p:cNvPicPr/>
          <p:nvPr/>
        </p:nvPicPr>
        <p:blipFill>
          <a:blip r:embed="rId1"/>
          <a:stretch/>
        </p:blipFill>
        <p:spPr>
          <a:xfrm>
            <a:off x="936720" y="954000"/>
            <a:ext cx="2301840" cy="2330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3" descr="http://www.weberseeds.de/plant_gallery/pieris_floribunda.jpg"/>
          <p:cNvPicPr/>
          <p:nvPr/>
        </p:nvPicPr>
        <p:blipFill>
          <a:blip r:embed="rId2"/>
          <a:stretch/>
        </p:blipFill>
        <p:spPr>
          <a:xfrm>
            <a:off x="936720" y="3456000"/>
            <a:ext cx="230184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75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76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Text Box 18"/>
          <p:cNvSpPr/>
          <p:nvPr/>
        </p:nvSpPr>
        <p:spPr>
          <a:xfrm>
            <a:off x="3348000" y="1844640"/>
            <a:ext cx="57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eris japonica - pier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gte: 1,50  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kleur: witte pluimen hang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: lichtgroen, glanzen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plaats: Groeit het liefst op humusrijk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8" name="Picture 19" descr="http://pics.davesgarden.com/pics/2006/05/19/Equilibrium/24f293.jpg"/>
          <p:cNvPicPr/>
          <p:nvPr/>
        </p:nvPicPr>
        <p:blipFill>
          <a:blip r:embed="rId1"/>
          <a:stretch/>
        </p:blipFill>
        <p:spPr>
          <a:xfrm>
            <a:off x="909720" y="1147680"/>
            <a:ext cx="2355840" cy="2338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1" descr="http://www.botanicgardensblog.com/wp-content/uploads/2009/03/pieris-japonica-spring-snow.jpg"/>
          <p:cNvPicPr/>
          <p:nvPr/>
        </p:nvPicPr>
        <p:blipFill>
          <a:blip r:embed="rId2"/>
          <a:stretch/>
        </p:blipFill>
        <p:spPr>
          <a:xfrm>
            <a:off x="909720" y="3753000"/>
            <a:ext cx="23558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tentilla fruticosa - ganzer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juni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m: geel, wit, oranje, roo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vorm: langwerp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plaats het liefst op vochtige bodem. Gedijt beter op kleigrond dan op zand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92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993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4" name="Picture 19" descr="http://lh5.ggpht.com/_rWksMjEBTQk/Sa1UaRrGO_I/AAAAAAAALtU/oyO1qCjWhbg/s800/leo-mic-Potentilla-fruticosa-527.jpg"/>
          <p:cNvPicPr/>
          <p:nvPr/>
        </p:nvPicPr>
        <p:blipFill>
          <a:blip r:embed="rId1"/>
          <a:stretch/>
        </p:blipFill>
        <p:spPr>
          <a:xfrm>
            <a:off x="890640" y="907920"/>
            <a:ext cx="2394000" cy="21607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21" descr="http://www.gapphotos.com/images/WebPreview/0035/0035400.jpg"/>
          <p:cNvPicPr/>
          <p:nvPr/>
        </p:nvPicPr>
        <p:blipFill>
          <a:blip r:embed="rId2"/>
          <a:stretch/>
        </p:blipFill>
        <p:spPr>
          <a:xfrm>
            <a:off x="906480" y="3192480"/>
            <a:ext cx="239400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0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1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2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4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5" name="Text Box 12"/>
          <p:cNvSpPr/>
          <p:nvPr/>
        </p:nvSpPr>
        <p:spPr>
          <a:xfrm>
            <a:off x="3348000" y="1844640"/>
            <a:ext cx="57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unus triloba - amandelboompj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gte: tot 200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z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klein gekarteld bla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en specifieke ei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snoeien na de blo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7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08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09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0" name="Picture 20" descr="http://www.gartencenter-shop24.de/images/product_images/original_images/Prunus_triloba_j1.jpg"/>
          <p:cNvPicPr/>
          <p:nvPr/>
        </p:nvPicPr>
        <p:blipFill>
          <a:blip r:embed="rId1"/>
          <a:stretch/>
        </p:blipFill>
        <p:spPr>
          <a:xfrm>
            <a:off x="900000" y="912960"/>
            <a:ext cx="2374920" cy="27320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2" descr="http://www.tuinkriebels.nl/wp-content/uploads/2010/06/Prunus-triloba-in-bloei.jpg"/>
          <p:cNvPicPr/>
          <p:nvPr/>
        </p:nvPicPr>
        <p:blipFill>
          <a:blip r:embed="rId2"/>
          <a:stretch/>
        </p:blipFill>
        <p:spPr>
          <a:xfrm>
            <a:off x="900000" y="3846600"/>
            <a:ext cx="237492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Text Box 12"/>
          <p:cNvSpPr/>
          <p:nvPr/>
        </p:nvSpPr>
        <p:spPr>
          <a:xfrm>
            <a:off x="3348000" y="1844640"/>
            <a:ext cx="61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hus typhina – fluweelbo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juni / ju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m: groen/geel later roo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: geveerde lange (15 cm) bladeren die getand zij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plaats: Groeit vrijwel op alle gronden. Veel worteluitloper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volle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t vrijwel op alle gronden. Veel worteluitloper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jgen licht groen later rood behaar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24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25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6" name="Picture 20" descr="http://www.complete-encyclopedie.nl/India/Bomen%20en%20struiken/new%204/Fluweel%20of%20Azijnboom.jpg"/>
          <p:cNvPicPr/>
          <p:nvPr/>
        </p:nvPicPr>
        <p:blipFill>
          <a:blip r:embed="rId1"/>
          <a:srcRect l="0" t="0" r="21122" b="0"/>
          <a:stretch/>
        </p:blipFill>
        <p:spPr>
          <a:xfrm>
            <a:off x="900000" y="947880"/>
            <a:ext cx="2354400" cy="2414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2" descr="http://www.wildflower.org/image_archive/640x480/JH/JH_00070.JPG"/>
          <p:cNvPicPr/>
          <p:nvPr/>
        </p:nvPicPr>
        <p:blipFill>
          <a:blip r:embed="rId2"/>
          <a:srcRect l="0" t="9726" r="0" b="0"/>
          <a:stretch/>
        </p:blipFill>
        <p:spPr>
          <a:xfrm>
            <a:off x="912960" y="3503520"/>
            <a:ext cx="23587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348000" y="1844640"/>
            <a:ext cx="5472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rberis verruculosa - zuur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0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Helder glanzend, groen blad. Onderkant blauwgroene tot witte kleu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een specifieke ei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93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294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21" descr="http://upload.wikimedia.org/wikipedia/commons/3/30/Berberis-verruculosa-flowers.JPG"/>
          <p:cNvPicPr/>
          <p:nvPr/>
        </p:nvPicPr>
        <p:blipFill>
          <a:blip r:embed="rId1"/>
          <a:srcRect l="15709" t="0" r="13866" b="0"/>
          <a:stretch/>
        </p:blipFill>
        <p:spPr>
          <a:xfrm>
            <a:off x="979560" y="907920"/>
            <a:ext cx="2274840" cy="244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3" descr="http://lve-baumschule.de/i/pflanzen/Berberis-verruculosa__8229.jpg"/>
          <p:cNvPicPr/>
          <p:nvPr/>
        </p:nvPicPr>
        <p:blipFill>
          <a:blip r:embed="rId2"/>
          <a:srcRect l="30172" t="12745" r="0" b="0"/>
          <a:stretch/>
        </p:blipFill>
        <p:spPr>
          <a:xfrm>
            <a:off x="979560" y="3622680"/>
            <a:ext cx="227484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Text Box 12"/>
          <p:cNvSpPr/>
          <p:nvPr/>
        </p:nvSpPr>
        <p:spPr>
          <a:xfrm>
            <a:off x="3348000" y="1844640"/>
            <a:ext cx="5796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bes sanguineum – rode ri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gte: 2 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itijd: maart / me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mkleur: roo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: donkergroen, handvormig gelobt, 5 a 10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laats: Volle zon /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eit op alle grondsoort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Text Box 13"/>
          <p:cNvSpPr/>
          <p:nvPr/>
        </p:nvSpPr>
        <p:spPr>
          <a:xfrm>
            <a:off x="867564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40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41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2" name="Picture 19" descr="ribes_sanguineum_king_edward_bluete"/>
          <p:cNvPicPr/>
          <p:nvPr/>
        </p:nvPicPr>
        <p:blipFill>
          <a:blip r:embed="rId1"/>
          <a:stretch/>
        </p:blipFill>
        <p:spPr>
          <a:xfrm>
            <a:off x="971640" y="981000"/>
            <a:ext cx="2214360" cy="26640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1" descr="6085"/>
          <p:cNvPicPr/>
          <p:nvPr/>
        </p:nvPicPr>
        <p:blipFill>
          <a:blip r:embed="rId2"/>
          <a:stretch/>
        </p:blipFill>
        <p:spPr>
          <a:xfrm>
            <a:off x="971640" y="3860640"/>
            <a:ext cx="2232000" cy="24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3348000" y="1844640"/>
            <a:ext cx="547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lix cinerea - grauwe wil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tot 6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aa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angwerpig of omgekeerd ei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het liefst op vochtig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jes in maart / apri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873756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56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57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8" name="Picture 17" descr="300px-Grauwe_wilg_(Salix_cinerea)"/>
          <p:cNvPicPr/>
          <p:nvPr/>
        </p:nvPicPr>
        <p:blipFill>
          <a:blip r:embed="rId1"/>
          <a:stretch/>
        </p:blipFill>
        <p:spPr>
          <a:xfrm>
            <a:off x="1042920" y="981000"/>
            <a:ext cx="2133720" cy="2448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9" descr="Salix"/>
          <p:cNvPicPr/>
          <p:nvPr/>
        </p:nvPicPr>
        <p:blipFill>
          <a:blip r:embed="rId2"/>
          <a:stretch/>
        </p:blipFill>
        <p:spPr>
          <a:xfrm>
            <a:off x="1042920" y="3573360"/>
            <a:ext cx="20890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Text Box 12"/>
          <p:cNvSpPr/>
          <p:nvPr/>
        </p:nvSpPr>
        <p:spPr>
          <a:xfrm>
            <a:off x="3348000" y="1844640"/>
            <a:ext cx="579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kimmia reevesiana - skimmia (besdragen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tot  8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donker groen blad dat 5-10 cm lang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op humusrijke grond mits het niet te vochti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halfschaduw, 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ucht vaalrood in oktober / februar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Text Box 13"/>
          <p:cNvSpPr/>
          <p:nvPr/>
        </p:nvSpPr>
        <p:spPr>
          <a:xfrm>
            <a:off x="8715240" y="61657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72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73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4" name="Picture 17" descr="skimmia_japonica_reevesiana"/>
          <p:cNvPicPr/>
          <p:nvPr/>
        </p:nvPicPr>
        <p:blipFill>
          <a:blip r:embed="rId1"/>
          <a:stretch/>
        </p:blipFill>
        <p:spPr>
          <a:xfrm>
            <a:off x="900000" y="1125360"/>
            <a:ext cx="2381400" cy="25210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9" descr="SkimmiaReevesiana"/>
          <p:cNvPicPr/>
          <p:nvPr/>
        </p:nvPicPr>
        <p:blipFill>
          <a:blip r:embed="rId2"/>
          <a:stretch/>
        </p:blipFill>
        <p:spPr>
          <a:xfrm>
            <a:off x="900000" y="4005360"/>
            <a:ext cx="23036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4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iraea x arguta - spier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,2 - 2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-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bovenzijde donkergroen, aan de onderzijde blauwgroen, 3 a 4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ed bestand tegen droogt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Text Box 13"/>
          <p:cNvSpPr/>
          <p:nvPr/>
        </p:nvSpPr>
        <p:spPr>
          <a:xfrm>
            <a:off x="8726400" y="616572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88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089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0" name="Picture 19" descr="Dwarf%20Garland%20Spirea_big"/>
          <p:cNvPicPr/>
          <p:nvPr/>
        </p:nvPicPr>
        <p:blipFill>
          <a:blip r:embed="rId1"/>
          <a:stretch/>
        </p:blipFill>
        <p:spPr>
          <a:xfrm>
            <a:off x="900000" y="981000"/>
            <a:ext cx="2303640" cy="2190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1" descr="spiree_arguta_fleurs_gros_plan"/>
          <p:cNvPicPr/>
          <p:nvPr/>
        </p:nvPicPr>
        <p:blipFill>
          <a:blip r:embed="rId2"/>
          <a:stretch/>
        </p:blipFill>
        <p:spPr>
          <a:xfrm>
            <a:off x="971640" y="3357720"/>
            <a:ext cx="22492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iraea x vanhouttei - spier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- 2,5 me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l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Grijsgroene bladeren die zijn samengesteld uit meerdere, tamelijk grote, drietallige deelblaad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lichte 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op voedzame grond, niet op te droge grond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2" name="Text Box 13"/>
          <p:cNvSpPr/>
          <p:nvPr/>
        </p:nvSpPr>
        <p:spPr>
          <a:xfrm>
            <a:off x="87091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04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05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06" name="Picture 17" descr="spiere%2004"/>
          <p:cNvPicPr/>
          <p:nvPr/>
        </p:nvPicPr>
        <p:blipFill>
          <a:blip r:embed="rId1"/>
          <a:stretch/>
        </p:blipFill>
        <p:spPr>
          <a:xfrm>
            <a:off x="1141560" y="1171440"/>
            <a:ext cx="1965240" cy="23036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9" descr="Spiraea_x_vanhouttei"/>
          <p:cNvPicPr/>
          <p:nvPr/>
        </p:nvPicPr>
        <p:blipFill>
          <a:blip r:embed="rId2"/>
          <a:stretch/>
        </p:blipFill>
        <p:spPr>
          <a:xfrm>
            <a:off x="1116000" y="3645000"/>
            <a:ext cx="204804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2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4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Text Box 12"/>
          <p:cNvSpPr/>
          <p:nvPr/>
        </p:nvSpPr>
        <p:spPr>
          <a:xfrm>
            <a:off x="3348000" y="1844640"/>
            <a:ext cx="5796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ymphoricarpos x chenaultii - sneeuw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1 m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-okto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In het voorjaar zijn er kleine, witte of roze      klokvormige bloemen, in de nazomer gevolgd door de witte, bolvormige bess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op alle soorten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 ovaal, vrij klein (1,5 - 3 cm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8" name="Text Box 13"/>
          <p:cNvSpPr/>
          <p:nvPr/>
        </p:nvSpPr>
        <p:spPr>
          <a:xfrm>
            <a:off x="8709120" y="6165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20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21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2" name="Picture 17" descr="c_17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00000" y="1557360"/>
            <a:ext cx="2403720" cy="17906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9" descr="symphoricarpos_x_chenaultii_hancock"/>
          <p:cNvPicPr/>
          <p:nvPr/>
        </p:nvPicPr>
        <p:blipFill>
          <a:blip r:embed="rId2"/>
          <a:stretch/>
        </p:blipFill>
        <p:spPr>
          <a:xfrm>
            <a:off x="900000" y="3573360"/>
            <a:ext cx="230364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9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Text Box 12"/>
          <p:cNvSpPr/>
          <p:nvPr/>
        </p:nvSpPr>
        <p:spPr>
          <a:xfrm>
            <a:off x="3348000" y="1844640"/>
            <a:ext cx="5796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yringa vulgaris - s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3 à 4 mete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-me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De bloemen zijn buis- of trechtervormig; meestal lichtpaars van kleur, maar soms ook wit. De bloemen zitten bij elkaar in grote, welriekende pluim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 tot half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het liefst op vochtige, zwakzur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wone sering heeft lichtgroene, gladde en onbehaarde bladeren in de vorm van een hart. In de herfst vallen de bladeren af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4" name="Text Box 13"/>
          <p:cNvSpPr/>
          <p:nvPr/>
        </p:nvSpPr>
        <p:spPr>
          <a:xfrm>
            <a:off x="8704440" y="61657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36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37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8" name="Picture 17" descr="lila-sering"/>
          <p:cNvPicPr/>
          <p:nvPr/>
        </p:nvPicPr>
        <p:blipFill>
          <a:blip r:embed="rId1"/>
          <a:stretch/>
        </p:blipFill>
        <p:spPr>
          <a:xfrm>
            <a:off x="971640" y="1052640"/>
            <a:ext cx="2305080" cy="28288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9" descr="20050627"/>
          <p:cNvPicPr/>
          <p:nvPr/>
        </p:nvPicPr>
        <p:blipFill>
          <a:blip r:embed="rId2"/>
          <a:stretch/>
        </p:blipFill>
        <p:spPr>
          <a:xfrm>
            <a:off x="971640" y="4005360"/>
            <a:ext cx="22730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5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7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8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9" name="Text Box 12"/>
          <p:cNvSpPr/>
          <p:nvPr/>
        </p:nvSpPr>
        <p:spPr>
          <a:xfrm>
            <a:off x="3348000" y="1844640"/>
            <a:ext cx="5796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amarix tetrandra - tamaris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4 m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roz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 tot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t het liefst op kalkvrije grond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lant is zeer winterhard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52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53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4" name="Picture 17" descr="Tamarix-tetrandra---main"/>
          <p:cNvPicPr/>
          <p:nvPr/>
        </p:nvPicPr>
        <p:blipFill>
          <a:blip r:embed="rId1"/>
          <a:stretch/>
        </p:blipFill>
        <p:spPr>
          <a:xfrm>
            <a:off x="971640" y="907920"/>
            <a:ext cx="2303280" cy="2160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9" descr="img5372"/>
          <p:cNvPicPr/>
          <p:nvPr/>
        </p:nvPicPr>
        <p:blipFill>
          <a:blip r:embed="rId2"/>
          <a:stretch/>
        </p:blipFill>
        <p:spPr>
          <a:xfrm>
            <a:off x="971640" y="3213000"/>
            <a:ext cx="230508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7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9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3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Text Box 12"/>
          <p:cNvSpPr/>
          <p:nvPr/>
        </p:nvSpPr>
        <p:spPr>
          <a:xfrm>
            <a:off x="3348000" y="1844640"/>
            <a:ext cx="5796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iburnum davidii – viburnum/sneeuwb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0 cm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eren donkergroen leerachtig 5 – 12 c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voelig voor strenge vors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7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68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69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70" name="Picture 20" descr="viburnum_davidii"/>
          <p:cNvPicPr/>
          <p:nvPr/>
        </p:nvPicPr>
        <p:blipFill>
          <a:blip r:embed="rId1"/>
          <a:srcRect l="0" t="0" r="32787" b="0"/>
          <a:stretch/>
        </p:blipFill>
        <p:spPr>
          <a:xfrm>
            <a:off x="971640" y="907920"/>
            <a:ext cx="2305080" cy="2248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2" descr="plant habit, flowering"/>
          <p:cNvPicPr/>
          <p:nvPr/>
        </p:nvPicPr>
        <p:blipFill>
          <a:blip r:embed="rId2"/>
          <a:srcRect l="43317" t="0" r="3346" b="0"/>
          <a:stretch/>
        </p:blipFill>
        <p:spPr>
          <a:xfrm>
            <a:off x="971640" y="3284640"/>
            <a:ext cx="230508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9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Text Box 12"/>
          <p:cNvSpPr/>
          <p:nvPr/>
        </p:nvSpPr>
        <p:spPr>
          <a:xfrm>
            <a:off x="3348000" y="1844640"/>
            <a:ext cx="57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iburnum farreri – winterbloeiende viburnum/sneeuwb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,5 m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februari - april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nig tot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eren 4 – 7 cm ovaa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draagt snoei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Text Box 13"/>
          <p:cNvSpPr/>
          <p:nvPr/>
        </p:nvSpPr>
        <p:spPr>
          <a:xfrm>
            <a:off x="8720280" y="616572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Rectangle 14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184" name="AutoShape 15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1185" name="Line 16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86" name="Picture 20" descr="Viburnum-farreri-1"/>
          <p:cNvPicPr/>
          <p:nvPr/>
        </p:nvPicPr>
        <p:blipFill>
          <a:blip r:embed="rId1"/>
          <a:srcRect l="11058" t="0" r="0" b="0"/>
          <a:stretch/>
        </p:blipFill>
        <p:spPr>
          <a:xfrm>
            <a:off x="971640" y="981000"/>
            <a:ext cx="2324160" cy="204948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22" descr="Viburnum-farreri-2"/>
          <p:cNvPicPr/>
          <p:nvPr/>
        </p:nvPicPr>
        <p:blipFill>
          <a:blip r:embed="rId2"/>
          <a:stretch/>
        </p:blipFill>
        <p:spPr>
          <a:xfrm>
            <a:off x="971640" y="3284640"/>
            <a:ext cx="2305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348000" y="1844640"/>
            <a:ext cx="5796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uddleja davidii - vlinder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25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ugustus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paa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eirond-lancetvormig, 10-25 cm lang, aan de bovenkant donkergroen, aan de onderzijde wit tot grijsviltig behaa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kalkhoudende gron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staat het liefst in de z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ekt veel insect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k voorjaar diep insnoeien. Nieuwe krachtige scheuten geven massa’s bloem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09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10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21" descr="buda8879"/>
          <p:cNvPicPr/>
          <p:nvPr/>
        </p:nvPicPr>
        <p:blipFill>
          <a:blip r:embed="rId1"/>
          <a:srcRect l="0" t="2653" r="0" b="6847"/>
          <a:stretch/>
        </p:blipFill>
        <p:spPr>
          <a:xfrm>
            <a:off x="934920" y="957240"/>
            <a:ext cx="2305080" cy="2878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3" descr="Buddleja_Davidii_and_insect"/>
          <p:cNvPicPr/>
          <p:nvPr/>
        </p:nvPicPr>
        <p:blipFill>
          <a:blip r:embed="rId2"/>
          <a:srcRect l="0" t="0" r="0" b="6956"/>
          <a:stretch/>
        </p:blipFill>
        <p:spPr>
          <a:xfrm>
            <a:off x="934920" y="3933720"/>
            <a:ext cx="230508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348000" y="1844640"/>
            <a:ext cx="57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uxus sempervirens - palmboompj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500 c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mei / ju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gro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donkergroen leerachtig blad.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goed doorlatende kalkrijke gron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– schaduw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ussen maart en juni en knippen, minstens 1x in het j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25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26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7" name="Picture 21" descr="http://www.hear.org/starr/images/images/plants/full/starr-070906-8952.jpg"/>
          <p:cNvPicPr/>
          <p:nvPr/>
        </p:nvPicPr>
        <p:blipFill>
          <a:blip r:embed="rId1"/>
          <a:stretch/>
        </p:blipFill>
        <p:spPr>
          <a:xfrm>
            <a:off x="958680" y="907920"/>
            <a:ext cx="2305080" cy="3073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3" descr="http://lh6.ggpht.com/_rWksMjEBTQk/Sa1JGgGSrTI/AAAAAAAAJjo/Fa6pSY0WSMA/s800/leo-mic-Buxus-sempervirens-1568.jpg"/>
          <p:cNvPicPr/>
          <p:nvPr/>
        </p:nvPicPr>
        <p:blipFill>
          <a:blip r:embed="rId2"/>
          <a:srcRect l="44428" t="0" r="0" b="0"/>
          <a:stretch/>
        </p:blipFill>
        <p:spPr>
          <a:xfrm>
            <a:off x="958680" y="4044960"/>
            <a:ext cx="23050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348000" y="1844640"/>
            <a:ext cx="5796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alluna vulgaris - struikhe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60 cm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Juli / septemb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Paarsrood, rose, soms w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kleine leerachtige ‘bladeren’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arme zandgronden en in kalkarme duin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een opwaartse groeiwijz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42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3" name="Picture 19" descr="http://www.nature-diary.co.uk/nn-images/0411/041102-calluna-vulgaris.jpg"/>
          <p:cNvPicPr/>
          <p:nvPr/>
        </p:nvPicPr>
        <p:blipFill>
          <a:blip r:embed="rId1"/>
          <a:srcRect l="0" t="8079" r="0" b="0"/>
          <a:stretch/>
        </p:blipFill>
        <p:spPr>
          <a:xfrm>
            <a:off x="900000" y="934920"/>
            <a:ext cx="2376720" cy="2911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1" descr="http://www.heathersociety.org.uk/hhg/cvs/jpegs/C_vul_Darkness.jpg"/>
          <p:cNvPicPr/>
          <p:nvPr/>
        </p:nvPicPr>
        <p:blipFill>
          <a:blip r:embed="rId2"/>
          <a:stretch/>
        </p:blipFill>
        <p:spPr>
          <a:xfrm>
            <a:off x="917640" y="4103640"/>
            <a:ext cx="239544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826920" y="836640"/>
            <a:ext cx="2521080" cy="602136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0"/>
            <a:ext cx="826920" cy="83664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36640"/>
            <a:ext cx="826920" cy="6021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826920" y="0"/>
            <a:ext cx="8137800" cy="836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Line 6"/>
          <p:cNvSpPr/>
          <p:nvPr/>
        </p:nvSpPr>
        <p:spPr>
          <a:xfrm flipV="1">
            <a:off x="826920" y="0"/>
            <a:ext cx="0" cy="83664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Line 7"/>
          <p:cNvSpPr/>
          <p:nvPr/>
        </p:nvSpPr>
        <p:spPr>
          <a:xfrm flipH="1">
            <a:off x="755280" y="836640"/>
            <a:ext cx="6769080" cy="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0" y="836640"/>
            <a:ext cx="826920" cy="0"/>
          </a:xfrm>
          <a:prstGeom prst="line">
            <a:avLst/>
          </a:prstGeom>
          <a:ln w="442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Line 9"/>
          <p:cNvSpPr/>
          <p:nvPr/>
        </p:nvSpPr>
        <p:spPr>
          <a:xfrm flipV="1">
            <a:off x="826920" y="836640"/>
            <a:ext cx="0" cy="6021360"/>
          </a:xfrm>
          <a:prstGeom prst="line">
            <a:avLst/>
          </a:prstGeom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Text Box 45"/>
          <p:cNvSpPr/>
          <p:nvPr/>
        </p:nvSpPr>
        <p:spPr>
          <a:xfrm>
            <a:off x="82692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Bookman Old Style"/>
              </a:rPr>
              <a:t>Plantenkenn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3348000" y="1844640"/>
            <a:ext cx="5796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Caragana arborescens - erwtenstru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ogte: 600 cm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i: april / me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m: zachtge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ad: lichtgroen, diep ingesneden blaad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oeiplaats: uiterst schrale gro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plaats: zon - halfschaduw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nterhard. Verdraagt extreme koude en hitt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twijgen zijn groen en iets kantig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8783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826920" y="6597720"/>
            <a:ext cx="8317080" cy="260280"/>
          </a:xfrm>
          <a:prstGeom prst="rect">
            <a:avLst/>
          </a:prstGeom>
          <a:solidFill>
            <a:srgbClr val="b9d181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57" name="AutoShape 16"/>
          <p:cNvCxnSpPr/>
          <p:nvPr/>
        </p:nvCxnSpPr>
        <p:spPr>
          <a:xfrm flipV="1">
            <a:off x="8100720" y="5422320"/>
            <a:ext cx="1043640" cy="1175400"/>
          </a:xfrm>
          <a:prstGeom prst="curvedConnector2">
            <a:avLst/>
          </a:prstGeom>
          <a:ln w="44280">
            <a:solidFill>
              <a:srgbClr val="008000"/>
            </a:solidFill>
            <a:miter/>
          </a:ln>
        </p:spPr>
      </p:cxnSp>
      <p:sp>
        <p:nvSpPr>
          <p:cNvPr id="358" name="Line 17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9" name="Picture 20" descr="http://classes.hortla.wsu.edu/hort231/List05/Slide4.jpg"/>
          <p:cNvPicPr/>
          <p:nvPr/>
        </p:nvPicPr>
        <p:blipFill>
          <a:blip r:embed="rId1"/>
          <a:stretch/>
        </p:blipFill>
        <p:spPr>
          <a:xfrm>
            <a:off x="1001880" y="909720"/>
            <a:ext cx="2274840" cy="2127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http://www.lawyernursery.com/images/products/Caragana%20arborescens_big.jpg"/>
          <p:cNvPicPr/>
          <p:nvPr/>
        </p:nvPicPr>
        <p:blipFill>
          <a:blip r:embed="rId2"/>
          <a:stretch/>
        </p:blipFill>
        <p:spPr>
          <a:xfrm>
            <a:off x="995400" y="3117960"/>
            <a:ext cx="2287440" cy="34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7:38:45Z</dcterms:created>
  <dc:creator>default</dc:creator>
  <dc:description/>
  <dc:language>en-US</dc:language>
  <cp:lastModifiedBy>Robert Soesman</cp:lastModifiedBy>
  <dcterms:modified xsi:type="dcterms:W3CDTF">2017-09-18T10:39:45Z</dcterms:modified>
  <cp:revision>6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0C2E150DD3FF547BFFD7598BE20C2A0</vt:lpwstr>
  </property>
</Properties>
</file>