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BA5-DC29-45CC-A609-13630C8D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E0F-708C-44AB-94C8-1312522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B02-392E-4A45-A7EC-2EF6E7EC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B70-96AB-4554-B2FD-5720D3CF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954-FAD7-4631-8899-C54CC9F7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3CD-F5CA-4E58-885E-760640C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642-9395-4CFC-9826-F628071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A68-B799-4FF5-8E0A-15E3882B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1D-5787-4F7C-8C66-59177C8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2B4-5AF3-4D20-B0FE-E960F6E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65F-7300-4E05-AA88-2AF7495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C8E-889A-4CD7-A3D0-C9396B2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99C-DF27-4327-9171-2701A9090BD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asterclas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e marketing van biologische productie en retai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Verwoorden &amp; Verwaarden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98989"/>
                </a:solidFill>
                <a:latin typeface="Calibri"/>
              </a:rPr>
              <a:t>Balancerend Marketing bel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iologisch produceren i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erken aan meerwaar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-stream tot down-stream in de k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atieproces, doordenken, doorvoelen doorwi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e is gericht op doorgronden van proc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mancipatie van de cons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alancerend Marketingbeleid vraag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flectie op bestaande sit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sie op wat je bewe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en wat je te ontwikkelen h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antwoordelijk willen zijn voor persoonlijke ontwikk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oriteiten stellen op basis van vi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chtbaar zijn in communica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oorden en ve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als resulta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De consumenten premi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in de prij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2819520" y="1447920"/>
            <a:ext cx="0" cy="3733560"/>
          </a:xfrm>
          <a:prstGeom prst="line">
            <a:avLst/>
          </a:prstGeom>
          <a:ln w="5076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343400" y="3275280"/>
            <a:ext cx="3733920" cy="2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2209680"/>
            <a:ext cx="19227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wat je te doen staat, met je ideaal of v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Openhar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Prior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A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800600" y="3657600"/>
            <a:ext cx="223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je omgeving,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Aand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90920" y="2590920"/>
            <a:ext cx="2133360" cy="1447560"/>
          </a:xfrm>
          <a:prstGeom prst="ellipse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71640" y="3048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alancerend Marketing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rot="5400000">
            <a:off x="1676520" y="2054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0504d"/>
                </a:solidFill>
                <a:latin typeface="Calibri"/>
              </a:rPr>
              <a:t>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87692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ed181e"/>
                </a:solidFill>
                <a:latin typeface="Calibri"/>
              </a:rPr>
              <a:t>Ver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3657600" y="885240"/>
            <a:ext cx="2524320" cy="2090160"/>
          </a:xfrm>
          <a:prstGeom prst="line">
            <a:avLst/>
          </a:prstGeom>
          <a:ln w="5076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477120" y="762120"/>
            <a:ext cx="1981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876e7"/>
                </a:solidFill>
                <a:latin typeface="Calibri"/>
              </a:rPr>
              <a:t>Bewust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zorgt voor 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1:10:56Z</dcterms:created>
  <dc:creator>Ruijte01</dc:creator>
  <dc:description/>
  <dc:language>en-US</dc:language>
  <cp:lastModifiedBy>schuri01</cp:lastModifiedBy>
  <dcterms:modified xsi:type="dcterms:W3CDTF">2011-07-11T11:13:31Z</dcterms:modified>
  <cp:revision>5</cp:revision>
  <dc:subject/>
  <dc:title>Masterclass Verwoorden &amp; Verwaarden</dc:title>
</cp:coreProperties>
</file>