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D6927-51FD-40AA-BF4F-C6721C5FF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15707-9A6A-4EA4-B70F-1E623128F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F2C1F-DAEE-44CF-8144-4EDA925F2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DF9FA-CD79-43D9-B136-A2D47D3E0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C27B8-DD41-4BF7-A82D-A19BBF6B8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83D77-4DFE-41A1-AEA2-39D40563C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DAD52-206C-4D11-A928-70571140E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B65E3-4051-4F9D-82BE-61F10AE44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EDDD7-587C-4914-B8C9-B8089B589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56107-B143-445F-A083-0DE175A0F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25D2E-9BE0-49DC-BF84-D14279B33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C6A34-C664-4D96-B47C-86BDD508C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BB89A-5FFC-4537-BB39-5829D7424522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475920"/>
            <a:ext cx="77724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nterviewtechnie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ndersteuning t.b.v. interviewen innoveer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475920"/>
            <a:ext cx="77724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nterviewtechnie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826560" y="1267920"/>
            <a:ext cx="77058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Contact opbouw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mpath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uistervaardighe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orrec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um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826920" y="6237360"/>
            <a:ext cx="777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Voorbereiding – luistervaardigheden - </a:t>
            </a: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contact opbouwen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 - soorten vragen - interviewstijl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11280" y="475920"/>
            <a:ext cx="77724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nterviewtechnie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826560" y="1267920"/>
            <a:ext cx="77058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Soorten vra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4"/>
          <p:cNvSpPr/>
          <p:nvPr/>
        </p:nvSpPr>
        <p:spPr>
          <a:xfrm>
            <a:off x="826920" y="6237360"/>
            <a:ext cx="777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Voorbereiding – luistervaardigheden - contact opbouwen - </a:t>
            </a: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soorten vragen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 - interviewstijl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5"/>
          <p:cNvSpPr/>
          <p:nvPr/>
        </p:nvSpPr>
        <p:spPr>
          <a:xfrm>
            <a:off x="755640" y="2533680"/>
            <a:ext cx="5319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pen, gesloten en keuzevraag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irecte en indirecte vraag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richte of lineaire vraag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eflectieve vraag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oorvraag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etorische vraag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ypothetische vraa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11280" y="475920"/>
            <a:ext cx="77724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nterviewtechnie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826560" y="1267920"/>
            <a:ext cx="77058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Interviewstij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irecti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on-directi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en goede interviewer past beide flexibel to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4"/>
          <p:cNvSpPr/>
          <p:nvPr/>
        </p:nvSpPr>
        <p:spPr>
          <a:xfrm>
            <a:off x="826920" y="6237360"/>
            <a:ext cx="777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Voorbereiding – luistervaardigheden - contact opbouwen - soorten vragen </a:t>
            </a: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- interviewstijl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11280" y="475920"/>
            <a:ext cx="77724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nterviewtechnie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826560" y="1267920"/>
            <a:ext cx="77058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0" spc="-1" strike="noStrike">
                <a:solidFill>
                  <a:srgbClr val="ff0000"/>
                </a:solidFill>
                <a:latin typeface="Arial"/>
              </a:rPr>
              <a:t>Succes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4"/>
          <p:cNvSpPr/>
          <p:nvPr/>
        </p:nvSpPr>
        <p:spPr>
          <a:xfrm>
            <a:off x="826920" y="6237360"/>
            <a:ext cx="777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Voorbereiding – luistervaardigheden - contact opbouwen - soorten vragen - interviewstijl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11280" y="475920"/>
            <a:ext cx="77724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nterviewtechnie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186920" y="1267920"/>
            <a:ext cx="77058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orberei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uistervaardighe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ontact opbouw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oorten vra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terviewstij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4"/>
          <p:cNvSpPr/>
          <p:nvPr/>
        </p:nvSpPr>
        <p:spPr>
          <a:xfrm>
            <a:off x="826920" y="6237360"/>
            <a:ext cx="777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Voorbereiding – luistervaardigheden - contact opbouwen - soorten vragen - interviewstijl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11280" y="475920"/>
            <a:ext cx="77724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nterviewtechnie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26560" y="1267920"/>
            <a:ext cx="77058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o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euze geïnterview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ragen opstel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pbouw van het inter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4"/>
          <p:cNvSpPr/>
          <p:nvPr/>
        </p:nvSpPr>
        <p:spPr>
          <a:xfrm>
            <a:off x="826920" y="6237360"/>
            <a:ext cx="777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Voorbereiding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 – luistervaardigheden - contact opbouwen - soorten vragen - interviewstijl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11280" y="475920"/>
            <a:ext cx="77724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nterviewtechnie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26560" y="1267920"/>
            <a:ext cx="77058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Do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lle informatie in één gesprek verzame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tere vra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tere anticipatie tijdens gespr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er waardering (medewerking) van geïnterview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826920" y="6237360"/>
            <a:ext cx="777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Voorbereiding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 – luistervaardigheden - contact opbouwen - soorten vragen - interviewstijl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11280" y="475920"/>
            <a:ext cx="77724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nterviewtechnie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826560" y="1267920"/>
            <a:ext cx="77058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Keuze geïnterviewde (algeme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at is je doelstelling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ie is het meest geschikt of informatie te verstrekk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eskundig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ositie in bedrijf/functie maatschappij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ijd inschat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fspraak maken (neutrale plaats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826920" y="6237360"/>
            <a:ext cx="777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Voorbereiding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 – luistervaardigheden - contact opbouwen - soorten vragen - interviewstijl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11280" y="475920"/>
            <a:ext cx="77724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nterviewtechnie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826560" y="1267920"/>
            <a:ext cx="77058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Vragen opstel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lez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le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lain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oofdvragen opstel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lain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ragensche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lain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oel voor ogen (fuik/omgekeerde fui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lain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ouva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lain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Niet strak opvol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826920" y="6237360"/>
            <a:ext cx="777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Voorbereiding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 – luistervaardigheden - contact opbouwen - soorten vragen - interviewstijl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11280" y="475920"/>
            <a:ext cx="77724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nterviewtechnie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826560" y="1267920"/>
            <a:ext cx="77058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Opbouw van het inter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nlei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voorstell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oel int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openingsvra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open vra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per onderw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open vra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oorvra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samenvat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oel bewak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ventueel confronteren (nooit suggestief!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kondig laatste vraag a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samenvat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6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bedank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wat gebeurt er met het int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826920" y="6237360"/>
            <a:ext cx="777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Voorbereiding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 – luistervaardigheden - contact opbouwen - soorten vragen - interviewstijl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475920"/>
            <a:ext cx="77724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nterviewtechnie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26560" y="1267920"/>
            <a:ext cx="77058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Luistervaardighe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aat de geïnterviewde merken dat j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uistert, d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ïnteresseerd bent 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m/haar waardee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4"/>
          <p:cNvSpPr/>
          <p:nvPr/>
        </p:nvSpPr>
        <p:spPr>
          <a:xfrm>
            <a:off x="826920" y="6237360"/>
            <a:ext cx="777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Voorbereiding – </a:t>
            </a: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luistervaardigheden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 - contact opbouwen - soorten vragen - interviewstijl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11280" y="475920"/>
            <a:ext cx="77724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nterviewtechnie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826560" y="1267920"/>
            <a:ext cx="77058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Luistervaardighe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ogcont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richte open hou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nikk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m-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rha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arafras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amenvatt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4"/>
          <p:cNvSpPr/>
          <p:nvPr/>
        </p:nvSpPr>
        <p:spPr>
          <a:xfrm>
            <a:off x="826920" y="6237360"/>
            <a:ext cx="777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Voorbereiding – </a:t>
            </a: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luistervaardigheden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 - contact opbouwen - soorten vragen - interviewstijl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3T01:57:21Z</dcterms:created>
  <dc:creator>Robert Onderstijn</dc:creator>
  <dc:description/>
  <dc:language>en-US</dc:language>
  <cp:lastModifiedBy>Herma</cp:lastModifiedBy>
  <dcterms:modified xsi:type="dcterms:W3CDTF">2011-06-21T13:21:37Z</dcterms:modified>
  <cp:revision>5</cp:revision>
  <dc:subject/>
  <dc:title>Interviewtechniek HLB24</dc:title>
</cp:coreProperties>
</file>