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7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341D-EF8D-452F-8B1C-C1A8C93B7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499E-7C4C-4D37-AF63-2165E1DD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4990-802A-41F3-A3CD-765596A4B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F31A-5C42-47A0-8097-788F276ED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E168-29CE-46DF-AF4D-B7DBEFF7F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5ED1-93B5-414D-9800-5C7817EB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17B5-170B-4865-9330-96FDB7F1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66A2F-3BE8-4283-877D-5F84A1F9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A0874-C754-4821-BF72-014C2C66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0E32-5108-40C1-BC9A-1A5CE346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C4FC9-0D77-4629-A448-111EC4E5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083C-D380-44F9-834D-FF699B4A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D86D-FE31-4CE0-80F9-E43DB875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9104-47D9-4DF1-A4AB-D93F9AD1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1808-2C10-447A-AEF6-4EDED494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0FEA-C39C-4371-9A96-1469BC587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FFB44-77F3-4FDD-A69C-575BBBFE1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65B7-D5A9-42A0-B7F5-6C6A4EEB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9289-1DE9-4038-A30E-B111C910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D271-E641-45CA-B505-977D0E11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BA21-3B8F-498E-B798-EDAA1BE7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C0FA-FF47-4DE4-B67C-35043743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0102-37EE-43E1-B9AF-8C73DAAB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C86A-7815-4EFC-AF6D-560BF87A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9C9A-17BB-4E29-8A73-CDA454B5761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AA5E-411B-4722-95DA-32B2A543B1C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abobank.nl/" TargetMode="External"/><Relationship Id="rId3" Type="http://schemas.openxmlformats.org/officeDocument/2006/relationships/hyperlink" Target="http://www.kvk.nl/" TargetMode="External"/><Relationship Id="rId4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558440" y="2492280"/>
            <a:ext cx="609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b9efee"/>
                </a:solidFill>
                <a:latin typeface="Garamond"/>
              </a:rPr>
              <a:t>WELKOM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57200" y="347760"/>
            <a:ext cx="822960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Levert ons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Structuu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Handboeke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Regels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Ondersteuning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Kamer van Koophande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Belastingdienst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n natuurlijk 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ff"/>
                </a:solidFill>
                <a:latin typeface="Garamond"/>
              </a:rPr>
              <a:t>Een Bedrijfs Begeleider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1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ff"/>
                </a:solidFill>
                <a:latin typeface="Garamond"/>
              </a:rPr>
              <a:t>Een Financieel Adviseur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15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Dit zijn </a:t>
            </a:r>
            <a:r>
              <a:rPr b="0" lang="nl-NL" sz="6000" spc="-1" strike="noStrike">
                <a:solidFill>
                  <a:srgbClr val="ffffff"/>
                </a:solidFill>
                <a:latin typeface="Garamond"/>
              </a:rPr>
              <a:t>Vrijwilligers !!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b9efee"/>
                </a:solidFill>
                <a:latin typeface="Garamond"/>
              </a:rPr>
              <a:t>De Taart</a:t>
            </a: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620800" y="1704960"/>
            <a:ext cx="4410360" cy="4113360"/>
          </a:xfrm>
          <a:prstGeom prst="ellipse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559560" y="4933800"/>
            <a:ext cx="19940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12040" y="1886040"/>
            <a:ext cx="2008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79640" y="4941720"/>
            <a:ext cx="18968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65080" y="1863720"/>
            <a:ext cx="228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494320" y="3255840"/>
            <a:ext cx="16765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40160" y="5987880"/>
            <a:ext cx="11145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23200" y="3622680"/>
            <a:ext cx="7174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09560" y="3600360"/>
            <a:ext cx="68904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35480" y="1193760"/>
            <a:ext cx="108252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331040" y="4413240"/>
            <a:ext cx="4827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31720" y="4305240"/>
            <a:ext cx="4047480" cy="1041480"/>
            <a:chOff x="531720" y="4305240"/>
            <a:chExt cx="4047480" cy="1041480"/>
          </a:xfrm>
        </p:grpSpPr>
        <p:sp>
          <p:nvSpPr>
            <p:cNvPr id="155" name=""/>
            <p:cNvSpPr/>
            <p:nvPr/>
          </p:nvSpPr>
          <p:spPr>
            <a:xfrm>
              <a:off x="531720" y="4988880"/>
              <a:ext cx="2649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Proces en uitvoering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3439800" y="4305240"/>
              <a:ext cx="1139400" cy="1041480"/>
              <a:chOff x="3439800" y="4305240"/>
              <a:chExt cx="1139400" cy="1041480"/>
            </a:xfrm>
          </p:grpSpPr>
          <p:sp>
            <p:nvSpPr>
              <p:cNvPr id="157" name=""/>
              <p:cNvSpPr/>
              <p:nvPr/>
            </p:nvSpPr>
            <p:spPr>
              <a:xfrm flipH="1">
                <a:off x="3439800" y="4338360"/>
                <a:ext cx="22320" cy="1008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499640" y="4399920"/>
                <a:ext cx="79560" cy="946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rot="10800000">
                <a:off x="3450960" y="4305240"/>
                <a:ext cx="1071360" cy="446400"/>
              </a:xfrm>
              <a:prstGeom prst="flowChartPunchedTape">
                <a:avLst/>
              </a:prstGeom>
              <a:solidFill>
                <a:srgbClr val="0066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 txBox="1"/>
              <p:nvPr/>
            </p:nvSpPr>
            <p:spPr>
              <a:xfrm>
                <a:off x="3544200" y="4341600"/>
                <a:ext cx="875160" cy="369000"/>
              </a:xfrm>
              <a:prstGeom prst="rect">
                <a:avLst/>
              </a:prstGeom>
            </p:spPr>
            <p:txBody>
              <a:bodyPr wrap="none" lIns="0" rIns="0" tIns="0" bIns="0" anchor="t" anchorCtr="1">
                <a:prstTxWarp prst="textWave1">
                  <a:avLst>
                    <a:gd name="adj1" fmla="val 6481"/>
                    <a:gd name="adj2" fmla="val 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9999ff"/>
                        </a:gs>
                        <a:gs pos="100000">
                          <a:srgbClr val="009999"/>
                        </a:gs>
                      </a:gsLst>
                      <a:lin ang="5400000"/>
                    </a:gradFill>
                    <a:effectLst>
                      <a:outerShdw dist="53966" dir="2700000" blurRad="0" rotWithShape="0">
                        <a:srgbClr val="c0c0c0"/>
                      </a:outerShdw>
                    </a:effectLst>
                    <a:latin typeface="Verdana"/>
                  </a:rPr>
                  <a:t>FINISH</a:t>
                </a:r>
                <a:endPara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9999ff"/>
                      </a:gs>
                      <a:gs pos="100000">
                        <a:srgbClr val="009999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c0c0c0"/>
                    </a:outerShdw>
                  </a:effectLst>
                  <a:latin typeface="Verdana"/>
                  <a:ea typeface="Verdana"/>
                </a:endParaRPr>
              </a:p>
            </p:txBody>
          </p:sp>
        </p:grpSp>
      </p:grpSp>
      <p:grpSp>
        <p:nvGrpSpPr>
          <p:cNvPr id="161" name=""/>
          <p:cNvGrpSpPr/>
          <p:nvPr/>
        </p:nvGrpSpPr>
        <p:grpSpPr>
          <a:xfrm>
            <a:off x="5277960" y="1727280"/>
            <a:ext cx="3656160" cy="1507320"/>
            <a:chOff x="5277960" y="1727280"/>
            <a:chExt cx="3656160" cy="1507320"/>
          </a:xfrm>
        </p:grpSpPr>
        <p:sp>
          <p:nvSpPr>
            <p:cNvPr id="162" name=""/>
            <p:cNvSpPr/>
            <p:nvPr/>
          </p:nvSpPr>
          <p:spPr>
            <a:xfrm>
              <a:off x="6712200" y="1727280"/>
              <a:ext cx="2221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Innovati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en marketing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5277960" y="2221560"/>
              <a:ext cx="1026360" cy="1013040"/>
              <a:chOff x="5277960" y="2221560"/>
              <a:chExt cx="1026360" cy="1013040"/>
            </a:xfrm>
          </p:grpSpPr>
          <p:pic>
            <p:nvPicPr>
              <p:cNvPr id="16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626800" y="2603520"/>
                <a:ext cx="330480" cy="63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" name=""/>
              <p:cNvSpPr/>
              <p:nvPr/>
            </p:nvSpPr>
            <p:spPr>
              <a:xfrm flipH="1">
                <a:off x="5277960" y="2788560"/>
                <a:ext cx="268920" cy="85680"/>
              </a:xfrm>
              <a:prstGeom prst="line">
                <a:avLst/>
              </a:prstGeom>
              <a:ln w="9360">
                <a:solidFill>
                  <a:srgbClr val="006e6b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flipV="1">
                <a:off x="5394600" y="2381760"/>
                <a:ext cx="242640" cy="185040"/>
              </a:xfrm>
              <a:prstGeom prst="line">
                <a:avLst/>
              </a:prstGeom>
              <a:ln w="9360">
                <a:solidFill>
                  <a:srgbClr val="006e6b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5848560" y="2221560"/>
                <a:ext cx="12600" cy="258840"/>
              </a:xfrm>
              <a:prstGeom prst="line">
                <a:avLst/>
              </a:prstGeom>
              <a:ln w="9360">
                <a:solidFill>
                  <a:srgbClr val="006e6b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6048360" y="2468880"/>
                <a:ext cx="255960" cy="134280"/>
              </a:xfrm>
              <a:prstGeom prst="line">
                <a:avLst/>
              </a:prstGeom>
              <a:ln w="9360">
                <a:solidFill>
                  <a:srgbClr val="006e6b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069960" y="2888280"/>
                <a:ext cx="210600" cy="110880"/>
              </a:xfrm>
              <a:prstGeom prst="line">
                <a:avLst/>
              </a:prstGeom>
              <a:ln w="9360">
                <a:solidFill>
                  <a:srgbClr val="006e6b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0" name=""/>
          <p:cNvGrpSpPr/>
          <p:nvPr/>
        </p:nvGrpSpPr>
        <p:grpSpPr>
          <a:xfrm>
            <a:off x="5634000" y="4289400"/>
            <a:ext cx="3509640" cy="1013040"/>
            <a:chOff x="5634000" y="4289400"/>
            <a:chExt cx="3509640" cy="1013040"/>
          </a:xfrm>
        </p:grpSpPr>
        <p:sp>
          <p:nvSpPr>
            <p:cNvPr id="171" name=""/>
            <p:cNvSpPr/>
            <p:nvPr/>
          </p:nvSpPr>
          <p:spPr>
            <a:xfrm>
              <a:off x="6849360" y="5012640"/>
              <a:ext cx="2294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Doel en resultaten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634000" y="4289400"/>
              <a:ext cx="307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Verdana"/>
                </a:rPr>
                <a:t>€</a:t>
              </a:r>
              <a:endParaRPr b="0" lang="en-US" sz="3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942840" y="1727280"/>
            <a:ext cx="3547800" cy="1504440"/>
            <a:chOff x="942840" y="1727280"/>
            <a:chExt cx="3547800" cy="1504440"/>
          </a:xfrm>
        </p:grpSpPr>
        <p:sp>
          <p:nvSpPr>
            <p:cNvPr id="174" name=""/>
            <p:cNvSpPr/>
            <p:nvPr/>
          </p:nvSpPr>
          <p:spPr>
            <a:xfrm>
              <a:off x="942840" y="1727280"/>
              <a:ext cx="1854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Mens en relati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5" name="" descr=""/>
            <p:cNvPicPr/>
            <p:nvPr/>
          </p:nvPicPr>
          <p:blipFill>
            <a:blip r:embed="rId3"/>
            <a:stretch/>
          </p:blipFill>
          <p:spPr>
            <a:xfrm>
              <a:off x="3368880" y="2593800"/>
              <a:ext cx="1121760" cy="63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6" name=""/>
          <p:cNvGrpSpPr/>
          <p:nvPr/>
        </p:nvGrpSpPr>
        <p:grpSpPr>
          <a:xfrm>
            <a:off x="1685880" y="1227240"/>
            <a:ext cx="6484680" cy="4993200"/>
            <a:chOff x="1685880" y="1227240"/>
            <a:chExt cx="6484680" cy="4993200"/>
          </a:xfrm>
        </p:grpSpPr>
        <p:sp>
          <p:nvSpPr>
            <p:cNvPr id="177" name=""/>
            <p:cNvSpPr/>
            <p:nvPr/>
          </p:nvSpPr>
          <p:spPr>
            <a:xfrm>
              <a:off x="4415760" y="6022080"/>
              <a:ext cx="920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Verdana"/>
                </a:rPr>
                <a:t>(controle)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500240" y="3657600"/>
              <a:ext cx="67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Verdana"/>
                </a:rPr>
                <a:t>Exter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85880" y="3635640"/>
              <a:ext cx="64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Verdana"/>
                </a:rPr>
                <a:t>Inter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10360" y="1227240"/>
              <a:ext cx="104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Verdana"/>
                </a:rPr>
                <a:t>Flexibiliteit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46480" y="3747600"/>
              <a:ext cx="501732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headEnd len="lg" type="arrow" w="lg"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4827600" y="1496520"/>
              <a:ext cx="0" cy="450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headEnd len="lg" type="arrow" w="lg"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620640"/>
            <a:ext cx="8718480" cy="41616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4 focusgebieden van een Ondernemi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9efee"/>
                </a:solidFill>
                <a:latin typeface="Garamond"/>
              </a:rPr>
              <a:t>Innovatie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Ideeën/Klante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9efee"/>
                </a:solidFill>
                <a:latin typeface="Garamond"/>
              </a:rPr>
              <a:t>Product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Produceren/Besture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248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b9efee"/>
                </a:solidFill>
                <a:latin typeface="Garamond"/>
              </a:rPr>
              <a:t>Optimaliseren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Coördineren/Controlere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9efee"/>
                </a:solidFill>
                <a:latin typeface="Garamond"/>
              </a:rPr>
              <a:t>Competentie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Stimulator/Mentor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5640" y="234900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b9efee"/>
                </a:solidFill>
                <a:latin typeface="Garamond"/>
              </a:rPr>
              <a:t>Hoe start je een bedrijf ?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40328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aramond"/>
              </a:rPr>
              <a:t>Gewoon doen !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963720" y="3446640"/>
            <a:ext cx="1385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Verdana"/>
              </a:rPr>
              <a:t>In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59560" y="4933800"/>
            <a:ext cx="19940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512040" y="1886040"/>
            <a:ext cx="2008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79640" y="4941720"/>
            <a:ext cx="18968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65080" y="1863720"/>
            <a:ext cx="228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494320" y="3255840"/>
            <a:ext cx="16765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331040" y="4413240"/>
            <a:ext cx="4827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31720" y="4305240"/>
            <a:ext cx="4047480" cy="1041480"/>
            <a:chOff x="531720" y="4305240"/>
            <a:chExt cx="4047480" cy="1041480"/>
          </a:xfrm>
        </p:grpSpPr>
        <p:sp>
          <p:nvSpPr>
            <p:cNvPr id="207" name=""/>
            <p:cNvSpPr/>
            <p:nvPr/>
          </p:nvSpPr>
          <p:spPr>
            <a:xfrm>
              <a:off x="531720" y="4988880"/>
              <a:ext cx="2649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Proces en uitvoering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3439800" y="4305240"/>
              <a:ext cx="1139400" cy="1041480"/>
              <a:chOff x="3439800" y="4305240"/>
              <a:chExt cx="1139400" cy="1041480"/>
            </a:xfrm>
          </p:grpSpPr>
          <p:sp>
            <p:nvSpPr>
              <p:cNvPr id="209" name=""/>
              <p:cNvSpPr/>
              <p:nvPr/>
            </p:nvSpPr>
            <p:spPr>
              <a:xfrm flipH="1">
                <a:off x="3439800" y="4338360"/>
                <a:ext cx="22320" cy="1008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499640" y="4399920"/>
                <a:ext cx="79560" cy="946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 rot="10800000">
                <a:off x="3450960" y="4305240"/>
                <a:ext cx="1071360" cy="446400"/>
              </a:xfrm>
              <a:prstGeom prst="flowChartPunchedTape">
                <a:avLst/>
              </a:prstGeom>
              <a:solidFill>
                <a:srgbClr val="0066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 txBox="1"/>
              <p:nvPr/>
            </p:nvSpPr>
            <p:spPr>
              <a:xfrm>
                <a:off x="3544200" y="4341600"/>
                <a:ext cx="875160" cy="369000"/>
              </a:xfrm>
              <a:prstGeom prst="rect">
                <a:avLst/>
              </a:prstGeom>
            </p:spPr>
            <p:txBody>
              <a:bodyPr wrap="none" lIns="0" rIns="0" tIns="0" bIns="0" anchor="t" anchorCtr="1">
                <a:prstTxWarp prst="textWave1">
                  <a:avLst>
                    <a:gd name="adj1" fmla="val 6481"/>
                    <a:gd name="adj2" fmla="val 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9999ff"/>
                        </a:gs>
                        <a:gs pos="100000">
                          <a:srgbClr val="009999"/>
                        </a:gs>
                      </a:gsLst>
                      <a:lin ang="5400000"/>
                    </a:gradFill>
                    <a:effectLst>
                      <a:outerShdw dist="53966" dir="2700000" blurRad="0" rotWithShape="0">
                        <a:srgbClr val="c0c0c0"/>
                      </a:outerShdw>
                    </a:effectLst>
                    <a:latin typeface="Verdana"/>
                  </a:rPr>
                  <a:t>FINISH</a:t>
                </a:r>
                <a:endPara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9999ff"/>
                      </a:gs>
                      <a:gs pos="100000">
                        <a:srgbClr val="009999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c0c0c0"/>
                    </a:outerShdw>
                  </a:effectLst>
                  <a:latin typeface="Verdana"/>
                  <a:ea typeface="Verdana"/>
                </a:endParaRPr>
              </a:p>
            </p:txBody>
          </p:sp>
        </p:grpSp>
      </p:grpSp>
      <p:grpSp>
        <p:nvGrpSpPr>
          <p:cNvPr id="213" name=""/>
          <p:cNvGrpSpPr/>
          <p:nvPr/>
        </p:nvGrpSpPr>
        <p:grpSpPr>
          <a:xfrm>
            <a:off x="5277960" y="1727280"/>
            <a:ext cx="3656160" cy="1507320"/>
            <a:chOff x="5277960" y="1727280"/>
            <a:chExt cx="3656160" cy="1507320"/>
          </a:xfrm>
        </p:grpSpPr>
        <p:sp>
          <p:nvSpPr>
            <p:cNvPr id="214" name=""/>
            <p:cNvSpPr/>
            <p:nvPr/>
          </p:nvSpPr>
          <p:spPr>
            <a:xfrm>
              <a:off x="6712200" y="1727280"/>
              <a:ext cx="2221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Innovati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en marketing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5277960" y="2221560"/>
              <a:ext cx="1026360" cy="1013040"/>
              <a:chOff x="5277960" y="2221560"/>
              <a:chExt cx="1026360" cy="1013040"/>
            </a:xfrm>
          </p:grpSpPr>
          <p:pic>
            <p:nvPicPr>
              <p:cNvPr id="21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626800" y="2603520"/>
                <a:ext cx="330480" cy="63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"/>
              <p:cNvSpPr/>
              <p:nvPr/>
            </p:nvSpPr>
            <p:spPr>
              <a:xfrm flipH="1">
                <a:off x="5277960" y="2788560"/>
                <a:ext cx="268920" cy="85680"/>
              </a:xfrm>
              <a:prstGeom prst="line">
                <a:avLst/>
              </a:prstGeom>
              <a:ln w="9360">
                <a:solidFill>
                  <a:srgbClr val="006e6b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 flipV="1">
                <a:off x="5394600" y="2381760"/>
                <a:ext cx="242640" cy="185040"/>
              </a:xfrm>
              <a:prstGeom prst="line">
                <a:avLst/>
              </a:prstGeom>
              <a:ln w="9360">
                <a:solidFill>
                  <a:srgbClr val="006e6b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5848560" y="2221560"/>
                <a:ext cx="12600" cy="258840"/>
              </a:xfrm>
              <a:prstGeom prst="line">
                <a:avLst/>
              </a:prstGeom>
              <a:ln w="9360">
                <a:solidFill>
                  <a:srgbClr val="006e6b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6048360" y="2468880"/>
                <a:ext cx="255960" cy="134280"/>
              </a:xfrm>
              <a:prstGeom prst="line">
                <a:avLst/>
              </a:prstGeom>
              <a:ln w="9360">
                <a:solidFill>
                  <a:srgbClr val="006e6b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069960" y="2888280"/>
                <a:ext cx="210600" cy="110880"/>
              </a:xfrm>
              <a:prstGeom prst="line">
                <a:avLst/>
              </a:prstGeom>
              <a:ln w="9360">
                <a:solidFill>
                  <a:srgbClr val="006e6b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22" name=""/>
          <p:cNvGrpSpPr/>
          <p:nvPr/>
        </p:nvGrpSpPr>
        <p:grpSpPr>
          <a:xfrm>
            <a:off x="5634000" y="4289400"/>
            <a:ext cx="3509640" cy="1013040"/>
            <a:chOff x="5634000" y="4289400"/>
            <a:chExt cx="3509640" cy="1013040"/>
          </a:xfrm>
        </p:grpSpPr>
        <p:sp>
          <p:nvSpPr>
            <p:cNvPr id="223" name=""/>
            <p:cNvSpPr/>
            <p:nvPr/>
          </p:nvSpPr>
          <p:spPr>
            <a:xfrm>
              <a:off x="6849360" y="5012640"/>
              <a:ext cx="2294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Doel en resultaten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34000" y="4289400"/>
              <a:ext cx="307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Verdana"/>
                </a:rPr>
                <a:t>€</a:t>
              </a:r>
              <a:endParaRPr b="0" lang="en-US" sz="3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942840" y="1727280"/>
            <a:ext cx="3547800" cy="1504440"/>
            <a:chOff x="942840" y="1727280"/>
            <a:chExt cx="3547800" cy="1504440"/>
          </a:xfrm>
        </p:grpSpPr>
        <p:sp>
          <p:nvSpPr>
            <p:cNvPr id="226" name=""/>
            <p:cNvSpPr/>
            <p:nvPr/>
          </p:nvSpPr>
          <p:spPr>
            <a:xfrm>
              <a:off x="942840" y="1727280"/>
              <a:ext cx="1854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Mens en relati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27" name="" descr=""/>
            <p:cNvPicPr/>
            <p:nvPr/>
          </p:nvPicPr>
          <p:blipFill>
            <a:blip r:embed="rId3"/>
            <a:stretch/>
          </p:blipFill>
          <p:spPr>
            <a:xfrm>
              <a:off x="3368880" y="2593800"/>
              <a:ext cx="1121760" cy="63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8" name=""/>
          <p:cNvSpPr/>
          <p:nvPr/>
        </p:nvSpPr>
        <p:spPr>
          <a:xfrm>
            <a:off x="2347920" y="3746520"/>
            <a:ext cx="5016600" cy="1440"/>
          </a:xfrm>
          <a:prstGeom prst="line">
            <a:avLst/>
          </a:prstGeom>
          <a:ln w="15840">
            <a:solidFill>
              <a:srgbClr val="ffffff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4827600" y="1496880"/>
            <a:ext cx="0" cy="4500720"/>
          </a:xfrm>
          <a:prstGeom prst="line">
            <a:avLst/>
          </a:prstGeom>
          <a:ln w="15840">
            <a:solidFill>
              <a:srgbClr val="ffffff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4920" y="196560"/>
            <a:ext cx="7993080" cy="4158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50b296"/>
                </a:solidFill>
                <a:latin typeface="Garamond"/>
              </a:rPr>
              <a:t>Ondernemen en Ontwikkeling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1" name=""/>
          <p:cNvSpPr/>
          <p:nvPr/>
        </p:nvSpPr>
        <p:spPr>
          <a:xfrm>
            <a:off x="2725560" y="5838840"/>
            <a:ext cx="41929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Verdana"/>
              </a:rPr>
              <a:t>Beheer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699000" y="1073160"/>
            <a:ext cx="3219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Verdana"/>
              </a:rPr>
              <a:t>Flexibilit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481880" y="3470400"/>
            <a:ext cx="1387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Verdana"/>
              </a:rPr>
              <a:t>Ex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16200000">
            <a:off x="2740680" y="1487880"/>
            <a:ext cx="4176720" cy="458172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4581720"/>
              <a:gd name="textAreaBottom" fmla="*/ 4582080 h 4581720"/>
            </a:gdLst>
            <a:ahLst/>
            <a:rect l="textAreaLeft" t="textAreaTop" r="textAreaRight" b="textAreaBottom"/>
            <a:pathLst>
              <a:path w="21600" h="21600">
                <a:moveTo>
                  <a:pt x="1970" y="15295"/>
                </a:moveTo>
                <a:arcTo wR="-9908" hR="-9908" stAng="9181270" swAng="-19684143"/>
                <a:lnTo>
                  <a:pt x="21560" y="11732"/>
                </a:lnTo>
                <a:arcTo wR="10800" hR="10800" stAng="297127" swAng="19684143"/>
                <a:lnTo>
                  <a:pt x="22831" y="4676"/>
                </a:lnTo>
                <a:lnTo>
                  <a:pt x="21454" y="8906"/>
                </a:lnTo>
                <a:lnTo>
                  <a:pt x="17224" y="7530"/>
                </a:lnTo>
                <a:close/>
              </a:path>
            </a:pathLst>
          </a:custGeom>
          <a:solidFill>
            <a:srgbClr val="50b2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242064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b9efee"/>
                </a:solidFill>
                <a:latin typeface="Garamond"/>
              </a:rPr>
              <a:t>De Clusius College </a:t>
            </a:r>
            <a:br>
              <a:rPr sz="4800"/>
            </a:br>
            <a:r>
              <a:rPr b="1" lang="nl-NL" sz="4800" spc="-1" strike="noStrike">
                <a:solidFill>
                  <a:srgbClr val="b9efee"/>
                </a:solidFill>
                <a:latin typeface="Garamond"/>
              </a:rPr>
              <a:t>College Company Startochtend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3212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an 9.00 uur tot circa 11.30 uur.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3680" y="2743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6" name=""/>
          <p:cNvSpPr/>
          <p:nvPr/>
        </p:nvSpPr>
        <p:spPr>
          <a:xfrm>
            <a:off x="4503600" y="3792600"/>
            <a:ext cx="158760" cy="439560"/>
          </a:xfrm>
          <a:prstGeom prst="rect">
            <a:avLst/>
          </a:prstGeom>
          <a:solidFill>
            <a:srgbClr val="0066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2120" bIns="421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06560" y="3235320"/>
            <a:ext cx="10512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697320" y="1751040"/>
            <a:ext cx="8203320" cy="3832560"/>
            <a:chOff x="697320" y="1751040"/>
            <a:chExt cx="8203320" cy="3832560"/>
          </a:xfrm>
        </p:grpSpPr>
        <p:sp>
          <p:nvSpPr>
            <p:cNvPr id="239" name=""/>
            <p:cNvSpPr/>
            <p:nvPr/>
          </p:nvSpPr>
          <p:spPr>
            <a:xfrm>
              <a:off x="6901200" y="1751040"/>
              <a:ext cx="1487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Leider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72200" y="4943880"/>
              <a:ext cx="1487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Manager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072440" y="1774440"/>
              <a:ext cx="1487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Coach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97320" y="5331600"/>
              <a:ext cx="1341720" cy="2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2120" bIns="42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Bereikt resultat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68080" y="5272560"/>
              <a:ext cx="1448280" cy="2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2120" bIns="42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Bouwt de toekoms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8800" y="2138400"/>
              <a:ext cx="1393560" cy="2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2120" bIns="42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Creëert zelfsturing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88800" y="2114640"/>
              <a:ext cx="1378080" cy="2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2120" bIns="42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Inspireert mens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812280" y="4920480"/>
              <a:ext cx="2088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Ondernemer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204920" y="1273320"/>
            <a:ext cx="6481440" cy="5015880"/>
            <a:chOff x="1204920" y="1273320"/>
            <a:chExt cx="6481440" cy="5015880"/>
          </a:xfrm>
        </p:grpSpPr>
        <p:sp>
          <p:nvSpPr>
            <p:cNvPr id="248" name=""/>
            <p:cNvSpPr/>
            <p:nvPr/>
          </p:nvSpPr>
          <p:spPr>
            <a:xfrm>
              <a:off x="2207880" y="1750320"/>
              <a:ext cx="4376880" cy="410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1887480" y="3717720"/>
              <a:ext cx="5005800" cy="168840"/>
              <a:chOff x="1887480" y="3717720"/>
              <a:chExt cx="5005800" cy="168840"/>
            </a:xfrm>
          </p:grpSpPr>
          <p:sp>
            <p:nvSpPr>
              <p:cNvPr id="250" name=""/>
              <p:cNvSpPr/>
              <p:nvPr/>
            </p:nvSpPr>
            <p:spPr>
              <a:xfrm>
                <a:off x="1887480" y="3792600"/>
                <a:ext cx="5005800" cy="18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887480" y="3717720"/>
                <a:ext cx="115200" cy="167760"/>
              </a:xfrm>
              <a:custGeom>
                <a:avLst/>
                <a:gdLst/>
                <a:ahLst/>
                <a:rect l="l" t="t" r="r" b="b"/>
                <a:pathLst>
                  <a:path w="166" h="229">
                    <a:moveTo>
                      <a:pt x="166" y="0"/>
                    </a:moveTo>
                    <a:lnTo>
                      <a:pt x="0" y="116"/>
                    </a:lnTo>
                    <a:lnTo>
                      <a:pt x="166" y="229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776280" y="3719160"/>
                <a:ext cx="116640" cy="167400"/>
              </a:xfrm>
              <a:custGeom>
                <a:avLst/>
                <a:gdLst/>
                <a:ahLst/>
                <a:rect l="l" t="t" r="r" b="b"/>
                <a:pathLst>
                  <a:path w="167" h="229">
                    <a:moveTo>
                      <a:pt x="0" y="229"/>
                    </a:moveTo>
                    <a:lnTo>
                      <a:pt x="167" y="114"/>
                    </a:lnTo>
                    <a:lnTo>
                      <a:pt x="0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4307760" y="1551240"/>
              <a:ext cx="188640" cy="4498920"/>
              <a:chOff x="4307760" y="1551240"/>
              <a:chExt cx="188640" cy="4498920"/>
            </a:xfrm>
          </p:grpSpPr>
          <p:sp>
            <p:nvSpPr>
              <p:cNvPr id="254" name=""/>
              <p:cNvSpPr/>
              <p:nvPr/>
            </p:nvSpPr>
            <p:spPr>
              <a:xfrm>
                <a:off x="4385520" y="1551240"/>
                <a:ext cx="32040" cy="4498920"/>
              </a:xfrm>
              <a:custGeom>
                <a:avLst/>
                <a:gdLst/>
                <a:ahLst/>
                <a:rect l="l" t="t" r="r" b="b"/>
                <a:pathLst>
                  <a:path w="46" h="6110">
                    <a:moveTo>
                      <a:pt x="15" y="6110"/>
                    </a:moveTo>
                    <a:lnTo>
                      <a:pt x="46" y="6110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15" y="6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316040" y="5942520"/>
                <a:ext cx="180360" cy="107280"/>
              </a:xfrm>
              <a:custGeom>
                <a:avLst/>
                <a:gdLst/>
                <a:ahLst/>
                <a:rect l="l" t="t" r="r" b="b"/>
                <a:pathLst>
                  <a:path w="259" h="147">
                    <a:moveTo>
                      <a:pt x="0" y="0"/>
                    </a:moveTo>
                    <a:lnTo>
                      <a:pt x="130" y="147"/>
                    </a:lnTo>
                    <a:lnTo>
                      <a:pt x="259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307760" y="1551240"/>
                <a:ext cx="178920" cy="109080"/>
              </a:xfrm>
              <a:custGeom>
                <a:avLst/>
                <a:gdLst/>
                <a:ahLst/>
                <a:rect l="l" t="t" r="r" b="b"/>
                <a:pathLst>
                  <a:path w="258" h="147">
                    <a:moveTo>
                      <a:pt x="258" y="147"/>
                    </a:moveTo>
                    <a:lnTo>
                      <a:pt x="128" y="0"/>
                    </a:lnTo>
                    <a:lnTo>
                      <a:pt x="0" y="14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2833560" y="2343960"/>
              <a:ext cx="3108240" cy="2904840"/>
              <a:chOff x="2833560" y="2343960"/>
              <a:chExt cx="3108240" cy="290484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2833560" y="3135960"/>
                <a:ext cx="2259720" cy="2112840"/>
                <a:chOff x="2833560" y="3135960"/>
                <a:chExt cx="2259720" cy="211284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2833560" y="52416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2"/>
                      </a:move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9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844360" y="52311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2856960" y="5221080"/>
                  <a:ext cx="6840" cy="756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866680" y="52110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879280" y="51987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890440" y="51901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901600" y="51786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2912400" y="51681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2925000" y="5156280"/>
                  <a:ext cx="6840" cy="90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2935080" y="51476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3" y="0"/>
                      </a:move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947680" y="51357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2958480" y="51253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969640" y="51152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980800" y="51048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993400" y="50929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003120" y="50839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015720" y="50724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025440" y="50619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037680" y="50515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3049200" y="504144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3060000" y="50295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071160" y="50191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3083760" y="5009040"/>
                  <a:ext cx="6840" cy="756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093480" y="49989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3105720" y="49867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117240" y="49780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128400" y="49665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139200" y="49561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151800" y="49456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3161880" y="49356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3174120" y="49237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3185280" y="4913280"/>
                  <a:ext cx="6840" cy="864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196440" y="49032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207600" y="48927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218760" y="4880880"/>
                  <a:ext cx="7920" cy="864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4" y="2"/>
                      </a:move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2"/>
                      </a:lnTo>
                      <a:lnTo>
                        <a:pt x="8" y="12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3" y="7"/>
                      </a:lnTo>
                      <a:lnTo>
                        <a:pt x="13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229920" y="48718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240720" y="4861800"/>
                  <a:ext cx="8280" cy="756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3251880" y="48499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3263400" y="4839480"/>
                  <a:ext cx="7920" cy="90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275640" y="4829400"/>
                  <a:ext cx="6840" cy="756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285360" y="48193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297960" y="4807080"/>
                  <a:ext cx="7920" cy="90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3309120" y="47984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3319920" y="47869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3331440" y="47764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343680" y="47660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353400" y="47556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366000" y="47440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3377160" y="47350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388320" y="47232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3399480" y="47131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3411720" y="4702680"/>
                  <a:ext cx="720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421440" y="46922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3434040" y="46807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3444120" y="46702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3456720" y="46598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467520" y="464940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478680" y="46378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489840" y="46292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3502440" y="4617000"/>
                  <a:ext cx="6840" cy="756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3512160" y="46072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1"/>
                      </a:lnTo>
                      <a:lnTo>
                        <a:pt x="7" y="11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3524760" y="45968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3535920" y="45864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3546720" y="45748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557880" y="45644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70480" y="45540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3580200" y="45435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3592800" y="45320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603960" y="45230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613680" y="45126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3626280" y="45010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637440" y="4490640"/>
                  <a:ext cx="6840" cy="90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3648240" y="44802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3659400" y="44701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3670920" y="4458240"/>
                  <a:ext cx="7920" cy="90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3681720" y="44496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3694320" y="443736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3704040" y="44276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3716640" y="44172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3727440" y="4406760"/>
                  <a:ext cx="720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3738960" y="43952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3749760" y="4384800"/>
                  <a:ext cx="7920" cy="864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3762360" y="437436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3772440" y="43639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3" y="9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3784680" y="4352400"/>
                  <a:ext cx="8280" cy="86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795840" y="43434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3807000" y="43315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3818160" y="43214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3830760" y="43110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3840480" y="43005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3852720" y="42890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864240" y="42804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3875040" y="42681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886200" y="42580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3" y="9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3897360" y="42480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3908520" y="42375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3920760" y="4225320"/>
                  <a:ext cx="6840" cy="756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3930480" y="42156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3943080" y="42051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3954240" y="41947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965760" y="41832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3976560" y="41742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3987720" y="4162320"/>
                  <a:ext cx="8280" cy="864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4" y="2"/>
                      </a:move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2"/>
                      </a:lnTo>
                      <a:lnTo>
                        <a:pt x="8" y="12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4" y="7"/>
                      </a:lnTo>
                      <a:lnTo>
                        <a:pt x="14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3998880" y="41518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3" y="11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4010040" y="41418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4022280" y="413136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032360" y="41209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4044960" y="41094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4055760" y="41004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4066920" y="40885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4078080" y="40784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4089240" y="40680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4100400" y="40579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4113000" y="40460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1" y="2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1" y="11"/>
                      </a:lnTo>
                      <a:lnTo>
                        <a:pt x="3" y="11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4122720" y="4035600"/>
                  <a:ext cx="7920" cy="86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4135320" y="40255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146480" y="40150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4157280" y="4003200"/>
                  <a:ext cx="8280" cy="86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4168440" y="39942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181040" y="39826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4190760" y="39722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4203360" y="39618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4214520" y="39517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4225680" y="39398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236480" y="39312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4249080" y="39193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4258800" y="39088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4271760" y="3897360"/>
                  <a:ext cx="7920" cy="90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4282560" y="388836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4293720" y="38764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4304880" y="38664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4316040" y="38559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4327200" y="38458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4339800" y="38340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4349520" y="38250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4361760" y="38134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4373280" y="38030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4382640" y="37926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4395240" y="37821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4406400" y="37720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417560" y="37602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4428720" y="37515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441320" y="37396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4451040" y="37292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3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2" y="7"/>
                      </a:lnTo>
                      <a:lnTo>
                        <a:pt x="3" y="9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4463280" y="37191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4474440" y="3708720"/>
                  <a:ext cx="720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4485600" y="36968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4496760" y="3686760"/>
                  <a:ext cx="8280" cy="86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4509360" y="36763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519080" y="36662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4531320" y="3654360"/>
                  <a:ext cx="8280" cy="86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4541400" y="36453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554000" y="36338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4564800" y="36234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4575960" y="36129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587120" y="36025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4599720" y="35910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4609440" y="3580560"/>
                  <a:ext cx="8280" cy="86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4622040" y="35701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4633200" y="35600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644000" y="3548160"/>
                  <a:ext cx="8280" cy="86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655520" y="35395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4667760" y="35276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4677480" y="35172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4690080" y="35071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701240" y="34966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4712400" y="34848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723560" y="34761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4734720" y="34642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4745520" y="34542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4757040" y="3443760"/>
                  <a:ext cx="9720" cy="720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3" y="2"/>
                      </a:move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2"/>
                      </a:lnTo>
                      <a:lnTo>
                        <a:pt x="7" y="12"/>
                      </a:ln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3" y="7"/>
                      </a:lnTo>
                      <a:lnTo>
                        <a:pt x="13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4767840" y="34333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4779000" y="34228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4791600" y="34113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801320" y="340236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813920" y="33904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4825080" y="33804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4836240" y="33699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847040" y="33598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859640" y="33480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4869720" y="33375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4882320" y="33274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4893120" y="33170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4904280" y="33051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4915440" y="32965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928040" y="32846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4937760" y="32742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4950360" y="32641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4961520" y="32536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4972320" y="32418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983480" y="3231720"/>
                  <a:ext cx="8280" cy="86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4994640" y="32212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5005800" y="32108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5018400" y="3199320"/>
                  <a:ext cx="6840" cy="864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5028120" y="319032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5040360" y="31784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5051880" y="31680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5063040" y="31579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5073840" y="31478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5086440" y="313596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"/>
              <p:cNvSpPr/>
              <p:nvPr/>
            </p:nvSpPr>
            <p:spPr>
              <a:xfrm>
                <a:off x="5096520" y="312552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3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108760" y="311544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119920" y="310536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131080" y="309312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142240" y="30844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2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153040" y="307404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164560" y="30625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175720" y="30535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186520" y="304164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198040" y="303156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210280" y="302112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220000" y="3010680"/>
                <a:ext cx="8280" cy="7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232600" y="299916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2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243760" y="298872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254920" y="2978280"/>
                <a:ext cx="8280" cy="7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266080" y="296820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278320" y="295632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288040" y="29476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300640" y="293580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311800" y="292572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4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322960" y="29152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" y="2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334120" y="290484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346360" y="289332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2" y="2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356440" y="28828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369040" y="287244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379840" y="286200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391000" y="28504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402520" y="284148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3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413320" y="282960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424480" y="281952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4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437080" y="280908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" y="2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446800" y="279864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459400" y="27871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2" y="2"/>
                    </a:move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470560" y="2776680"/>
                <a:ext cx="6840" cy="90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481360" y="2766240"/>
                <a:ext cx="8280" cy="7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492520" y="275616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505120" y="2744280"/>
                <a:ext cx="6840" cy="90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514840" y="273564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3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526000" y="2723760"/>
                <a:ext cx="9720" cy="864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4" y="2"/>
                    </a:move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538600" y="271332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548320" y="27043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3" y="0"/>
                    </a:move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560560" y="269280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572080" y="268236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583240" y="26719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594040" y="266184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4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606640" y="264996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2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616360" y="26395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629320" y="262944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2"/>
                    </a:move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638680" y="2619000"/>
                <a:ext cx="8280" cy="7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651280" y="260712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662080" y="25984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3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673600" y="258660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684760" y="25765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697360" y="256608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707080" y="255600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719320" y="254412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2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730480" y="2533680"/>
                <a:ext cx="720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741640" y="252360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752800" y="251316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765400" y="250128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775120" y="249228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3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787360" y="248076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798880" y="247032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4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810040" y="245988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2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820840" y="244980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832000" y="243792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2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843160" y="242748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855760" y="241740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865480" y="2406960"/>
                <a:ext cx="8280" cy="7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878080" y="239508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88880" y="238644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900040" y="2374560"/>
                <a:ext cx="8280" cy="7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911560" y="236448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922360" y="2354040"/>
                <a:ext cx="6840" cy="864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933520" y="234396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2846160" y="2352600"/>
              <a:ext cx="3107880" cy="2905200"/>
              <a:chOff x="2846160" y="2352600"/>
              <a:chExt cx="3107880" cy="2905200"/>
            </a:xfrm>
          </p:grpSpPr>
          <p:grpSp>
            <p:nvGrpSpPr>
              <p:cNvPr id="535" name=""/>
              <p:cNvGrpSpPr/>
              <p:nvPr/>
            </p:nvGrpSpPr>
            <p:grpSpPr>
              <a:xfrm>
                <a:off x="2846160" y="2352600"/>
                <a:ext cx="2259720" cy="2112480"/>
                <a:chOff x="2846160" y="2352600"/>
                <a:chExt cx="2259720" cy="211248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2846160" y="23526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2856960" y="23626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868120" y="23731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5" y="11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2879280" y="23835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2891880" y="23950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2901600" y="24040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2914200" y="24159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2925000" y="24260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1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2936160" y="24364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2947680" y="24469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2959920" y="24584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2969640" y="24688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2982240" y="24793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2993400" y="24894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004200" y="25012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3015720" y="25099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3026880" y="25218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3037680" y="25318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1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3050280" y="25423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3060000" y="25527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3072600" y="25642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3083760" y="2573280"/>
                  <a:ext cx="6840" cy="864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3094920" y="25851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3105720" y="25956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3118320" y="2605680"/>
                  <a:ext cx="6840" cy="864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128400" y="26161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3141000" y="26280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1"/>
                      </a:move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3151800" y="26380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162960" y="26485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3174120" y="26589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3186720" y="26704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3196440" y="2679120"/>
                  <a:ext cx="7920" cy="90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209040" y="26913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218760" y="27014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3229920" y="2711520"/>
                  <a:ext cx="9720" cy="9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2"/>
                      </a:lnTo>
                      <a:lnTo>
                        <a:pt x="8" y="12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4" y="7"/>
                      </a:lnTo>
                      <a:lnTo>
                        <a:pt x="14" y="5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3242160" y="27219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1" y="9"/>
                      </a:lnTo>
                      <a:lnTo>
                        <a:pt x="3" y="11"/>
                      </a:lnTo>
                      <a:lnTo>
                        <a:pt x="5" y="11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6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3251880" y="27324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3264480" y="27439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3275640" y="27529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3286800" y="27648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3297960" y="27752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3310560" y="27853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3319920" y="27957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3332520" y="28076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3343680" y="28177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355200" y="28281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1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3366000" y="28386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3378600" y="28501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388320" y="28587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3400920" y="28710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411720" y="2881080"/>
                  <a:ext cx="720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1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3423240" y="28911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3434040" y="29016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3445200" y="29134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9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9"/>
                      </a:lnTo>
                      <a:lnTo>
                        <a:pt x="9" y="7"/>
                      </a:lnTo>
                      <a:lnTo>
                        <a:pt x="11" y="6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3456720" y="29235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3468960" y="29340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3478680" y="29444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3491280" y="29559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502440" y="296496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3513240" y="29768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3524760" y="29872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1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3537000" y="299736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3546720" y="30078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3559320" y="30196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9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3570480" y="3028320"/>
                  <a:ext cx="6840" cy="90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3581640" y="30402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3592800" y="30506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7" y="8"/>
                      </a:lnTo>
                      <a:lnTo>
                        <a:pt x="9" y="6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605040" y="3060720"/>
                  <a:ext cx="6840" cy="90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614760" y="30708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9"/>
                      </a:lnTo>
                      <a:lnTo>
                        <a:pt x="6" y="11"/>
                      </a:lnTo>
                      <a:lnTo>
                        <a:pt x="6" y="11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3626280" y="30812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3638520" y="30931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3648240" y="31021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3660840" y="31136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3670560" y="31240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1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3683160" y="31345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3694320" y="31446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3" y="11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9" y="11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3705480" y="31564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1"/>
                      </a:move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8"/>
                      </a:lnTo>
                      <a:lnTo>
                        <a:pt x="9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3716640" y="31669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3729240" y="31770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3738960" y="31874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3751200" y="31993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3762360" y="320796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3773520" y="32198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3784680" y="32302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3797280" y="324036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3807000" y="32504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819600" y="32626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1"/>
                      </a:move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8"/>
                      </a:lnTo>
                      <a:lnTo>
                        <a:pt x="9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3830760" y="327276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3841560" y="32828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3852720" y="32932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3864240" y="33051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3875040" y="33141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3887640" y="33256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3897360" y="33361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9" y="11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3909960" y="33465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3920760" y="33566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3932280" y="33685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5" y="11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6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3943080" y="3377160"/>
                  <a:ext cx="7920" cy="90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3955680" y="33890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3965760" y="33994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3978000" y="34113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3988800" y="3420000"/>
                  <a:ext cx="720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3998880" y="3430080"/>
                  <a:ext cx="9720" cy="900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11" y="3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2"/>
                      </a:lnTo>
                      <a:lnTo>
                        <a:pt x="7" y="12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3" y="7"/>
                      </a:lnTo>
                      <a:lnTo>
                        <a:pt x="13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4011480" y="34423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4022280" y="3450960"/>
                  <a:ext cx="6840" cy="864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4033800" y="34624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4044960" y="34729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4057560" y="3483360"/>
                  <a:ext cx="6840" cy="864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4066920" y="34938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1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4079520" y="35053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1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4089240" y="35157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4101840" y="35262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4113000" y="35362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4123800" y="35481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4135320" y="355680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147560" y="35686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4157280" y="35791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4169880" y="358920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4181040" y="35996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1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4192200" y="36115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1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4203360" y="36219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4215600" y="36320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4225680" y="36421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4238280" y="36543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4249080" y="36630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4260240" y="36745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4271400" y="36849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9" y="11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4284000" y="36954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4293720" y="37058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4306320" y="37173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1"/>
                      </a:lnTo>
                      <a:lnTo>
                        <a:pt x="5" y="11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6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4316040" y="37278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4328280" y="37382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4339800" y="37483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4350600" y="37602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4361760" y="3768840"/>
                  <a:ext cx="8280" cy="756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4374360" y="37807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384080" y="37911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9"/>
                      </a:lnTo>
                      <a:lnTo>
                        <a:pt x="5" y="11"/>
                      </a:lnTo>
                      <a:lnTo>
                        <a:pt x="5" y="11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4395240" y="3799800"/>
                  <a:ext cx="8280" cy="90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4407840" y="38116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4417560" y="38217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4429800" y="3832200"/>
                  <a:ext cx="8280" cy="90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4441320" y="38426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4452120" y="38541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1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4463280" y="38646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4475880" y="38750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4485600" y="38854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4498200" y="38970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4509360" y="3906000"/>
                  <a:ext cx="6840" cy="864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4520520" y="39178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4531320" y="39279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4542840" y="3938400"/>
                  <a:ext cx="7920" cy="86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4554000" y="394848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1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4566600" y="396036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4575960" y="39708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4588560" y="3980880"/>
                  <a:ext cx="8280" cy="756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4599720" y="39913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4610880" y="40032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4622040" y="40118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4634640" y="40237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4644000" y="40338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4656600" y="40442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4667760" y="40546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4678920" y="40662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4690080" y="40766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4702680" y="40870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4712400" y="40971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4724640" y="41090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4734720" y="41180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4747320" y="41295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4758120" y="41400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11" y="4"/>
                      </a:move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3" y="9"/>
                      </a:lnTo>
                      <a:lnTo>
                        <a:pt x="5" y="11"/>
                      </a:lnTo>
                      <a:lnTo>
                        <a:pt x="5" y="11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6"/>
                      </a:lnTo>
                      <a:lnTo>
                        <a:pt x="11" y="6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4767840" y="4148640"/>
                  <a:ext cx="9720" cy="900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11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2"/>
                      </a:lnTo>
                      <a:lnTo>
                        <a:pt x="8" y="12"/>
                      </a:lnTo>
                      <a:lnTo>
                        <a:pt x="10" y="10"/>
                      </a:lnTo>
                      <a:lnTo>
                        <a:pt x="11" y="8"/>
                      </a:lnTo>
                      <a:lnTo>
                        <a:pt x="13" y="7"/>
                      </a:lnTo>
                      <a:lnTo>
                        <a:pt x="13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4780440" y="416052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4791600" y="41709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4802760" y="41828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4813560" y="41914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4826520" y="420336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4836240" y="42134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9" y="11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4848840" y="42238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4859640" y="42343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4870800" y="42458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1" y="9"/>
                      </a:lnTo>
                      <a:lnTo>
                        <a:pt x="3" y="11"/>
                      </a:lnTo>
                      <a:lnTo>
                        <a:pt x="5" y="11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4882320" y="4254840"/>
                  <a:ext cx="7920" cy="86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4894560" y="42667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4904280" y="42768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4916880" y="4287240"/>
                  <a:ext cx="7920" cy="86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4928040" y="42976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1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4938840" y="43092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4950360" y="43196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4961160" y="43300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1" y="6"/>
                      </a:lnTo>
                      <a:lnTo>
                        <a:pt x="11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4972320" y="4340160"/>
                  <a:ext cx="8280" cy="756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4984920" y="43520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1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4994640" y="43606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5007240" y="4372560"/>
                  <a:ext cx="8280" cy="756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5018400" y="43826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5029560" y="43930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5040360" y="44035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1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5052960" y="44150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5063040" y="44254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5075280" y="44359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9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5086440" y="444636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5097600" y="44578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1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6" name=""/>
              <p:cNvSpPr/>
              <p:nvPr/>
            </p:nvSpPr>
            <p:spPr>
              <a:xfrm>
                <a:off x="5108760" y="446724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121360" y="447876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131080" y="448920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6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143680" y="449964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1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7" y="8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154840" y="451008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164560" y="452016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3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2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176800" y="453204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2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9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186520" y="45406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199120" y="455256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210280" y="456264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4"/>
                    </a:move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3" y="11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221440" y="457308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1"/>
                    </a:move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7" y="8"/>
                    </a:lnTo>
                    <a:lnTo>
                      <a:pt x="9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232600" y="45835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4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244840" y="4595040"/>
                <a:ext cx="7200" cy="72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254560" y="4604040"/>
                <a:ext cx="8280" cy="86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9" y="2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267160" y="46159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278320" y="462636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2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289840" y="4636440"/>
                <a:ext cx="7920" cy="86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2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8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300640" y="464688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313240" y="465876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1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322960" y="466884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4"/>
                    </a:move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335560" y="46792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1"/>
                    </a:move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7" y="8"/>
                    </a:lnTo>
                    <a:lnTo>
                      <a:pt x="9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346360" y="468972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3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357880" y="470124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369040" y="470988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5379840" y="472212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391000" y="473220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2" y="8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403600" y="4742280"/>
                <a:ext cx="8280" cy="90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2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8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413320" y="475272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4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0" y="11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425920" y="476460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1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6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437080" y="477468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4"/>
                    </a:move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447880" y="478512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9" y="2"/>
                    </a:move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7" y="9"/>
                    </a:lnTo>
                    <a:lnTo>
                      <a:pt x="9" y="7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459400" y="479556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3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2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471640" y="480708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481360" y="48160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493960" y="482796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505120" y="483840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6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5516280" y="48484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2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8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527440" y="48589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4"/>
                    </a:moveTo>
                    <a:lnTo>
                      <a:pt x="8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538600" y="4869360"/>
                <a:ext cx="7920" cy="86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2" y="3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0" y="10"/>
                    </a:lnTo>
                    <a:lnTo>
                      <a:pt x="12" y="8"/>
                    </a:lnTo>
                    <a:lnTo>
                      <a:pt x="14" y="7"/>
                    </a:lnTo>
                    <a:lnTo>
                      <a:pt x="14" y="5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549760" y="48808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560560" y="488952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573160" y="490176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582880" y="491184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2" y="4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0" y="11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595480" y="49219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1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7" y="8"/>
                    </a:lnTo>
                    <a:lnTo>
                      <a:pt x="9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606640" y="493236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4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617800" y="494424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628960" y="49543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640120" y="496476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651280" y="497520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3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2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663880" y="498672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673600" y="49957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685840" y="500760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697360" y="501804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2" y="4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0" y="11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708160" y="50281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1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8"/>
                    </a:lnTo>
                    <a:lnTo>
                      <a:pt x="9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719320" y="503856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4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731920" y="505044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741640" y="505908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753880" y="507096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765400" y="508140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2" y="8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776200" y="509148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787360" y="510156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799960" y="511380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1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809680" y="512388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4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822280" y="513396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1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8"/>
                    </a:lnTo>
                    <a:lnTo>
                      <a:pt x="9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832000" y="514440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844600" y="51562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5855400" y="5165280"/>
                <a:ext cx="8280" cy="86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866920" y="517680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2"/>
                    </a:move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7" y="9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878080" y="518724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6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890680" y="5197680"/>
                <a:ext cx="6840" cy="864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900040" y="520776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4"/>
                    </a:moveTo>
                    <a:lnTo>
                      <a:pt x="7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7" y="9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912640" y="521964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1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6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923800" y="523008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933520" y="523872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5946120" y="525060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11" name=""/>
            <p:cNvSpPr/>
            <p:nvPr/>
          </p:nvSpPr>
          <p:spPr>
            <a:xfrm>
              <a:off x="5366520" y="4116960"/>
              <a:ext cx="111276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00560" y="4047840"/>
              <a:ext cx="1140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PRODUCENT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452480" y="5040360"/>
              <a:ext cx="14392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578840" y="5075640"/>
              <a:ext cx="1203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BESTUURDER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216240" y="5051880"/>
              <a:ext cx="10774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971440" y="5087520"/>
              <a:ext cx="1383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COORDINATOR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402280" y="4111200"/>
              <a:ext cx="102492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463840" y="4063680"/>
              <a:ext cx="1254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CONTROLEUR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355120" y="3150720"/>
              <a:ext cx="16146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467800" y="3186000"/>
              <a:ext cx="1184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STIMULATOR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191040" y="2184840"/>
              <a:ext cx="120456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277440" y="2220120"/>
              <a:ext cx="799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MENTOR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488840" y="2194920"/>
              <a:ext cx="1362600" cy="31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569840" y="2206800"/>
              <a:ext cx="1114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INNOVATOR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362200" y="3115800"/>
              <a:ext cx="125568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78880" y="3209760"/>
              <a:ext cx="1314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BEMIDDELAAR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912840" y="6024240"/>
              <a:ext cx="110700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017240" y="6059520"/>
              <a:ext cx="814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Verdana"/>
                </a:rPr>
                <a:t>Beheersing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974280" y="3663360"/>
              <a:ext cx="71208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073640" y="3698640"/>
              <a:ext cx="46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Verdana"/>
                </a:rPr>
                <a:t>Exter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204920" y="3641400"/>
              <a:ext cx="68256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298520" y="3676680"/>
              <a:ext cx="448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Verdana"/>
                </a:rPr>
                <a:t>Inter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908880" y="1273320"/>
              <a:ext cx="107640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014360" y="1308600"/>
              <a:ext cx="785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Verdana"/>
                </a:rPr>
                <a:t>Flexibiliteit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b9efee"/>
                </a:solidFill>
                <a:latin typeface="Garamond"/>
              </a:rPr>
              <a:t>Oriëntatie</a:t>
            </a:r>
            <a:endParaRPr b="1" lang="en-US" sz="8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ffff"/>
                </a:solidFill>
                <a:latin typeface="Garamond"/>
              </a:rPr>
              <a:t>The Power of Now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800" spc="-1" strike="noStrike">
                <a:solidFill>
                  <a:srgbClr val="b9efee"/>
                </a:solidFill>
                <a:latin typeface="Garamond"/>
              </a:rPr>
              <a:t>Pre-Start</a:t>
            </a:r>
            <a:endParaRPr b="1" lang="en-US" sz="8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ffff"/>
                </a:solidFill>
                <a:latin typeface="Garamond"/>
              </a:rPr>
              <a:t>Warming-Up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b9efee"/>
                </a:solidFill>
                <a:latin typeface="Garamond"/>
              </a:rPr>
              <a:t>Start</a:t>
            </a: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en-US" sz="8800" spc="-1" strike="noStrike">
                <a:solidFill>
                  <a:srgbClr val="b9efee"/>
                </a:solidFill>
                <a:latin typeface="Garamond"/>
              </a:rPr>
              <a:t>!</a:t>
            </a:r>
            <a:endParaRPr b="1" lang="en-US" sz="8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Van de marathon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4360" y="2781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b9efee"/>
                </a:solidFill>
                <a:latin typeface="Garamond"/>
              </a:rPr>
              <a:t>A plan is a plan is a plan …</a:t>
            </a:r>
            <a:endParaRPr b="1" lang="en-US" sz="8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subTitle"/>
          </p:nvPr>
        </p:nvSpPr>
        <p:spPr>
          <a:xfrm>
            <a:off x="1403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Goede voorbereiding is …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b9efee"/>
                </a:solidFill>
                <a:latin typeface="Garamond"/>
              </a:rPr>
              <a:t>Kijk op :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99"/>
                </a:solidFill>
                <a:uFillTx/>
                <a:latin typeface="Garamond"/>
                <a:hlinkClick r:id="rId2"/>
              </a:rPr>
              <a:t>www.rabobank.n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99"/>
                </a:solidFill>
                <a:uFillTx/>
                <a:latin typeface="Garamond"/>
                <a:hlinkClick r:id="rId3"/>
              </a:rPr>
              <a:t>www.kvk.n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b9efee"/>
                </a:solidFill>
                <a:latin typeface="Garamond"/>
              </a:rPr>
              <a:t>De groep</a:t>
            </a:r>
            <a:endParaRPr b="1" lang="en-US" sz="9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Een groep is nog geen team !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54" name="" descr=""/>
          <p:cNvPicPr/>
          <p:nvPr/>
        </p:nvPicPr>
        <p:blipFill>
          <a:blip r:embed="rId2"/>
          <a:stretch/>
        </p:blipFill>
        <p:spPr>
          <a:xfrm>
            <a:off x="392040" y="330120"/>
            <a:ext cx="8359920" cy="61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DE FUNCTI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irecteu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irectie-secretar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Marketing Manag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Inkoop Manag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Personeelsmanag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Financieel Manag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Productie Manag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Focus ,  Daniel San …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Het Programm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Welkom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Wat is een CC en hoe werkt dat ?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Groepen ???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De Start ….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Afsluiting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57200" y="347760"/>
            <a:ext cx="822960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2" name="" descr=""/>
          <p:cNvPicPr/>
          <p:nvPr/>
        </p:nvPicPr>
        <p:blipFill>
          <a:blip r:embed="rId2"/>
          <a:stretch/>
        </p:blipFill>
        <p:spPr>
          <a:xfrm>
            <a:off x="684360" y="189000"/>
            <a:ext cx="78483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b9efee"/>
                </a:solidFill>
                <a:latin typeface="Garamond"/>
              </a:rPr>
              <a:t>Wat wil jij gaan ervaren, doen en leren in je College Company ?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7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207280" cy="5869080"/>
          </a:xfrm>
          <a:prstGeom prst="rect">
            <a:avLst/>
          </a:prstGeom>
          <a:ln w="0">
            <a:noFill/>
          </a:ln>
        </p:spPr>
      </p:pic>
      <p:pic>
        <p:nvPicPr>
          <p:cNvPr id="868" name="" descr=""/>
          <p:cNvPicPr/>
          <p:nvPr/>
        </p:nvPicPr>
        <p:blipFill>
          <a:blip r:embed="rId3"/>
          <a:stretch/>
        </p:blipFill>
        <p:spPr>
          <a:xfrm>
            <a:off x="684360" y="5516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868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868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92169" fill="hold"/>
                                        <p:tgtEl>
                                          <p:spTgt spid="8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Oefening Baart Kunst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870" name="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82072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870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870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0" dur="1" fill="hold"/>
                                        <p:tgtEl>
                                          <p:spTgt spid="8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b9efee"/>
                </a:solidFill>
                <a:latin typeface="Garamond"/>
              </a:rPr>
              <a:t>Het Product</a:t>
            </a: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Mag ook een dienst zijn 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b9efee"/>
                </a:solidFill>
                <a:latin typeface="Garamond"/>
              </a:rPr>
              <a:t>Hoe en waarin wil jij je ontwikkelen ?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Competenties ??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9efee"/>
                </a:solidFill>
                <a:latin typeface="Garamond"/>
              </a:rPr>
              <a:t>Het Proces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Jaarritm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Opstarten : Product bedenken/ Functies verdele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Ondernemingsplan make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4800" spc="-1" strike="noStrike" baseline="30000">
                <a:solidFill>
                  <a:srgbClr val="ffffff"/>
                </a:solidFill>
                <a:latin typeface="Garamond"/>
              </a:rPr>
              <a:t>ste</a:t>
            </a: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 aandeelhoudersvergadering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Jaarritme 2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Inkopen/Producere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Verkope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Afsluiten/Liquidatie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4800" spc="-1" strike="noStrike" baseline="30000">
                <a:solidFill>
                  <a:srgbClr val="ffffff"/>
                </a:solidFill>
                <a:latin typeface="Garamond"/>
              </a:rPr>
              <a:t>de</a:t>
            </a: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 en laatste aandeelhoudersvergadering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9efee"/>
                </a:solidFill>
                <a:latin typeface="Garamond"/>
              </a:rPr>
              <a:t>Ruzie ???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Garamond"/>
              </a:rPr>
              <a:t>Wrijving geeft warmte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36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b9efee"/>
                </a:solidFill>
                <a:latin typeface="Garamond"/>
              </a:rPr>
              <a:t>Wat is een College Company en hoe werkt dat ?</a:t>
            </a: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89" name="" descr=""/>
          <p:cNvPicPr/>
          <p:nvPr/>
        </p:nvPicPr>
        <p:blipFill>
          <a:blip r:embed="rId2"/>
          <a:stretch/>
        </p:blipFill>
        <p:spPr>
          <a:xfrm>
            <a:off x="392040" y="330120"/>
            <a:ext cx="8359920" cy="61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b9efee"/>
                </a:solidFill>
                <a:latin typeface="Garamond"/>
              </a:rPr>
              <a:t>Proces of Product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Ontwikkeli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94" name=""/>
          <p:cNvSpPr/>
          <p:nvPr/>
        </p:nvSpPr>
        <p:spPr>
          <a:xfrm>
            <a:off x="2556000" y="5054760"/>
            <a:ext cx="447480" cy="16509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 rot="19792800">
            <a:off x="2678040" y="4468680"/>
            <a:ext cx="2862360" cy="452520"/>
          </a:xfrm>
          <a:custGeom>
            <a:avLst/>
            <a:gdLst/>
            <a:ahLst/>
            <a:rect l="l" t="t" r="r" b="b"/>
            <a:pathLst>
              <a:path w="1920" h="604">
                <a:moveTo>
                  <a:pt x="0" y="399"/>
                </a:moveTo>
                <a:cubicBezTo>
                  <a:pt x="141" y="206"/>
                  <a:pt x="283" y="14"/>
                  <a:pt x="456" y="7"/>
                </a:cubicBezTo>
                <a:cubicBezTo>
                  <a:pt x="629" y="0"/>
                  <a:pt x="863" y="262"/>
                  <a:pt x="1040" y="359"/>
                </a:cubicBezTo>
                <a:cubicBezTo>
                  <a:pt x="1217" y="456"/>
                  <a:pt x="1373" y="604"/>
                  <a:pt x="1520" y="591"/>
                </a:cubicBezTo>
                <a:cubicBezTo>
                  <a:pt x="1667" y="578"/>
                  <a:pt x="1793" y="428"/>
                  <a:pt x="1920" y="279"/>
                </a:cubicBezTo>
              </a:path>
            </a:pathLst>
          </a:custGeom>
          <a:noFill/>
          <a:ln w="25560">
            <a:solidFill>
              <a:srgbClr val="ff33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 rot="19792800">
            <a:off x="5111280" y="2868120"/>
            <a:ext cx="2860920" cy="452520"/>
          </a:xfrm>
          <a:custGeom>
            <a:avLst/>
            <a:gdLst/>
            <a:ahLst/>
            <a:rect l="l" t="t" r="r" b="b"/>
            <a:pathLst>
              <a:path w="1920" h="604">
                <a:moveTo>
                  <a:pt x="0" y="399"/>
                </a:moveTo>
                <a:cubicBezTo>
                  <a:pt x="141" y="206"/>
                  <a:pt x="283" y="14"/>
                  <a:pt x="456" y="7"/>
                </a:cubicBezTo>
                <a:cubicBezTo>
                  <a:pt x="629" y="0"/>
                  <a:pt x="863" y="262"/>
                  <a:pt x="1040" y="359"/>
                </a:cubicBezTo>
                <a:cubicBezTo>
                  <a:pt x="1217" y="456"/>
                  <a:pt x="1373" y="604"/>
                  <a:pt x="1520" y="591"/>
                </a:cubicBezTo>
                <a:cubicBezTo>
                  <a:pt x="1667" y="578"/>
                  <a:pt x="1793" y="428"/>
                  <a:pt x="1920" y="279"/>
                </a:cubicBezTo>
              </a:path>
            </a:pathLst>
          </a:custGeom>
          <a:noFill/>
          <a:ln w="25560">
            <a:solidFill>
              <a:srgbClr val="ff33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rot="19792800">
            <a:off x="3835080" y="3723840"/>
            <a:ext cx="2860560" cy="452520"/>
          </a:xfrm>
          <a:custGeom>
            <a:avLst/>
            <a:gdLst/>
            <a:ahLst/>
            <a:rect l="l" t="t" r="r" b="b"/>
            <a:pathLst>
              <a:path w="1920" h="604">
                <a:moveTo>
                  <a:pt x="0" y="399"/>
                </a:moveTo>
                <a:cubicBezTo>
                  <a:pt x="141" y="206"/>
                  <a:pt x="283" y="14"/>
                  <a:pt x="456" y="7"/>
                </a:cubicBezTo>
                <a:cubicBezTo>
                  <a:pt x="629" y="0"/>
                  <a:pt x="863" y="262"/>
                  <a:pt x="1040" y="359"/>
                </a:cubicBezTo>
                <a:cubicBezTo>
                  <a:pt x="1217" y="456"/>
                  <a:pt x="1373" y="604"/>
                  <a:pt x="1520" y="591"/>
                </a:cubicBezTo>
                <a:cubicBezTo>
                  <a:pt x="1667" y="578"/>
                  <a:pt x="1793" y="428"/>
                  <a:pt x="1920" y="279"/>
                </a:cubicBezTo>
              </a:path>
            </a:pathLst>
          </a:custGeom>
          <a:noFill/>
          <a:ln w="25560">
            <a:solidFill>
              <a:srgbClr val="6ab475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 rot="19792800">
            <a:off x="6281640" y="2130120"/>
            <a:ext cx="2862360" cy="450720"/>
          </a:xfrm>
          <a:custGeom>
            <a:avLst/>
            <a:gdLst/>
            <a:ahLst/>
            <a:rect l="l" t="t" r="r" b="b"/>
            <a:pathLst>
              <a:path w="1920" h="604">
                <a:moveTo>
                  <a:pt x="0" y="399"/>
                </a:moveTo>
                <a:cubicBezTo>
                  <a:pt x="141" y="206"/>
                  <a:pt x="283" y="14"/>
                  <a:pt x="456" y="7"/>
                </a:cubicBezTo>
                <a:cubicBezTo>
                  <a:pt x="629" y="0"/>
                  <a:pt x="863" y="262"/>
                  <a:pt x="1040" y="359"/>
                </a:cubicBezTo>
                <a:cubicBezTo>
                  <a:pt x="1217" y="456"/>
                  <a:pt x="1373" y="604"/>
                  <a:pt x="1520" y="591"/>
                </a:cubicBezTo>
                <a:cubicBezTo>
                  <a:pt x="1667" y="578"/>
                  <a:pt x="1793" y="428"/>
                  <a:pt x="1920" y="279"/>
                </a:cubicBezTo>
              </a:path>
            </a:pathLst>
          </a:custGeom>
          <a:noFill/>
          <a:ln w="25560">
            <a:solidFill>
              <a:srgbClr val="6ab47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 rot="19792800">
            <a:off x="1411200" y="5300640"/>
            <a:ext cx="2862360" cy="452520"/>
          </a:xfrm>
          <a:custGeom>
            <a:avLst/>
            <a:gdLst/>
            <a:ahLst/>
            <a:rect l="l" t="t" r="r" b="b"/>
            <a:pathLst>
              <a:path w="1920" h="604">
                <a:moveTo>
                  <a:pt x="0" y="399"/>
                </a:moveTo>
                <a:cubicBezTo>
                  <a:pt x="141" y="206"/>
                  <a:pt x="283" y="14"/>
                  <a:pt x="456" y="7"/>
                </a:cubicBezTo>
                <a:cubicBezTo>
                  <a:pt x="629" y="0"/>
                  <a:pt x="863" y="262"/>
                  <a:pt x="1040" y="359"/>
                </a:cubicBezTo>
                <a:cubicBezTo>
                  <a:pt x="1217" y="456"/>
                  <a:pt x="1373" y="604"/>
                  <a:pt x="1520" y="591"/>
                </a:cubicBezTo>
                <a:cubicBezTo>
                  <a:pt x="1667" y="578"/>
                  <a:pt x="1793" y="428"/>
                  <a:pt x="1920" y="279"/>
                </a:cubicBezTo>
              </a:path>
            </a:pathLst>
          </a:custGeom>
          <a:noFill/>
          <a:ln w="25560">
            <a:solidFill>
              <a:srgbClr val="6ab475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7819920" y="1460520"/>
            <a:ext cx="1144800" cy="1155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744480" y="5243400"/>
            <a:ext cx="2014560" cy="11559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2747880" y="5502240"/>
            <a:ext cx="166680" cy="247680"/>
          </a:xfrm>
          <a:custGeom>
            <a:avLst/>
            <a:gdLst/>
            <a:ahLst/>
            <a:rect l="l" t="t" r="r" b="b"/>
            <a:pathLst>
              <a:path w="120" h="168">
                <a:moveTo>
                  <a:pt x="120" y="0"/>
                </a:moveTo>
                <a:lnTo>
                  <a:pt x="40" y="128"/>
                </a:lnTo>
                <a:lnTo>
                  <a:pt x="0" y="168"/>
                </a:lnTo>
              </a:path>
            </a:pathLst>
          </a:custGeom>
          <a:noFill/>
          <a:ln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753320" y="1990800"/>
            <a:ext cx="277920" cy="366480"/>
          </a:xfrm>
          <a:custGeom>
            <a:avLst/>
            <a:gdLst/>
            <a:ahLst/>
            <a:rect l="l" t="t" r="r" b="b"/>
            <a:pathLst>
              <a:path w="200" h="248">
                <a:moveTo>
                  <a:pt x="0" y="248"/>
                </a:moveTo>
                <a:lnTo>
                  <a:pt x="120" y="80"/>
                </a:lnTo>
                <a:lnTo>
                  <a:pt x="200" y="0"/>
                </a:lnTo>
              </a:path>
            </a:pathLst>
          </a:custGeom>
          <a:noFill/>
          <a:ln w="255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7797960" y="2297160"/>
            <a:ext cx="188640" cy="47520"/>
          </a:xfrm>
          <a:prstGeom prst="line">
            <a:avLst/>
          </a:prstGeom>
          <a:ln w="25560">
            <a:solidFill>
              <a:srgbClr val="6ab475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479160" y="2340000"/>
            <a:ext cx="4810320" cy="5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ff3300"/>
                </a:solidFill>
                <a:latin typeface="Verdana"/>
              </a:rPr>
              <a:t>Professionele ontwikkeling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443480" y="5168880"/>
            <a:ext cx="4590720" cy="5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6ab475"/>
                </a:solidFill>
                <a:latin typeface="Verdana"/>
              </a:rPr>
              <a:t>Persoonlijke ontwikkeling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0" y="2085840"/>
            <a:ext cx="9143640" cy="4087440"/>
            <a:chOff x="0" y="2085840"/>
            <a:chExt cx="9143640" cy="4087440"/>
          </a:xfrm>
        </p:grpSpPr>
        <p:grpSp>
          <p:nvGrpSpPr>
            <p:cNvPr id="908" name=""/>
            <p:cNvGrpSpPr/>
            <p:nvPr/>
          </p:nvGrpSpPr>
          <p:grpSpPr>
            <a:xfrm>
              <a:off x="0" y="2085840"/>
              <a:ext cx="5506560" cy="1142640"/>
              <a:chOff x="0" y="2085840"/>
              <a:chExt cx="5506560" cy="1142640"/>
            </a:xfrm>
          </p:grpSpPr>
          <p:sp>
            <p:nvSpPr>
              <p:cNvPr id="909" name=""/>
              <p:cNvSpPr/>
              <p:nvPr/>
            </p:nvSpPr>
            <p:spPr>
              <a:xfrm>
                <a:off x="0" y="2085840"/>
                <a:ext cx="5506560" cy="114264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55760" y="2352240"/>
                <a:ext cx="4737240" cy="52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0640" rIns="80640" tIns="42120" bIns="421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2900" spc="-1" strike="noStrike">
                    <a:solidFill>
                      <a:srgbClr val="ff3300"/>
                    </a:solidFill>
                    <a:latin typeface="Verdana"/>
                  </a:rPr>
                  <a:t>Professionele Expertise</a:t>
                </a:r>
                <a:endParaRPr b="0" lang="en-US" sz="2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4260240" y="5030640"/>
              <a:ext cx="4883400" cy="1142640"/>
              <a:chOff x="4260240" y="5030640"/>
              <a:chExt cx="4883400" cy="1142640"/>
            </a:xfrm>
          </p:grpSpPr>
          <p:sp>
            <p:nvSpPr>
              <p:cNvPr id="912" name=""/>
              <p:cNvSpPr/>
              <p:nvPr/>
            </p:nvSpPr>
            <p:spPr>
              <a:xfrm>
                <a:off x="4260240" y="5030640"/>
                <a:ext cx="4883400" cy="114264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394880" y="5167440"/>
                <a:ext cx="4748400" cy="52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0640" rIns="80640" tIns="42120" bIns="421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2900" spc="-1" strike="noStrike">
                    <a:solidFill>
                      <a:srgbClr val="6ab475"/>
                    </a:solidFill>
                    <a:latin typeface="Verdana"/>
                  </a:rPr>
                  <a:t>Persoonlijke Effectiviteit</a:t>
                </a:r>
                <a:endParaRPr b="0" lang="en-US" sz="2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roces volgens JO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van een idee via een marktonderzoek komen tot een product waar een markt voor i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en ondernemingsplan, halfjaarverslag en jaarverslag schrijven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en zakelijke bankrekening openen en via internet bankieren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p basis van het ondernemingplan aandelen verkopen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verantwoording afleggen aan aandeelhouders in aandeelhoudersvergaderingen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uncties verdelen en verantwoordelijkheid nemen voor een bepaalde afdeling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unctioneringsgesprekken houden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e inkoop, productie, marktbewerking en verkoop in Nederland of daarbuiten regelen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e administratie voeren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oonbelasting, BTW en vennootschapbelasting afdragen en de aandeelhouders terugbetalen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b9efee"/>
                </a:solidFill>
                <a:latin typeface="Garamond"/>
              </a:rPr>
              <a:t>Geld</a:t>
            </a:r>
            <a:endParaRPr b="1" lang="en-US" sz="9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Garamond"/>
              </a:rPr>
              <a:t>Aandelen ?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b9efee"/>
                </a:solidFill>
                <a:latin typeface="Garamond"/>
              </a:rPr>
              <a:t>Ik kan het niet alleen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20" name="" descr=""/>
          <p:cNvPicPr/>
          <p:nvPr/>
        </p:nvPicPr>
        <p:blipFill>
          <a:blip r:embed="rId2"/>
          <a:stretch/>
        </p:blipFill>
        <p:spPr>
          <a:xfrm>
            <a:off x="1574640" y="1600200"/>
            <a:ext cx="5994720" cy="4495680"/>
          </a:xfrm>
          <a:prstGeom prst="rect">
            <a:avLst/>
          </a:prstGeom>
          <a:ln w="0">
            <a:noFill/>
          </a:ln>
        </p:spPr>
      </p:pic>
      <p:pic>
        <p:nvPicPr>
          <p:cNvPr id="921" name="" descr=""/>
          <p:cNvPicPr/>
          <p:nvPr/>
        </p:nvPicPr>
        <p:blipFill>
          <a:blip r:embed="rId3"/>
          <a:stretch/>
        </p:blipFill>
        <p:spPr>
          <a:xfrm>
            <a:off x="82692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7541" fill="hold"/>
                                        <p:tgtEl>
                                          <p:spTgt spid="9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920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920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8" dur="1" fill="hold"/>
                                        <p:tgtEl>
                                          <p:spTgt spid="9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921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921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71308" fill="hold"/>
                                        <p:tgtEl>
                                          <p:spTgt spid="9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394920" y="907560"/>
            <a:ext cx="830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Begeleiders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Begeleidend Docent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Bedrijfsbegeleide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Financieel Adviseu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Team Commercieel Onderneme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Regio – Coördinator  Jong Onderneme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27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820728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b9efee"/>
                </a:solidFill>
                <a:latin typeface="Garamond"/>
              </a:rPr>
              <a:t>En nu …</a:t>
            </a:r>
            <a:endParaRPr b="1" lang="en-US" sz="9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30" name="" descr=""/>
          <p:cNvPicPr/>
          <p:nvPr/>
        </p:nvPicPr>
        <p:blipFill>
          <a:blip r:embed="rId2"/>
          <a:stretch/>
        </p:blipFill>
        <p:spPr>
          <a:xfrm>
            <a:off x="1547640" y="5157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restart="whenNotActive" nodeType="interactiveSeq" fill="hold">
                <p:stCondLst>
                  <p:cond evt="onClick">
                    <p:tgtEl>
                      <p:spTgt spid="930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930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214262" fill="hold"/>
                                        <p:tgtEl>
                                          <p:spTgt spid="9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b9efee"/>
                </a:solidFill>
                <a:latin typeface="Garamond"/>
              </a:rPr>
              <a:t>Maak een groep of zoek je groep op …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b9efee"/>
                </a:solidFill>
                <a:latin typeface="Garamond"/>
              </a:rPr>
              <a:t>Ondernemen ?</a:t>
            </a:r>
            <a:endParaRPr b="1" lang="en-US" sz="8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Hoe ziet dat eruit ?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Bestorm je hersens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Bedenk een product !!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Of dienst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Bijna Alles mag en kan ….  Nog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r is een lijst …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35" name="" descr=""/>
          <p:cNvPicPr/>
          <p:nvPr/>
        </p:nvPicPr>
        <p:blipFill>
          <a:blip r:embed="rId2"/>
          <a:stretch/>
        </p:blipFill>
        <p:spPr>
          <a:xfrm>
            <a:off x="5651640" y="544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restart="whenNotActive" nodeType="interactiveSeq" fill="hold">
                <p:stCondLst>
                  <p:cond evt="onClick">
                    <p:tgtEl>
                      <p:spTgt spid="935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935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388807" fill="hold"/>
                                        <p:tgtEl>
                                          <p:spTgt spid="9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b9efee"/>
                </a:solidFill>
                <a:latin typeface="Garamond"/>
              </a:rPr>
              <a:t>Wat heb je nodig ??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9efee"/>
                </a:solidFill>
                <a:latin typeface="Garamond"/>
              </a:rPr>
              <a:t>Vraag erom !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b9efee"/>
                </a:solidFill>
                <a:latin typeface="Garamond"/>
              </a:rPr>
              <a:t>Niemand de deur uit …</a:t>
            </a:r>
            <a:endParaRPr b="1" lang="en-US" sz="8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1 . Tot de groep samengesteld is.</a:t>
            </a:r>
            <a:br>
              <a:rPr sz="6000"/>
            </a:b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2. Tot er een eerste productidee is met werkafspraken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11.30 :  Fijne Vakantie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6" name="" descr=""/>
          <p:cNvPicPr/>
          <p:nvPr/>
        </p:nvPicPr>
        <p:blipFill>
          <a:blip r:embed="rId2"/>
          <a:stretch/>
        </p:blipFill>
        <p:spPr>
          <a:xfrm>
            <a:off x="1763640" y="501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215981" fill="hold"/>
                                        <p:tgtEl>
                                          <p:spTgt spid="9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206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9efee"/>
                </a:solidFill>
                <a:latin typeface="Garamond"/>
              </a:rPr>
              <a:t>Ondernemers zijn net uien !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Ze hebben lagen …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Het “ UI “ Model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De ondernemer als men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1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De ondernemer als manager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1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De ondernemer als entrepreneur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b9efee"/>
                </a:solidFill>
                <a:latin typeface="Garamond"/>
              </a:rPr>
              <a:t>Jong Ondernemen ?</a:t>
            </a:r>
            <a:endParaRPr b="1" lang="en-US" sz="8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Landelijke stichting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3T14:00:14Z</dcterms:created>
  <dc:creator>AAk</dc:creator>
  <dc:description/>
  <dc:language>en-US</dc:language>
  <cp:lastModifiedBy>AAk</cp:lastModifiedBy>
  <dcterms:modified xsi:type="dcterms:W3CDTF">2010-06-29T08:36:01Z</dcterms:modified>
  <cp:revision>19</cp:revision>
  <dc:subject/>
  <dc:title>Wat is een College Company en hoe werkt dat ? </dc:title>
</cp:coreProperties>
</file>