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2503-8D33-4BD0-B6C7-3C01BDF050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2A57-F9D5-4235-BEA7-269F10B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D9F6-99C4-487F-8BF9-3690F41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23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4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23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4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BDA6-2CDD-4130-9C62-C76CB8C49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F0A2-2A13-4679-9483-4CE7C5E1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63E4-175D-4BAE-9300-08CF856A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DB65-CF61-4F3A-8147-F9C9639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2E4F-F954-468A-93ED-00002E3C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290520"/>
            <a:ext cx="558792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8657-8A41-43E4-8AB1-DE07F094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9436-2CE2-48E4-A197-AB4962C2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9A5A-37FC-4797-A32A-DD1E8E84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120A-7E91-4F96-B0F2-CB865FAC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792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1908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592280" indent="-22716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9700920"/>
            <a:ext cx="1581120" cy="2048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428800" y="9672120"/>
            <a:ext cx="1428840" cy="2336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E3531F7-264D-4E98-B863-5C0DD47512E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91560"/>
            <a:ext cx="3149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© BEYOND BUSINESS - CV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691560"/>
            <a:ext cx="685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www.BEYONDBUSINESS.info / www.CVOP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32240" y="9691560"/>
            <a:ext cx="162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A3B25B0-2453-41C6-B3FA-E44A9539EF5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ini-BCscan” zelfrefle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 deze zelfreflectie-scan word je gevraagd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wat je voorkeurstijl is om met problemen om te gaan. 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Hieronder staan acht manieren om met problemen om te gaan. Gebruik de volgende schaal om aan te geven hoe vaak je die toepa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1  Zeld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  So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3  Regelmati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4  Heel va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5  Bijna altij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luister goed naar anderen en heb begrip voor veel verschillende standpunt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et duidelijke (werk)regels, richtlijnen en doelstellingen ne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gebruik bekende methoden om informatie en feiten te analyse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ie nieuwe trends, kansen en mogelijkhe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onderhandel met en beïnvloed belangrijke mens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bedenk oplossingen voor praktische problem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toon een grote mate van tolerantie om goed samen te kunnen werk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kan mij goed richten en focussen op wat ik aan het doen ben en ik ben niet af te brengen van mijn doel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9800" y="3378240"/>
            <a:ext cx="274680" cy="426960"/>
            <a:chOff x="469800" y="3378240"/>
            <a:chExt cx="274680" cy="426960"/>
          </a:xfrm>
        </p:grpSpPr>
        <p:sp>
          <p:nvSpPr>
            <p:cNvPr id="46" name=""/>
            <p:cNvSpPr/>
            <p:nvPr/>
          </p:nvSpPr>
          <p:spPr>
            <a:xfrm>
              <a:off x="469800" y="33782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9800" y="38052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9800" y="5549760"/>
            <a:ext cx="274680" cy="426960"/>
            <a:chOff x="469800" y="5549760"/>
            <a:chExt cx="274680" cy="426960"/>
          </a:xfrm>
        </p:grpSpPr>
        <p:sp>
          <p:nvSpPr>
            <p:cNvPr id="49" name=""/>
            <p:cNvSpPr/>
            <p:nvPr/>
          </p:nvSpPr>
          <p:spPr>
            <a:xfrm>
              <a:off x="469800" y="554976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800" y="597672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9800" y="6647040"/>
            <a:ext cx="274680" cy="426960"/>
            <a:chOff x="469800" y="6647040"/>
            <a:chExt cx="274680" cy="426960"/>
          </a:xfrm>
        </p:grpSpPr>
        <p:sp>
          <p:nvSpPr>
            <p:cNvPr id="52" name=""/>
            <p:cNvSpPr/>
            <p:nvPr/>
          </p:nvSpPr>
          <p:spPr>
            <a:xfrm>
              <a:off x="469800" y="66470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800" y="70740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910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08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944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82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01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783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626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2120" y="4468680"/>
            <a:ext cx="274680" cy="426960"/>
            <a:chOff x="492120" y="4468680"/>
            <a:chExt cx="274680" cy="426960"/>
          </a:xfrm>
        </p:grpSpPr>
        <p:sp>
          <p:nvSpPr>
            <p:cNvPr id="63" name=""/>
            <p:cNvSpPr/>
            <p:nvPr/>
          </p:nvSpPr>
          <p:spPr>
            <a:xfrm>
              <a:off x="492120" y="446868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48956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eken je eigen prof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Mini-BCscan” zelfreflectie-sc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Je eigen profiel tekenen gaat als volgt: Neem je scores van de vragen over door op de kruising van de vraaglijnen (A, B, ..) en de ringen=scores (1,2, ..) een rondje te zetten. Verbind daarna in rechte lijnen de rondjes met elkaar zodat een webprofiel ontstaa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68360"/>
            <a:ext cx="685800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8680" y="4537080"/>
            <a:ext cx="3914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000" y="2579760"/>
            <a:ext cx="0" cy="391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8880" y="3762000"/>
            <a:ext cx="3594240" cy="155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0920" y="2739960"/>
            <a:ext cx="1550160" cy="35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7720" y="2720160"/>
            <a:ext cx="1456560" cy="36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39080" y="3808800"/>
            <a:ext cx="3633840" cy="14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143240"/>
            <a:ext cx="793800" cy="787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3749760"/>
            <a:ext cx="1581120" cy="1574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3355920"/>
            <a:ext cx="2362320" cy="23558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6040" y="2975040"/>
            <a:ext cx="3136680" cy="3136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92200" y="2562120"/>
            <a:ext cx="3930840" cy="39369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5920" y="4413240"/>
            <a:ext cx="1858320" cy="276480"/>
            <a:chOff x="3715920" y="4413240"/>
            <a:chExt cx="1858320" cy="276480"/>
          </a:xfrm>
        </p:grpSpPr>
        <p:sp>
          <p:nvSpPr>
            <p:cNvPr id="80" name=""/>
            <p:cNvSpPr/>
            <p:nvPr/>
          </p:nvSpPr>
          <p:spPr>
            <a:xfrm>
              <a:off x="37159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04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27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8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9236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20880" y="526104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DU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3360" y="639432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ST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8640" y="6388200"/>
            <a:ext cx="15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5191200"/>
            <a:ext cx="178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NTRO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8520" y="357336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7280" y="2465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9880" y="250812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NO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4440" y="3570120"/>
            <a:ext cx="200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MIDDEL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266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5480" y="62006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4200" y="23130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2040" y="61866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1000" y="33814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33465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4957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5360" y="50594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02:37Z</dcterms:created>
  <dc:creator>Frans de Vlieger</dc:creator>
  <dc:description/>
  <dc:language>en-US</dc:language>
  <cp:lastModifiedBy>AAk</cp:lastModifiedBy>
  <cp:lastPrinted>2007-03-25T19:59:23Z</cp:lastPrinted>
  <dcterms:modified xsi:type="dcterms:W3CDTF">2011-03-30T07:51:19Z</dcterms:modified>
  <cp:revision>546</cp:revision>
  <dc:subject>Centrum voor Onoplosbare Problemen</dc:subject>
  <dc:title>module</dc:title>
</cp:coreProperties>
</file>