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FF88-B295-4A55-A89A-5EB69E2CB4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52B2-F7C9-4818-B84E-62FD14C40B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BA44-92E9-4844-8E67-74A1FAB957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A6D-D5A1-47E9-BBB7-3EFE7984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042-4C89-4DFE-9624-FF78CF7B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1EF-7F1F-4618-8D40-CC5FBC84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592-F70A-491E-A35E-850D75AD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F4D-917A-4D4C-9D9F-32F2B550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698-7438-4ADD-B0CF-5D8E55A5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301-041F-4ACF-B869-329E3273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C15-CF1C-424C-BBBA-2E4FBC59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B34-0615-4DD8-95D7-A246FFC3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8EF-7E43-40E0-B742-CDA14CB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0D6-1502-47C9-8587-92A53BB1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38D-D522-4857-9F5E-BE8FCB5C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4A89-8BBB-46C3-8296-2E1C0A96F0F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1/Scythe_user.png" TargetMode="External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1.gstatic.com/images?q=tbn:ANd9GcTloy9FX0pv3X-TJGSCh8KO6Mo35nm_kd1OHZIQN_mr2ML6fvvM"/>
          <p:cNvPicPr/>
          <p:nvPr/>
        </p:nvPicPr>
        <p:blipFill>
          <a:blip r:embed="rId1"/>
          <a:stretch/>
        </p:blipFill>
        <p:spPr>
          <a:xfrm>
            <a:off x="1619280" y="557280"/>
            <a:ext cx="63374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http://arrangeren.wikiwijs.nl/31406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e, wat, waar, waarom, ho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encrypted-tbn3.google.com/images?q=tbn:ANd9GcQrkXL8Vaiv1I2NZ9CD_vudKz5RDu1ntPN5nvT1erYLtXec4YUyew"/>
          <p:cNvPicPr/>
          <p:nvPr/>
        </p:nvPicPr>
        <p:blipFill>
          <a:blip r:embed="rId1"/>
          <a:srcRect l="0" t="5970" r="0" b="597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ivn.nl/docs/201005081859573733.jpg"/>
          <p:cNvPicPr/>
          <p:nvPr/>
        </p:nvPicPr>
        <p:blipFill>
          <a:blip r:embed="rId1"/>
          <a:stretch/>
        </p:blipFill>
        <p:spPr>
          <a:xfrm>
            <a:off x="1908000" y="333360"/>
            <a:ext cx="50342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0.gstatic.com/images?q=tbn:ANd9GcRCkfFfRAkTzNfHS7KjElltB7qQsWohH1JLR4PBspw7olb3yrge9g"/>
          <p:cNvPicPr/>
          <p:nvPr/>
        </p:nvPicPr>
        <p:blipFill>
          <a:blip r:embed="rId1"/>
          <a:stretch/>
        </p:blipFill>
        <p:spPr>
          <a:xfrm>
            <a:off x="971640" y="404640"/>
            <a:ext cx="5222880" cy="374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waldpyk.com/brommels/images/eik%20_sloot.JPG"/>
          <p:cNvPicPr/>
          <p:nvPr/>
        </p:nvPicPr>
        <p:blipFill>
          <a:blip r:embed="rId2"/>
          <a:stretch/>
        </p:blipFill>
        <p:spPr>
          <a:xfrm>
            <a:off x="5508720" y="1754280"/>
            <a:ext cx="3300480" cy="47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holland.com/upload_mm/8/5/b/21302_fullimage_noardlikefryskewalden_koeien_560x350_560x350.jpg"/>
          <p:cNvPicPr/>
          <p:nvPr/>
        </p:nvPicPr>
        <p:blipFill>
          <a:blip r:embed="rId3"/>
          <a:stretch/>
        </p:blipFill>
        <p:spPr>
          <a:xfrm>
            <a:off x="971640" y="3645000"/>
            <a:ext cx="47577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nme-achtkarspelen.nl/upload/35b2cae3-7b79-49c2-81d9-2751fbfd0254.jpg"/>
          <p:cNvPicPr/>
          <p:nvPr/>
        </p:nvPicPr>
        <p:blipFill>
          <a:blip r:embed="rId1"/>
          <a:stretch/>
        </p:blipFill>
        <p:spPr>
          <a:xfrm>
            <a:off x="1692360" y="993600"/>
            <a:ext cx="4673520" cy="3435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t3.gstatic.com/images?q=tbn:ANd9GcS7vEhiLtE4gNN5saC8CPH-Ujpc8bIUJTAIu4zCDyxNI-BANU-sDQ"/>
          <p:cNvPicPr/>
          <p:nvPr/>
        </p:nvPicPr>
        <p:blipFill>
          <a:blip r:embed="rId1"/>
          <a:stretch/>
        </p:blipFill>
        <p:spPr>
          <a:xfrm>
            <a:off x="1332000" y="1427040"/>
            <a:ext cx="3589200" cy="248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t2.gstatic.com/images?q=tbn:ANd9GcRLsEgzooOxDlqJxlsFx8P87IPis4gFKfw0Jgxz7cJpKvygOXP9-w"/>
          <p:cNvPicPr/>
          <p:nvPr/>
        </p:nvPicPr>
        <p:blipFill>
          <a:blip r:embed="rId2"/>
          <a:stretch/>
        </p:blipFill>
        <p:spPr>
          <a:xfrm>
            <a:off x="3708360" y="2962440"/>
            <a:ext cx="27241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josdegroenteman.punt.nl/upload/Hete_Bliksem.jpg"/>
          <p:cNvPicPr/>
          <p:nvPr/>
        </p:nvPicPr>
        <p:blipFill>
          <a:blip r:embed="rId1"/>
          <a:stretch/>
        </p:blipFill>
        <p:spPr>
          <a:xfrm>
            <a:off x="2948040" y="2060640"/>
            <a:ext cx="3168720" cy="2847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Hete blikse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3.gstatic.com/images?q=tbn:ANd9GcQVyhsvG6YtriPoijGZhxNaT5XxhHjn16DM0UFNe3_V7lvon2LB"/>
          <p:cNvPicPr/>
          <p:nvPr/>
        </p:nvPicPr>
        <p:blipFill>
          <a:blip r:embed="rId1"/>
          <a:stretch/>
        </p:blipFill>
        <p:spPr>
          <a:xfrm>
            <a:off x="1908000" y="1484280"/>
            <a:ext cx="3235680" cy="2424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1.gstatic.com/images?q=tbn:ANd9GcTBKSoefe58egD85R41YzYfehmfE_C4JVim9QGfXIp_jwAN9uPd"/>
          <p:cNvPicPr/>
          <p:nvPr/>
        </p:nvPicPr>
        <p:blipFill>
          <a:blip r:embed="rId2"/>
          <a:stretch/>
        </p:blipFill>
        <p:spPr>
          <a:xfrm>
            <a:off x="3708360" y="2997360"/>
            <a:ext cx="2697120" cy="21222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://www.itfryskegea.nl/Uploaded_files/Zelf/Natuurgebieden/Noard/buizerddig23.jpg"/>
          <p:cNvPicPr/>
          <p:nvPr/>
        </p:nvPicPr>
        <p:blipFill>
          <a:blip r:embed="rId3"/>
          <a:stretch/>
        </p:blipFill>
        <p:spPr>
          <a:xfrm>
            <a:off x="1836720" y="3084480"/>
            <a:ext cx="187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Ofbyld:Scythe user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692280"/>
            <a:ext cx="3409920" cy="470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despitkeet.nl/pages/thumb.aspx?f=203007536.jpg&amp;w=17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03800" y="2635200"/>
            <a:ext cx="276516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9587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hthoek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www.cursusencontract.nl/projecten/KIGO-streekeigengewas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7:23:45Z</dcterms:created>
  <dc:creator>12vicnga</dc:creator>
  <dc:description/>
  <dc:language>en-US</dc:language>
  <cp:lastModifiedBy>Richard Bezemer</cp:lastModifiedBy>
  <dcterms:modified xsi:type="dcterms:W3CDTF">2012-09-16T19:50:57Z</dcterms:modified>
  <cp:revision>14</cp:revision>
  <dc:subject/>
  <dc:title>Dia 1</dc:title>
</cp:coreProperties>
</file>