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AC3-2CD8-48AC-82E6-1E39C2D839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2A9A-279A-40C2-8996-BFBE25E9A1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5D7A-B532-435A-9545-6FD5196464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EA8-11B4-4E2B-AB55-399C106C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FEFF-2616-41D2-B50F-8157371A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4FC-62DB-4C0D-BA3A-BDB966A5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55F-720A-4F53-8FEA-2F9B6E1E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C9C-CD23-49DA-ACB6-143D5F54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00E9-F078-45E3-863D-B8546975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429-3CDB-4E43-9C0A-F226B8F0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F2D-883C-439A-BD5A-160EF37C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FD2-1E84-4793-B838-1436DF67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B92E-0CFD-4111-BD27-7B43B6BE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26A-95CC-4E38-B8DE-6DF859ED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7E0-8B51-4844-862C-985E1669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44FA-A1E5-4092-9FCD-A0FC9B4880D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b/b1/Scythe_user.png" TargetMode="External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t1.gstatic.com/images?q=tbn:ANd9GcTloy9FX0pv3X-TJGSCh8KO6Mo35nm_kd1OHZIQN_mr2ML6fvvM"/>
          <p:cNvPicPr/>
          <p:nvPr/>
        </p:nvPicPr>
        <p:blipFill>
          <a:blip r:embed="rId1"/>
          <a:stretch/>
        </p:blipFill>
        <p:spPr>
          <a:xfrm>
            <a:off x="1619280" y="557280"/>
            <a:ext cx="63374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http://arrangeren.wikiwijs.nl/31406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ie, wat, waar, waarom, ho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s://encrypted-tbn3.google.com/images?q=tbn:ANd9GcQrkXL8Vaiv1I2NZ9CD_vudKz5RDu1ntPN5nvT1erYLtXec4YUyew"/>
          <p:cNvPicPr/>
          <p:nvPr/>
        </p:nvPicPr>
        <p:blipFill>
          <a:blip r:embed="rId1"/>
          <a:srcRect l="0" t="5970" r="0" b="597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www.ivn.nl/docs/201005081859573733.jpg"/>
          <p:cNvPicPr/>
          <p:nvPr/>
        </p:nvPicPr>
        <p:blipFill>
          <a:blip r:embed="rId1"/>
          <a:stretch/>
        </p:blipFill>
        <p:spPr>
          <a:xfrm>
            <a:off x="1908000" y="333360"/>
            <a:ext cx="50342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t0.gstatic.com/images?q=tbn:ANd9GcRCkfFfRAkTzNfHS7KjElltB7qQsWohH1JLR4PBspw7olb3yrge9g"/>
          <p:cNvPicPr/>
          <p:nvPr/>
        </p:nvPicPr>
        <p:blipFill>
          <a:blip r:embed="rId1"/>
          <a:stretch/>
        </p:blipFill>
        <p:spPr>
          <a:xfrm>
            <a:off x="971640" y="404640"/>
            <a:ext cx="5222880" cy="374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waldpyk.com/brommels/images/eik%20_sloot.JPG"/>
          <p:cNvPicPr/>
          <p:nvPr/>
        </p:nvPicPr>
        <p:blipFill>
          <a:blip r:embed="rId2"/>
          <a:stretch/>
        </p:blipFill>
        <p:spPr>
          <a:xfrm>
            <a:off x="5508720" y="1754280"/>
            <a:ext cx="3300480" cy="478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holland.com/upload_mm/8/5/b/21302_fullimage_noardlikefryskewalden_koeien_560x350_560x350.jpg"/>
          <p:cNvPicPr/>
          <p:nvPr/>
        </p:nvPicPr>
        <p:blipFill>
          <a:blip r:embed="rId3"/>
          <a:stretch/>
        </p:blipFill>
        <p:spPr>
          <a:xfrm>
            <a:off x="971640" y="3645000"/>
            <a:ext cx="47577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nme-achtkarspelen.nl/upload/35b2cae3-7b79-49c2-81d9-2751fbfd0254.jpg"/>
          <p:cNvPicPr/>
          <p:nvPr/>
        </p:nvPicPr>
        <p:blipFill>
          <a:blip r:embed="rId1"/>
          <a:stretch/>
        </p:blipFill>
        <p:spPr>
          <a:xfrm>
            <a:off x="1692360" y="993600"/>
            <a:ext cx="4673520" cy="34354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0" y="-54756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3.gstatic.com/images?q=tbn:ANd9GcS7vEhiLtE4gNN5saC8CPH-Ujpc8bIUJTAIu4zCDyxNI-BANU-sDQ"/>
          <p:cNvPicPr/>
          <p:nvPr/>
        </p:nvPicPr>
        <p:blipFill>
          <a:blip r:embed="rId1"/>
          <a:stretch/>
        </p:blipFill>
        <p:spPr>
          <a:xfrm>
            <a:off x="1332000" y="1427040"/>
            <a:ext cx="3589200" cy="248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t2.gstatic.com/images?q=tbn:ANd9GcRLsEgzooOxDlqJxlsFx8P87IPis4gFKfw0Jgxz7cJpKvygOXP9-w"/>
          <p:cNvPicPr/>
          <p:nvPr/>
        </p:nvPicPr>
        <p:blipFill>
          <a:blip r:embed="rId2"/>
          <a:stretch/>
        </p:blipFill>
        <p:spPr>
          <a:xfrm>
            <a:off x="3708360" y="2962440"/>
            <a:ext cx="27241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josdegroenteman.punt.nl/upload/Hete_Bliksem.jpg"/>
          <p:cNvPicPr/>
          <p:nvPr/>
        </p:nvPicPr>
        <p:blipFill>
          <a:blip r:embed="rId1"/>
          <a:stretch/>
        </p:blipFill>
        <p:spPr>
          <a:xfrm>
            <a:off x="2948040" y="2060640"/>
            <a:ext cx="3168720" cy="2847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Hete blikse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3.gstatic.com/images?q=tbn:ANd9GcQVyhsvG6YtriPoijGZhxNaT5XxhHjn16DM0UFNe3_V7lvon2LB"/>
          <p:cNvPicPr/>
          <p:nvPr/>
        </p:nvPicPr>
        <p:blipFill>
          <a:blip r:embed="rId1"/>
          <a:stretch/>
        </p:blipFill>
        <p:spPr>
          <a:xfrm>
            <a:off x="1908000" y="1484280"/>
            <a:ext cx="3235680" cy="242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t1.gstatic.com/images?q=tbn:ANd9GcTBKSoefe58egD85R41YzYfehmfE_C4JVim9QGfXIp_jwAN9uPd"/>
          <p:cNvPicPr/>
          <p:nvPr/>
        </p:nvPicPr>
        <p:blipFill>
          <a:blip r:embed="rId2"/>
          <a:stretch/>
        </p:blipFill>
        <p:spPr>
          <a:xfrm>
            <a:off x="3708360" y="2997360"/>
            <a:ext cx="2697120" cy="21222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0" y="-977760"/>
            <a:ext cx="225756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http://www.itfryskegea.nl/Uploaded_files/Zelf/Natuurgebieden/Noard/buizerddig23.jpg"/>
          <p:cNvPicPr/>
          <p:nvPr/>
        </p:nvPicPr>
        <p:blipFill>
          <a:blip r:embed="rId3"/>
          <a:stretch/>
        </p:blipFill>
        <p:spPr>
          <a:xfrm>
            <a:off x="1836720" y="3084480"/>
            <a:ext cx="1871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Ofbyld:Scythe user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3409920" cy="470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despitkeet.nl/pages/thumb.aspx?f=203007536.jpg&amp;w=17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03800" y="2635200"/>
            <a:ext cx="276516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9587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hthoek 2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www.cursusencontract.nl/projecten/KIGO-streekeigengewasse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7:23:45Z</dcterms:created>
  <dc:creator>12vicnga</dc:creator>
  <dc:description/>
  <dc:language>en-US</dc:language>
  <cp:lastModifiedBy>Richard Bezemer</cp:lastModifiedBy>
  <dcterms:modified xsi:type="dcterms:W3CDTF">2012-09-16T19:50:57Z</dcterms:modified>
  <cp:revision>14</cp:revision>
  <dc:subject/>
  <dc:title>Dia 1</dc:title>
</cp:coreProperties>
</file>