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2F49-9091-403F-8487-AB314F7DAF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41C-71FE-4E82-8F50-5D687FF471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C47-6FC3-4504-AED1-BD555E30F4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66D-E225-4B67-A931-097820A5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952-68D3-40AE-AF69-DD8D5107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D19-B9A5-493C-A686-ACA13BAC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B21-9570-4DFE-8D09-C65AF1A9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BC1-D1EF-46C7-8D0E-325C8742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0DB-515B-463F-ADED-0842E2A8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D3D-7C5C-46BF-98E5-B9AF2B6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027-B5D0-42CB-A8CE-7B595455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A76-41A2-435F-BF34-C14D2F7E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0AF-FF4F-4B28-B53A-F79505C8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6BC-F23D-4537-A444-A88A60D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C6B-9443-4565-B699-864BE71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12CD-C7B8-44A0-8412-DD2C2EFBD6E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1/Scythe_user.png" TargetMode="Externa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Nd9GcTloy9FX0pv3X-TJGSCh8KO6Mo35nm_kd1OHZIQN_mr2ML6fvvM"/>
          <p:cNvPicPr/>
          <p:nvPr/>
        </p:nvPicPr>
        <p:blipFill>
          <a:blip r:embed="rId1"/>
          <a:stretch/>
        </p:blipFill>
        <p:spPr>
          <a:xfrm>
            <a:off x="1619280" y="557280"/>
            <a:ext cx="6337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ttp://arrangeren.wikiwijs.nl/31406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, wat, waar, waarom, ho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encrypted-tbn3.google.com/images?q=tbn:ANd9GcQrkXL8Vaiv1I2NZ9CD_vudKz5RDu1ntPN5nvT1erYLtXec4YUyew"/>
          <p:cNvPicPr/>
          <p:nvPr/>
        </p:nvPicPr>
        <p:blipFill>
          <a:blip r:embed="rId1"/>
          <a:srcRect l="0" t="5970" r="0" b="597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ivn.nl/docs/201005081859573733.jpg"/>
          <p:cNvPicPr/>
          <p:nvPr/>
        </p:nvPicPr>
        <p:blipFill>
          <a:blip r:embed="rId1"/>
          <a:stretch/>
        </p:blipFill>
        <p:spPr>
          <a:xfrm>
            <a:off x="1908000" y="333360"/>
            <a:ext cx="5034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0.gstatic.com/images?q=tbn:ANd9GcRCkfFfRAkTzNfHS7KjElltB7qQsWohH1JLR4PBspw7olb3yrge9g"/>
          <p:cNvPicPr/>
          <p:nvPr/>
        </p:nvPicPr>
        <p:blipFill>
          <a:blip r:embed="rId1"/>
          <a:stretch/>
        </p:blipFill>
        <p:spPr>
          <a:xfrm>
            <a:off x="971640" y="404640"/>
            <a:ext cx="5222880" cy="374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waldpyk.com/brommels/images/eik%20_sloot.JPG"/>
          <p:cNvPicPr/>
          <p:nvPr/>
        </p:nvPicPr>
        <p:blipFill>
          <a:blip r:embed="rId2"/>
          <a:stretch/>
        </p:blipFill>
        <p:spPr>
          <a:xfrm>
            <a:off x="5508720" y="1754280"/>
            <a:ext cx="3300480" cy="47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holland.com/upload_mm/8/5/b/21302_fullimage_noardlikefryskewalden_koeien_560x350_560x350.jpg"/>
          <p:cNvPicPr/>
          <p:nvPr/>
        </p:nvPicPr>
        <p:blipFill>
          <a:blip r:embed="rId3"/>
          <a:stretch/>
        </p:blipFill>
        <p:spPr>
          <a:xfrm>
            <a:off x="971640" y="3645000"/>
            <a:ext cx="4757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nme-achtkarspelen.nl/upload/35b2cae3-7b79-49c2-81d9-2751fbfd0254.jpg"/>
          <p:cNvPicPr/>
          <p:nvPr/>
        </p:nvPicPr>
        <p:blipFill>
          <a:blip r:embed="rId1"/>
          <a:stretch/>
        </p:blipFill>
        <p:spPr>
          <a:xfrm>
            <a:off x="1692360" y="993600"/>
            <a:ext cx="4673520" cy="343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S7vEhiLtE4gNN5saC8CPH-Ujpc8bIUJTAIu4zCDyxNI-BANU-sDQ"/>
          <p:cNvPicPr/>
          <p:nvPr/>
        </p:nvPicPr>
        <p:blipFill>
          <a:blip r:embed="rId1"/>
          <a:stretch/>
        </p:blipFill>
        <p:spPr>
          <a:xfrm>
            <a:off x="1332000" y="1427040"/>
            <a:ext cx="358920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2.gstatic.com/images?q=tbn:ANd9GcRLsEgzooOxDlqJxlsFx8P87IPis4gFKfw0Jgxz7cJpKvygOXP9-w"/>
          <p:cNvPicPr/>
          <p:nvPr/>
        </p:nvPicPr>
        <p:blipFill>
          <a:blip r:embed="rId2"/>
          <a:stretch/>
        </p:blipFill>
        <p:spPr>
          <a:xfrm>
            <a:off x="3708360" y="2962440"/>
            <a:ext cx="2724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osdegroenteman.punt.nl/upload/Hete_Bliksem.jpg"/>
          <p:cNvPicPr/>
          <p:nvPr/>
        </p:nvPicPr>
        <p:blipFill>
          <a:blip r:embed="rId1"/>
          <a:stretch/>
        </p:blipFill>
        <p:spPr>
          <a:xfrm>
            <a:off x="2948040" y="206064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Hete bliks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3.gstatic.com/images?q=tbn:ANd9GcQVyhsvG6YtriPoijGZhxNaT5XxhHjn16DM0UFNe3_V7lvon2LB"/>
          <p:cNvPicPr/>
          <p:nvPr/>
        </p:nvPicPr>
        <p:blipFill>
          <a:blip r:embed="rId1"/>
          <a:stretch/>
        </p:blipFill>
        <p:spPr>
          <a:xfrm>
            <a:off x="1908000" y="1484280"/>
            <a:ext cx="3235680" cy="242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1.gstatic.com/images?q=tbn:ANd9GcTBKSoefe58egD85R41YzYfehmfE_C4JVim9QGfXIp_jwAN9uPd"/>
          <p:cNvPicPr/>
          <p:nvPr/>
        </p:nvPicPr>
        <p:blipFill>
          <a:blip r:embed="rId2"/>
          <a:stretch/>
        </p:blipFill>
        <p:spPr>
          <a:xfrm>
            <a:off x="3708360" y="2997360"/>
            <a:ext cx="2697120" cy="2122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www.itfryskegea.nl/Uploaded_files/Zelf/Natuurgebieden/Noard/buizerddig23.jpg"/>
          <p:cNvPicPr/>
          <p:nvPr/>
        </p:nvPicPr>
        <p:blipFill>
          <a:blip r:embed="rId3"/>
          <a:stretch/>
        </p:blipFill>
        <p:spPr>
          <a:xfrm>
            <a:off x="1836720" y="30844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byld:Scythe user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340992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despitkeet.nl/pages/thumb.aspx?f=203007536.jpg&amp;w=17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03800" y="2635200"/>
            <a:ext cx="27651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9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cursusencontract.nl/projecten/KIGO-streekeigengewa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7:23:45Z</dcterms:created>
  <dc:creator>12vicnga</dc:creator>
  <dc:description/>
  <dc:language>en-US</dc:language>
  <cp:lastModifiedBy>Richard Bezemer</cp:lastModifiedBy>
  <dcterms:modified xsi:type="dcterms:W3CDTF">2012-09-16T19:50:57Z</dcterms:modified>
  <cp:revision>14</cp:revision>
  <dc:subject/>
  <dc:title>Dia 1</dc:title>
</cp:coreProperties>
</file>