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32C9-5B29-48D6-87F4-D20B44FA23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BA2F-2EEE-4946-8424-733404509D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4A7-FAF1-4B31-91B6-7DC8C9AB15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330-1746-4249-B2DF-9B47B8AC04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0456-F0CE-417A-AA9D-46430DE460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B43F-C26C-4DE3-9A8C-5DCA52CBA8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7E3-9508-46F2-A044-7847FE4120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732D-93B2-4B87-8B64-3232FECBCD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143-1ECD-411A-8D9C-F24DA9863D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A11A-64F0-4466-8D6D-024D09AD5D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9420-6D39-4EE6-B2EF-841D2983D33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D15-AF88-4075-8B06-11A14BB5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1AB-FB09-450B-93CA-BD135F29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A61-333B-4B5E-951D-0F5FE9B2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628-0FA7-4921-AF0C-F9C639C0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3AF-F44D-4290-9D26-5A1474F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647-65F1-493B-943C-740573B3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ABA-48E0-48E9-ACDC-1E9670A4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0D6-CAD1-4C97-B910-A1840563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324-1E47-4213-8B9A-F0FF63A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C9F-39F6-4462-8DBD-C7617D0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419-BBA9-41FE-A781-5FB99DA8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604-0389-4CB8-8080-3932144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8EF2-57C2-4198-AB79-C9BEB35357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kijken huiswerk §3: opdracht 1 t/m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woestijn3"/>
          <p:cNvPicPr/>
          <p:nvPr/>
        </p:nvPicPr>
        <p:blipFill>
          <a:blip r:embed="rId1"/>
          <a:stretch/>
        </p:blipFill>
        <p:spPr>
          <a:xfrm>
            <a:off x="539640" y="1989000"/>
            <a:ext cx="4608720" cy="3168720"/>
          </a:xfrm>
          <a:prstGeom prst="rect">
            <a:avLst/>
          </a:prstGeom>
          <a:ln w="0">
            <a:noFill/>
          </a:ln>
        </p:spPr>
      </p:pic>
      <p:sp>
        <p:nvSpPr>
          <p:cNvPr id="187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11280" y="2421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067280" y="234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8081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9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686560" y="9079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oor de draaiing van de aarde rond de zon ontstaan seiz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0" y="5734080"/>
            <a:ext cx="9396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0" y="5877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 hoeveel dagen draait de aarde om de z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6696000" y="587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In 365 d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2843280" y="907920"/>
            <a:ext cx="0" cy="532944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140328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1476360" y="5805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6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1692360" y="2133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1835280" y="4653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42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843280" y="573408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2843280" y="765000"/>
            <a:ext cx="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2050920" y="623736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2916360" y="595008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>
            <a:off x="3132000" y="59500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132000" y="5877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90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>
            <a:off x="1763640" y="1484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>
            <a:off x="1763640" y="551664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>
            <a:off x="5364000" y="350028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276720" y="1700280"/>
            <a:ext cx="287280" cy="287280"/>
          </a:xfrm>
          <a:custGeom>
            <a:avLst/>
            <a:gdLst>
              <a:gd name="textAreaLeft" fmla="*/ 88560 w 287280"/>
              <a:gd name="textAreaRight" fmla="*/ 198720 w 28728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4328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-57348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42">
                  <a:alpha val="25098"/>
                </a:srgbClr>
              </a:gs>
              <a:gs pos="100000">
                <a:srgbClr val="cc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"/>
          <p:cNvSpPr/>
          <p:nvPr/>
        </p:nvSpPr>
        <p:spPr>
          <a:xfrm flipH="1">
            <a:off x="1763640" y="981000"/>
            <a:ext cx="216072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68360" y="2708280"/>
            <a:ext cx="4681440" cy="151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755640" y="2205000"/>
            <a:ext cx="45370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324000" y="3357720"/>
            <a:ext cx="460836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924360" y="9079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826920" y="5589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 rot="952200">
            <a:off x="361800" y="299268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 rot="1148400">
            <a:off x="826560" y="2133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 rot="978600">
            <a:off x="394920" y="38602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1116000" y="5950080"/>
            <a:ext cx="1513080" cy="144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"/>
          <p:cNvSpPr/>
          <p:nvPr/>
        </p:nvSpPr>
        <p:spPr>
          <a:xfrm>
            <a:off x="1835280" y="56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2843280" y="1268280"/>
            <a:ext cx="18730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 flipH="1" flipV="1">
            <a:off x="1116000" y="515736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3492360" y="220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900000" y="429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5364000" y="3645000"/>
            <a:ext cx="237672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179280" y="119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>
            <a:off x="313200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7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3" y="109753"/>
                </a:lnTo>
                <a:lnTo>
                  <a:pt x="287337" y="109753"/>
                </a:lnTo>
                <a:lnTo>
                  <a:pt x="198544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6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48000" y="1844640"/>
            <a:ext cx="1728720" cy="64764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826920" y="1268280"/>
            <a:ext cx="5400720" cy="446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42520" y="0"/>
            <a:ext cx="78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Zonnestraling en </a:t>
            </a: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635280" y="1268280"/>
            <a:ext cx="5112000" cy="446436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000042">
                  <a:alpha val="2509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-1224000" y="-67464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 flipH="1">
            <a:off x="5148000" y="1125360"/>
            <a:ext cx="2160360" cy="4969080"/>
          </a:xfrm>
          <a:prstGeom prst="line">
            <a:avLst/>
          </a:prstGeom>
          <a:ln w="572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3851280" y="2852640"/>
            <a:ext cx="468144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4140360" y="2276640"/>
            <a:ext cx="4537080" cy="1439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3635280" y="3500280"/>
            <a:ext cx="446580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51672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140360" y="57340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952200">
            <a:off x="6626160" y="407160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1018800">
            <a:off x="6624360" y="3068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 rot="978600">
            <a:off x="6084360" y="465264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elijk Halfr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4427640" y="6093000"/>
            <a:ext cx="1512720" cy="1443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29272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66½</a:t>
            </a:r>
            <a:r>
              <a:rPr b="1" lang="en-US" sz="1600" spc="-1" strike="noStrike" baseline="50000">
                <a:solidFill>
                  <a:srgbClr val="ffffff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6227640" y="1268280"/>
            <a:ext cx="187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 flipH="1" flipV="1">
            <a:off x="4500360" y="5157360"/>
            <a:ext cx="172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140360" y="422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rebuchet MS"/>
              </a:rPr>
              <a:t>z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6877080" y="2060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"/>
          <p:cNvSpPr/>
          <p:nvPr/>
        </p:nvSpPr>
        <p:spPr>
          <a:xfrm flipH="1">
            <a:off x="1187280" y="3500280"/>
            <a:ext cx="2448000" cy="0"/>
          </a:xfrm>
          <a:prstGeom prst="line">
            <a:avLst/>
          </a:prstGeom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7164360" y="12682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21 december</a:t>
            </a:r>
            <a:r>
              <a:rPr b="1" lang="en-US" sz="24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4"/>
          <p:cNvSpPr/>
          <p:nvPr/>
        </p:nvSpPr>
        <p:spPr>
          <a:xfrm>
            <a:off x="5724360" y="1700280"/>
            <a:ext cx="287640" cy="287280"/>
          </a:xfrm>
          <a:custGeom>
            <a:avLst/>
            <a:gdLst>
              <a:gd name="textAreaLeft" fmla="*/ 88920 w 287640"/>
              <a:gd name="textAreaRight" fmla="*/ 198720 w 287640"/>
              <a:gd name="textAreaTop" fmla="*/ 109800 h 287280"/>
              <a:gd name="textAreaBottom" fmla="*/ 219600 h 287280"/>
            </a:gdLst>
            <a:ahLst/>
            <a:rect l="textAreaLeft" t="textAreaTop" r="textAreaRight" b="textAreaBottom"/>
            <a:pathLst>
              <a:path w="287338" h="287337">
                <a:moveTo>
                  <a:pt x="0" y="109753"/>
                </a:moveTo>
                <a:lnTo>
                  <a:pt x="109754" y="109753"/>
                </a:lnTo>
                <a:lnTo>
                  <a:pt x="143669" y="0"/>
                </a:lnTo>
                <a:lnTo>
                  <a:pt x="177584" y="109753"/>
                </a:lnTo>
                <a:lnTo>
                  <a:pt x="287338" y="109753"/>
                </a:lnTo>
                <a:lnTo>
                  <a:pt x="198545" y="177583"/>
                </a:lnTo>
                <a:lnTo>
                  <a:pt x="232461" y="287336"/>
                </a:lnTo>
                <a:lnTo>
                  <a:pt x="143669" y="219504"/>
                </a:lnTo>
                <a:lnTo>
                  <a:pt x="54877" y="287336"/>
                </a:lnTo>
                <a:lnTo>
                  <a:pt x="88793" y="177583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5"/>
          <p:cNvSpPr/>
          <p:nvPr/>
        </p:nvSpPr>
        <p:spPr>
          <a:xfrm flipH="1" flipV="1">
            <a:off x="5076720" y="1557360"/>
            <a:ext cx="719280" cy="216000"/>
          </a:xfrm>
          <a:prstGeom prst="line">
            <a:avLst/>
          </a:prstGeom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123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/>
          <p:cNvSpPr/>
          <p:nvPr/>
        </p:nvSpPr>
        <p:spPr>
          <a:xfrm>
            <a:off x="1332000" y="1916280"/>
            <a:ext cx="7056360" cy="3673440"/>
          </a:xfrm>
          <a:custGeom>
            <a:avLst/>
            <a:gdLst>
              <a:gd name="textAreaLeft" fmla="*/ 1033200 w 7056360"/>
              <a:gd name="textAreaRight" fmla="*/ 6023160 w 7056360"/>
              <a:gd name="textAreaTop" fmla="*/ 537840 h 3673440"/>
              <a:gd name="textAreaBottom" fmla="*/ 31356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6" y="10800"/>
                </a:moveTo>
                <a:cubicBezTo>
                  <a:pt x="306" y="16596"/>
                  <a:pt x="5004" y="21294"/>
                  <a:pt x="10800" y="21294"/>
                </a:cubicBezTo>
                <a:cubicBezTo>
                  <a:pt x="16596" y="21294"/>
                  <a:pt x="21294" y="16596"/>
                  <a:pt x="21294" y="10800"/>
                </a:cubicBezTo>
                <a:cubicBezTo>
                  <a:pt x="21294" y="5004"/>
                  <a:pt x="16596" y="306"/>
                  <a:pt x="10800" y="306"/>
                </a:cubicBezTo>
                <a:cubicBezTo>
                  <a:pt x="5004" y="306"/>
                  <a:pt x="306" y="5004"/>
                  <a:pt x="306" y="10800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3564000" y="4797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7164360" y="285264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3564000" y="1125360"/>
            <a:ext cx="1657440" cy="144000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3780000" y="2997360"/>
            <a:ext cx="1223640" cy="1152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755640" y="2781360"/>
            <a:ext cx="1657440" cy="143964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66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 flipV="1">
            <a:off x="2268360" y="2349360"/>
            <a:ext cx="14292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68360" y="2565360"/>
            <a:ext cx="287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2627280" y="4941720"/>
            <a:ext cx="730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 flipV="1">
            <a:off x="2411280" y="5157360"/>
            <a:ext cx="289080" cy="71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6877080" y="5084640"/>
            <a:ext cx="2872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 flipV="1">
            <a:off x="7093080" y="5084640"/>
            <a:ext cx="71280" cy="2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 flipH="1">
            <a:off x="6443640" y="2060640"/>
            <a:ext cx="28728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7"/>
          <p:cNvSpPr/>
          <p:nvPr/>
        </p:nvSpPr>
        <p:spPr>
          <a:xfrm>
            <a:off x="6516720" y="2133720"/>
            <a:ext cx="142920" cy="21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1547640" y="2781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H="1">
            <a:off x="1258560" y="2852640"/>
            <a:ext cx="576360" cy="1297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826920" y="321300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1547640" y="2781360"/>
            <a:ext cx="648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 flipH="1" flipV="1">
            <a:off x="971640" y="4005000"/>
            <a:ext cx="57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802800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 flipH="1">
            <a:off x="7740360" y="2924280"/>
            <a:ext cx="57636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7236000" y="335772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8028000" y="285264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7380000" y="4076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4140000" y="1197000"/>
            <a:ext cx="502920" cy="12952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4140360" y="4869000"/>
            <a:ext cx="576000" cy="129672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3635280" y="162864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3635280" y="530064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4356000" y="1125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3780000" y="2349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>
            <a:off x="4356000" y="479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780000" y="6021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2411280" y="3573360"/>
            <a:ext cx="136872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>
            <a:off x="5076360" y="3573360"/>
            <a:ext cx="20876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4356000" y="184464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4356000" y="422100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356000" y="4869000"/>
            <a:ext cx="0" cy="647640"/>
          </a:xfrm>
          <a:prstGeom prst="line">
            <a:avLst/>
          </a:prstGeom>
          <a:ln w="38160">
            <a:solidFill>
              <a:srgbClr val="99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0" y="407664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j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164360" y="9079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6012000" y="533232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1835280" y="189000"/>
            <a:ext cx="2735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m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N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rebuchet MS"/>
              </a:rPr>
              <a:t>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H:</a:t>
            </a: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herf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§3 vragen 1 t/m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G: §3 vragen 1 t/m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260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Trebuchet MS"/>
              </a:rPr>
              <a:t>Wat zijn de gevolgen van verschil in ligg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2205000"/>
            <a:ext cx="79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reikbaar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Zonnestraling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Lengte van dag en na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Tijdverschi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24000" y="350028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/Equ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364000" y="1916280"/>
            <a:ext cx="24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Verschillen in temperatuur en kli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435600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643280" y="522936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rebuchet MS"/>
              </a:rPr>
              <a:t>k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543564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rebuchet MS"/>
              </a:rPr>
              <a:t>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brazilie0"/>
          <p:cNvPicPr/>
          <p:nvPr/>
        </p:nvPicPr>
        <p:blipFill>
          <a:blip r:embed="rId1"/>
          <a:stretch/>
        </p:blipFill>
        <p:spPr>
          <a:xfrm>
            <a:off x="776160" y="1413000"/>
            <a:ext cx="4156200" cy="417672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24000" y="35002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Brazil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124000" y="9079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8" descr="malediven5535526767sde"/>
          <p:cNvPicPr/>
          <p:nvPr/>
        </p:nvPicPr>
        <p:blipFill>
          <a:blip r:embed="rId1"/>
          <a:stretch/>
        </p:blipFill>
        <p:spPr>
          <a:xfrm>
            <a:off x="539640" y="1700280"/>
            <a:ext cx="453708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7"/>
          <p:cNvSpPr/>
          <p:nvPr/>
        </p:nvSpPr>
        <p:spPr>
          <a:xfrm>
            <a:off x="468360" y="2852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Maled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1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groenland003"/>
          <p:cNvPicPr/>
          <p:nvPr/>
        </p:nvPicPr>
        <p:blipFill>
          <a:blip r:embed="rId1"/>
          <a:stretch/>
        </p:blipFill>
        <p:spPr>
          <a:xfrm>
            <a:off x="684360" y="1413000"/>
            <a:ext cx="4259160" cy="4051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7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916360" y="14842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Gro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noordpool_001"/>
          <p:cNvPicPr/>
          <p:nvPr/>
        </p:nvPicPr>
        <p:blipFill>
          <a:blip r:embed="rId1"/>
          <a:stretch/>
        </p:blipFill>
        <p:spPr>
          <a:xfrm>
            <a:off x="468360" y="2060640"/>
            <a:ext cx="4680000" cy="3036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5"/>
          <p:cNvSpPr/>
          <p:nvPr/>
        </p:nvSpPr>
        <p:spPr>
          <a:xfrm>
            <a:off x="179280" y="378936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8360" y="20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oord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Antarctica-01"/>
          <p:cNvPicPr/>
          <p:nvPr/>
        </p:nvPicPr>
        <p:blipFill>
          <a:blip r:embed="rId1"/>
          <a:stretch/>
        </p:blipFill>
        <p:spPr>
          <a:xfrm>
            <a:off x="539640" y="1773360"/>
            <a:ext cx="460872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611280" y="4869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Zuidpool ( Antarctic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771640" y="5229360"/>
            <a:ext cx="54007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32000" y="321300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843280" y="1268280"/>
            <a:ext cx="540072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-573480" y="0"/>
            <a:ext cx="78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rebuchet MS"/>
              </a:rPr>
              <a:t>Zonnestraling</a:t>
            </a:r>
            <a:r>
              <a:rPr b="1" lang="en-US" sz="4000" spc="-1" strike="noStrike">
                <a:solidFill>
                  <a:srgbClr val="ccff66"/>
                </a:solidFill>
                <a:latin typeface="Trebuchet MS"/>
              </a:rPr>
              <a:t> en seizoe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50920" y="1268280"/>
            <a:ext cx="5111640" cy="4464360"/>
          </a:xfrm>
          <a:prstGeom prst="ellipse">
            <a:avLst/>
          </a:prstGeom>
          <a:gradFill rotWithShape="0">
            <a:gsLst>
              <a:gs pos="0">
                <a:srgbClr val="00007a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740720" y="-603360"/>
            <a:ext cx="2448000" cy="864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95280" y="278136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2843280" y="1268280"/>
            <a:ext cx="1584360" cy="505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952" h="325">
                <a:moveTo>
                  <a:pt x="0" y="7"/>
                </a:moveTo>
                <a:cubicBezTo>
                  <a:pt x="124" y="3"/>
                  <a:pt x="249" y="0"/>
                  <a:pt x="408" y="53"/>
                </a:cubicBezTo>
                <a:cubicBezTo>
                  <a:pt x="567" y="106"/>
                  <a:pt x="759" y="215"/>
                  <a:pt x="952" y="325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5364000" y="3213000"/>
            <a:ext cx="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195640" y="580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Zuid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50920" y="3500280"/>
            <a:ext cx="51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2843280" y="1268280"/>
            <a:ext cx="0" cy="446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050920" y="8366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oordpool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9" descr="Namibie_1"/>
          <p:cNvPicPr/>
          <p:nvPr/>
        </p:nvPicPr>
        <p:blipFill>
          <a:blip r:embed="rId1"/>
          <a:stretch/>
        </p:blipFill>
        <p:spPr>
          <a:xfrm>
            <a:off x="539640" y="1916280"/>
            <a:ext cx="4537080" cy="3112920"/>
          </a:xfrm>
          <a:prstGeom prst="rect">
            <a:avLst/>
          </a:prstGeom>
          <a:ln w="0">
            <a:noFill/>
          </a:ln>
        </p:spPr>
      </p:pic>
      <p:sp>
        <p:nvSpPr>
          <p:cNvPr id="168" name="Line 9"/>
          <p:cNvSpPr/>
          <p:nvPr/>
        </p:nvSpPr>
        <p:spPr>
          <a:xfrm>
            <a:off x="395280" y="4221000"/>
            <a:ext cx="4824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24000" y="35002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Even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68360" y="3860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Woestij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851280" y="37893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Namibi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1:18:28Z</dcterms:created>
  <dc:creator>Rene Anjewierden</dc:creator>
  <dc:description/>
  <dc:language>en-US</dc:language>
  <cp:lastModifiedBy>matthiasdejong</cp:lastModifiedBy>
  <dcterms:modified xsi:type="dcterms:W3CDTF">2010-11-11T13:21:41Z</dcterms:modified>
  <cp:revision>13</cp:revision>
  <dc:subject/>
  <dc:title>Dia 1</dc:title>
</cp:coreProperties>
</file>