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C56B-5B87-46B7-A20A-F56033A9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50E8-0022-4DBF-9BC5-9AD3A069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ADF1-C560-41E8-AD9B-31B63363B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A16A-9EB4-4D47-8076-9F99A5966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D674-1B2E-4F42-AD3C-9AFDB945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01E5-727C-4968-96C9-D1758567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E99F-2ACF-4317-AD58-98FCBA5C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1B1D-7690-4B4C-8BD1-2A7BDA41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7C47-294D-4D8F-85DE-74F40639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D74A-FBC2-41D6-ADF4-89E60734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A92F-A8AD-4EF5-9107-23F99AB2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F029-A475-44EB-8707-3E17DA79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6D80-9798-4732-AE02-D467EF4227E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60208_dampkring01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inhoud 2"/>
          <p:cNvSpPr/>
          <p:nvPr/>
        </p:nvSpPr>
        <p:spPr>
          <a:xfrm>
            <a:off x="324000" y="1413000"/>
            <a:ext cx="82296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leg §3: Temperatuurverschillen op aar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tekenin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mpkring: </a:t>
            </a:r>
            <a:r>
              <a:rPr b="0" lang="nl-NL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chooltv.nl/beeldbank/clip/20060208_dampkring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zen §3: Temperatuurverschillen op aa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B opdrachten §3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itel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deling 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6"/>
          <p:cNvSpPr/>
          <p:nvPr/>
        </p:nvSpPr>
        <p:spPr>
          <a:xfrm>
            <a:off x="3759120" y="3643200"/>
            <a:ext cx="4889520" cy="18939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080" h="1193">
                <a:moveTo>
                  <a:pt x="0" y="1177"/>
                </a:moveTo>
                <a:cubicBezTo>
                  <a:pt x="51" y="1152"/>
                  <a:pt x="86" y="1136"/>
                  <a:pt x="144" y="1129"/>
                </a:cubicBezTo>
                <a:cubicBezTo>
                  <a:pt x="181" y="1117"/>
                  <a:pt x="206" y="1103"/>
                  <a:pt x="240" y="1089"/>
                </a:cubicBezTo>
                <a:cubicBezTo>
                  <a:pt x="298" y="1064"/>
                  <a:pt x="395" y="1068"/>
                  <a:pt x="448" y="1065"/>
                </a:cubicBezTo>
                <a:cubicBezTo>
                  <a:pt x="528" y="1038"/>
                  <a:pt x="603" y="991"/>
                  <a:pt x="672" y="945"/>
                </a:cubicBezTo>
                <a:cubicBezTo>
                  <a:pt x="758" y="888"/>
                  <a:pt x="628" y="977"/>
                  <a:pt x="720" y="905"/>
                </a:cubicBezTo>
                <a:cubicBezTo>
                  <a:pt x="735" y="893"/>
                  <a:pt x="768" y="873"/>
                  <a:pt x="768" y="873"/>
                </a:cubicBezTo>
                <a:cubicBezTo>
                  <a:pt x="781" y="834"/>
                  <a:pt x="801" y="843"/>
                  <a:pt x="824" y="809"/>
                </a:cubicBezTo>
                <a:cubicBezTo>
                  <a:pt x="838" y="754"/>
                  <a:pt x="864" y="713"/>
                  <a:pt x="912" y="681"/>
                </a:cubicBezTo>
                <a:cubicBezTo>
                  <a:pt x="935" y="647"/>
                  <a:pt x="944" y="602"/>
                  <a:pt x="976" y="577"/>
                </a:cubicBezTo>
                <a:cubicBezTo>
                  <a:pt x="991" y="565"/>
                  <a:pt x="1024" y="545"/>
                  <a:pt x="1024" y="545"/>
                </a:cubicBezTo>
                <a:cubicBezTo>
                  <a:pt x="1034" y="516"/>
                  <a:pt x="1070" y="482"/>
                  <a:pt x="1096" y="465"/>
                </a:cubicBezTo>
                <a:cubicBezTo>
                  <a:pt x="1110" y="424"/>
                  <a:pt x="1141" y="400"/>
                  <a:pt x="1176" y="377"/>
                </a:cubicBezTo>
                <a:cubicBezTo>
                  <a:pt x="1194" y="324"/>
                  <a:pt x="1207" y="333"/>
                  <a:pt x="1248" y="305"/>
                </a:cubicBezTo>
                <a:cubicBezTo>
                  <a:pt x="1267" y="249"/>
                  <a:pt x="1314" y="227"/>
                  <a:pt x="1368" y="209"/>
                </a:cubicBezTo>
                <a:cubicBezTo>
                  <a:pt x="1402" y="157"/>
                  <a:pt x="1428" y="108"/>
                  <a:pt x="1480" y="73"/>
                </a:cubicBezTo>
                <a:cubicBezTo>
                  <a:pt x="1504" y="0"/>
                  <a:pt x="1535" y="23"/>
                  <a:pt x="1600" y="1"/>
                </a:cubicBezTo>
                <a:cubicBezTo>
                  <a:pt x="1657" y="8"/>
                  <a:pt x="1711" y="19"/>
                  <a:pt x="1768" y="25"/>
                </a:cubicBezTo>
                <a:cubicBezTo>
                  <a:pt x="1785" y="75"/>
                  <a:pt x="1762" y="30"/>
                  <a:pt x="1832" y="57"/>
                </a:cubicBezTo>
                <a:cubicBezTo>
                  <a:pt x="1850" y="64"/>
                  <a:pt x="1864" y="78"/>
                  <a:pt x="1880" y="89"/>
                </a:cubicBezTo>
                <a:cubicBezTo>
                  <a:pt x="1915" y="112"/>
                  <a:pt x="1969" y="116"/>
                  <a:pt x="2008" y="121"/>
                </a:cubicBezTo>
                <a:cubicBezTo>
                  <a:pt x="2016" y="146"/>
                  <a:pt x="2019" y="178"/>
                  <a:pt x="2032" y="201"/>
                </a:cubicBezTo>
                <a:cubicBezTo>
                  <a:pt x="2041" y="218"/>
                  <a:pt x="2064" y="249"/>
                  <a:pt x="2064" y="249"/>
                </a:cubicBezTo>
                <a:cubicBezTo>
                  <a:pt x="2075" y="294"/>
                  <a:pt x="2066" y="322"/>
                  <a:pt x="2112" y="337"/>
                </a:cubicBezTo>
                <a:cubicBezTo>
                  <a:pt x="2117" y="345"/>
                  <a:pt x="2120" y="355"/>
                  <a:pt x="2128" y="361"/>
                </a:cubicBezTo>
                <a:cubicBezTo>
                  <a:pt x="2135" y="366"/>
                  <a:pt x="2147" y="362"/>
                  <a:pt x="2152" y="369"/>
                </a:cubicBezTo>
                <a:cubicBezTo>
                  <a:pt x="2201" y="430"/>
                  <a:pt x="2101" y="378"/>
                  <a:pt x="2200" y="417"/>
                </a:cubicBezTo>
                <a:cubicBezTo>
                  <a:pt x="2215" y="446"/>
                  <a:pt x="2219" y="480"/>
                  <a:pt x="2240" y="505"/>
                </a:cubicBezTo>
                <a:cubicBezTo>
                  <a:pt x="2290" y="565"/>
                  <a:pt x="2360" y="588"/>
                  <a:pt x="2424" y="625"/>
                </a:cubicBezTo>
                <a:cubicBezTo>
                  <a:pt x="2452" y="641"/>
                  <a:pt x="2465" y="663"/>
                  <a:pt x="2496" y="673"/>
                </a:cubicBezTo>
                <a:cubicBezTo>
                  <a:pt x="2517" y="737"/>
                  <a:pt x="2541" y="741"/>
                  <a:pt x="2600" y="761"/>
                </a:cubicBezTo>
                <a:cubicBezTo>
                  <a:pt x="2620" y="820"/>
                  <a:pt x="2670" y="863"/>
                  <a:pt x="2720" y="897"/>
                </a:cubicBezTo>
                <a:cubicBezTo>
                  <a:pt x="2747" y="937"/>
                  <a:pt x="2728" y="916"/>
                  <a:pt x="2784" y="953"/>
                </a:cubicBezTo>
                <a:cubicBezTo>
                  <a:pt x="2792" y="958"/>
                  <a:pt x="2808" y="969"/>
                  <a:pt x="2808" y="969"/>
                </a:cubicBezTo>
                <a:cubicBezTo>
                  <a:pt x="2814" y="993"/>
                  <a:pt x="2819" y="1031"/>
                  <a:pt x="2840" y="1049"/>
                </a:cubicBezTo>
                <a:cubicBezTo>
                  <a:pt x="2849" y="1057"/>
                  <a:pt x="2862" y="1058"/>
                  <a:pt x="2872" y="1065"/>
                </a:cubicBezTo>
                <a:cubicBezTo>
                  <a:pt x="2884" y="1074"/>
                  <a:pt x="2892" y="1088"/>
                  <a:pt x="2904" y="1097"/>
                </a:cubicBezTo>
                <a:cubicBezTo>
                  <a:pt x="2933" y="1118"/>
                  <a:pt x="2981" y="1128"/>
                  <a:pt x="3016" y="1137"/>
                </a:cubicBezTo>
                <a:cubicBezTo>
                  <a:pt x="3068" y="1189"/>
                  <a:pt x="3044" y="1175"/>
                  <a:pt x="3080" y="1193"/>
                </a:cubicBezTo>
              </a:path>
            </a:pathLst>
          </a:custGeom>
          <a:gradFill rotWithShape="0">
            <a:gsLst>
              <a:gs pos="0">
                <a:srgbClr val="6b4723"/>
              </a:gs>
              <a:gs pos="100000">
                <a:srgbClr val="56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5791320" y="3683160"/>
            <a:ext cx="608040" cy="558720"/>
          </a:xfrm>
          <a:custGeom>
            <a:avLst/>
            <a:gdLst>
              <a:gd name="textAreaLeft" fmla="*/ 0 w 608040"/>
              <a:gd name="textAreaRight" fmla="*/ 608400 w 6080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83" h="352">
                <a:moveTo>
                  <a:pt x="248" y="0"/>
                </a:moveTo>
                <a:cubicBezTo>
                  <a:pt x="232" y="5"/>
                  <a:pt x="212" y="10"/>
                  <a:pt x="200" y="24"/>
                </a:cubicBezTo>
                <a:cubicBezTo>
                  <a:pt x="187" y="40"/>
                  <a:pt x="193" y="68"/>
                  <a:pt x="176" y="80"/>
                </a:cubicBezTo>
                <a:cubicBezTo>
                  <a:pt x="162" y="90"/>
                  <a:pt x="144" y="91"/>
                  <a:pt x="128" y="96"/>
                </a:cubicBezTo>
                <a:cubicBezTo>
                  <a:pt x="120" y="99"/>
                  <a:pt x="104" y="104"/>
                  <a:pt x="104" y="104"/>
                </a:cubicBezTo>
                <a:cubicBezTo>
                  <a:pt x="85" y="160"/>
                  <a:pt x="96" y="157"/>
                  <a:pt x="40" y="176"/>
                </a:cubicBezTo>
                <a:cubicBezTo>
                  <a:pt x="31" y="202"/>
                  <a:pt x="0" y="248"/>
                  <a:pt x="0" y="248"/>
                </a:cubicBezTo>
                <a:cubicBezTo>
                  <a:pt x="18" y="254"/>
                  <a:pt x="40" y="253"/>
                  <a:pt x="56" y="264"/>
                </a:cubicBezTo>
                <a:cubicBezTo>
                  <a:pt x="122" y="308"/>
                  <a:pt x="12" y="273"/>
                  <a:pt x="104" y="296"/>
                </a:cubicBezTo>
                <a:cubicBezTo>
                  <a:pt x="107" y="304"/>
                  <a:pt x="105" y="315"/>
                  <a:pt x="112" y="320"/>
                </a:cubicBezTo>
                <a:cubicBezTo>
                  <a:pt x="136" y="337"/>
                  <a:pt x="188" y="343"/>
                  <a:pt x="216" y="352"/>
                </a:cubicBezTo>
                <a:cubicBezTo>
                  <a:pt x="252" y="316"/>
                  <a:pt x="267" y="320"/>
                  <a:pt x="320" y="312"/>
                </a:cubicBezTo>
                <a:cubicBezTo>
                  <a:pt x="367" y="296"/>
                  <a:pt x="380" y="310"/>
                  <a:pt x="360" y="264"/>
                </a:cubicBezTo>
                <a:cubicBezTo>
                  <a:pt x="356" y="255"/>
                  <a:pt x="349" y="248"/>
                  <a:pt x="344" y="240"/>
                </a:cubicBezTo>
                <a:cubicBezTo>
                  <a:pt x="347" y="227"/>
                  <a:pt x="342" y="210"/>
                  <a:pt x="352" y="200"/>
                </a:cubicBezTo>
                <a:cubicBezTo>
                  <a:pt x="358" y="194"/>
                  <a:pt x="374" y="216"/>
                  <a:pt x="376" y="208"/>
                </a:cubicBezTo>
                <a:cubicBezTo>
                  <a:pt x="382" y="185"/>
                  <a:pt x="383" y="155"/>
                  <a:pt x="368" y="136"/>
                </a:cubicBezTo>
                <a:cubicBezTo>
                  <a:pt x="354" y="119"/>
                  <a:pt x="304" y="120"/>
                  <a:pt x="304" y="120"/>
                </a:cubicBezTo>
                <a:cubicBezTo>
                  <a:pt x="273" y="140"/>
                  <a:pt x="261" y="159"/>
                  <a:pt x="224" y="168"/>
                </a:cubicBezTo>
                <a:cubicBezTo>
                  <a:pt x="177" y="98"/>
                  <a:pt x="219" y="104"/>
                  <a:pt x="280" y="96"/>
                </a:cubicBezTo>
                <a:cubicBezTo>
                  <a:pt x="283" y="88"/>
                  <a:pt x="283" y="79"/>
                  <a:pt x="288" y="72"/>
                </a:cubicBezTo>
                <a:cubicBezTo>
                  <a:pt x="294" y="64"/>
                  <a:pt x="308" y="65"/>
                  <a:pt x="312" y="56"/>
                </a:cubicBezTo>
                <a:cubicBezTo>
                  <a:pt x="325" y="24"/>
                  <a:pt x="261" y="13"/>
                  <a:pt x="2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8"/>
          <p:cNvSpPr/>
          <p:nvPr/>
        </p:nvSpPr>
        <p:spPr>
          <a:xfrm>
            <a:off x="6362640" y="3649680"/>
            <a:ext cx="812880" cy="939960"/>
          </a:xfrm>
          <a:custGeom>
            <a:avLst/>
            <a:gdLst>
              <a:gd name="textAreaLeft" fmla="*/ 0 w 812880"/>
              <a:gd name="textAreaRight" fmla="*/ 813240 w 81288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512" h="592">
                <a:moveTo>
                  <a:pt x="0" y="5"/>
                </a:moveTo>
                <a:cubicBezTo>
                  <a:pt x="83" y="22"/>
                  <a:pt x="65" y="7"/>
                  <a:pt x="56" y="117"/>
                </a:cubicBezTo>
                <a:cubicBezTo>
                  <a:pt x="72" y="128"/>
                  <a:pt x="98" y="131"/>
                  <a:pt x="104" y="149"/>
                </a:cubicBezTo>
                <a:cubicBezTo>
                  <a:pt x="109" y="165"/>
                  <a:pt x="115" y="181"/>
                  <a:pt x="120" y="197"/>
                </a:cubicBezTo>
                <a:cubicBezTo>
                  <a:pt x="123" y="205"/>
                  <a:pt x="128" y="221"/>
                  <a:pt x="128" y="221"/>
                </a:cubicBezTo>
                <a:cubicBezTo>
                  <a:pt x="152" y="218"/>
                  <a:pt x="183" y="230"/>
                  <a:pt x="200" y="213"/>
                </a:cubicBezTo>
                <a:cubicBezTo>
                  <a:pt x="268" y="145"/>
                  <a:pt x="158" y="128"/>
                  <a:pt x="240" y="149"/>
                </a:cubicBezTo>
                <a:cubicBezTo>
                  <a:pt x="243" y="165"/>
                  <a:pt x="243" y="182"/>
                  <a:pt x="248" y="197"/>
                </a:cubicBezTo>
                <a:cubicBezTo>
                  <a:pt x="259" y="231"/>
                  <a:pt x="288" y="242"/>
                  <a:pt x="232" y="261"/>
                </a:cubicBezTo>
                <a:cubicBezTo>
                  <a:pt x="197" y="313"/>
                  <a:pt x="240" y="261"/>
                  <a:pt x="184" y="293"/>
                </a:cubicBezTo>
                <a:cubicBezTo>
                  <a:pt x="167" y="302"/>
                  <a:pt x="154" y="326"/>
                  <a:pt x="144" y="341"/>
                </a:cubicBezTo>
                <a:cubicBezTo>
                  <a:pt x="162" y="448"/>
                  <a:pt x="175" y="420"/>
                  <a:pt x="296" y="429"/>
                </a:cubicBezTo>
                <a:cubicBezTo>
                  <a:pt x="320" y="445"/>
                  <a:pt x="325" y="446"/>
                  <a:pt x="344" y="469"/>
                </a:cubicBezTo>
                <a:cubicBezTo>
                  <a:pt x="350" y="476"/>
                  <a:pt x="351" y="490"/>
                  <a:pt x="360" y="493"/>
                </a:cubicBezTo>
                <a:cubicBezTo>
                  <a:pt x="385" y="501"/>
                  <a:pt x="413" y="498"/>
                  <a:pt x="440" y="501"/>
                </a:cubicBezTo>
                <a:cubicBezTo>
                  <a:pt x="459" y="525"/>
                  <a:pt x="492" y="592"/>
                  <a:pt x="512" y="533"/>
                </a:cubicBezTo>
                <a:cubicBezTo>
                  <a:pt x="507" y="517"/>
                  <a:pt x="505" y="499"/>
                  <a:pt x="496" y="485"/>
                </a:cubicBezTo>
                <a:cubicBezTo>
                  <a:pt x="491" y="477"/>
                  <a:pt x="479" y="475"/>
                  <a:pt x="472" y="469"/>
                </a:cubicBezTo>
                <a:cubicBezTo>
                  <a:pt x="449" y="450"/>
                  <a:pt x="448" y="445"/>
                  <a:pt x="432" y="421"/>
                </a:cubicBezTo>
                <a:cubicBezTo>
                  <a:pt x="435" y="413"/>
                  <a:pt x="434" y="403"/>
                  <a:pt x="440" y="397"/>
                </a:cubicBezTo>
                <a:cubicBezTo>
                  <a:pt x="446" y="391"/>
                  <a:pt x="463" y="397"/>
                  <a:pt x="464" y="389"/>
                </a:cubicBezTo>
                <a:cubicBezTo>
                  <a:pt x="467" y="365"/>
                  <a:pt x="445" y="336"/>
                  <a:pt x="432" y="317"/>
                </a:cubicBezTo>
                <a:cubicBezTo>
                  <a:pt x="427" y="257"/>
                  <a:pt x="436" y="200"/>
                  <a:pt x="384" y="165"/>
                </a:cubicBezTo>
                <a:cubicBezTo>
                  <a:pt x="347" y="109"/>
                  <a:pt x="291" y="74"/>
                  <a:pt x="232" y="45"/>
                </a:cubicBezTo>
                <a:cubicBezTo>
                  <a:pt x="223" y="40"/>
                  <a:pt x="167" y="6"/>
                  <a:pt x="160" y="5"/>
                </a:cubicBezTo>
                <a:cubicBezTo>
                  <a:pt x="107" y="0"/>
                  <a:pt x="53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3492360" y="1844640"/>
            <a:ext cx="79236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6804000" y="2205000"/>
            <a:ext cx="2016000" cy="647640"/>
          </a:xfrm>
          <a:prstGeom prst="cloudCallout">
            <a:avLst>
              <a:gd name="adj1" fmla="val -12282"/>
              <a:gd name="adj2" fmla="val 269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1"/>
          <p:cNvSpPr/>
          <p:nvPr/>
        </p:nvSpPr>
        <p:spPr>
          <a:xfrm>
            <a:off x="2195640" y="3213000"/>
            <a:ext cx="2016000" cy="647640"/>
          </a:xfrm>
          <a:prstGeom prst="cloudCallout">
            <a:avLst>
              <a:gd name="adj1" fmla="val 39291"/>
              <a:gd name="adj2" fmla="val -129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324000" y="1773360"/>
            <a:ext cx="2016000" cy="647640"/>
          </a:xfrm>
          <a:prstGeom prst="cloudCallout">
            <a:avLst>
              <a:gd name="adj1" fmla="val 20629"/>
              <a:gd name="adj2" fmla="val -4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-181080" y="5516640"/>
            <a:ext cx="9721800" cy="1512720"/>
          </a:xfrm>
          <a:prstGeom prst="rect">
            <a:avLst/>
          </a:prstGeom>
          <a:gradFill rotWithShape="0">
            <a:gsLst>
              <a:gs pos="0">
                <a:srgbClr val="5674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3"/>
          <p:cNvSpPr/>
          <p:nvPr/>
        </p:nvSpPr>
        <p:spPr>
          <a:xfrm>
            <a:off x="1187280" y="364500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>
            <a:off x="1187280" y="429264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5"/>
          <p:cNvSpPr/>
          <p:nvPr/>
        </p:nvSpPr>
        <p:spPr>
          <a:xfrm>
            <a:off x="1187280" y="486900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6"/>
          <p:cNvSpPr/>
          <p:nvPr/>
        </p:nvSpPr>
        <p:spPr>
          <a:xfrm>
            <a:off x="1187280" y="551664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46836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0" y="4581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0" y="4005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3059280" y="5157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30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4788000" y="396864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18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3"/>
          <p:cNvSpPr/>
          <p:nvPr/>
        </p:nvSpPr>
        <p:spPr>
          <a:xfrm>
            <a:off x="4284720" y="450864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4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4"/>
          <p:cNvSpPr/>
          <p:nvPr/>
        </p:nvSpPr>
        <p:spPr>
          <a:xfrm>
            <a:off x="6012000" y="321300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12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539640" y="5661000"/>
            <a:ext cx="748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3000 m. = 3 x 1000 = 3 x 6 = 1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30 – 18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4"/>
          <p:cNvSpPr/>
          <p:nvPr/>
        </p:nvSpPr>
        <p:spPr>
          <a:xfrm>
            <a:off x="3759120" y="3643200"/>
            <a:ext cx="4889520" cy="18939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080" h="1193">
                <a:moveTo>
                  <a:pt x="0" y="1177"/>
                </a:moveTo>
                <a:cubicBezTo>
                  <a:pt x="51" y="1152"/>
                  <a:pt x="86" y="1136"/>
                  <a:pt x="144" y="1129"/>
                </a:cubicBezTo>
                <a:cubicBezTo>
                  <a:pt x="181" y="1117"/>
                  <a:pt x="206" y="1103"/>
                  <a:pt x="240" y="1089"/>
                </a:cubicBezTo>
                <a:cubicBezTo>
                  <a:pt x="298" y="1064"/>
                  <a:pt x="395" y="1068"/>
                  <a:pt x="448" y="1065"/>
                </a:cubicBezTo>
                <a:cubicBezTo>
                  <a:pt x="528" y="1038"/>
                  <a:pt x="603" y="991"/>
                  <a:pt x="672" y="945"/>
                </a:cubicBezTo>
                <a:cubicBezTo>
                  <a:pt x="758" y="888"/>
                  <a:pt x="628" y="977"/>
                  <a:pt x="720" y="905"/>
                </a:cubicBezTo>
                <a:cubicBezTo>
                  <a:pt x="735" y="893"/>
                  <a:pt x="768" y="873"/>
                  <a:pt x="768" y="873"/>
                </a:cubicBezTo>
                <a:cubicBezTo>
                  <a:pt x="781" y="834"/>
                  <a:pt x="801" y="843"/>
                  <a:pt x="824" y="809"/>
                </a:cubicBezTo>
                <a:cubicBezTo>
                  <a:pt x="838" y="754"/>
                  <a:pt x="864" y="713"/>
                  <a:pt x="912" y="681"/>
                </a:cubicBezTo>
                <a:cubicBezTo>
                  <a:pt x="935" y="647"/>
                  <a:pt x="944" y="602"/>
                  <a:pt x="976" y="577"/>
                </a:cubicBezTo>
                <a:cubicBezTo>
                  <a:pt x="991" y="565"/>
                  <a:pt x="1024" y="545"/>
                  <a:pt x="1024" y="545"/>
                </a:cubicBezTo>
                <a:cubicBezTo>
                  <a:pt x="1034" y="516"/>
                  <a:pt x="1070" y="482"/>
                  <a:pt x="1096" y="465"/>
                </a:cubicBezTo>
                <a:cubicBezTo>
                  <a:pt x="1110" y="424"/>
                  <a:pt x="1141" y="400"/>
                  <a:pt x="1176" y="377"/>
                </a:cubicBezTo>
                <a:cubicBezTo>
                  <a:pt x="1194" y="324"/>
                  <a:pt x="1207" y="333"/>
                  <a:pt x="1248" y="305"/>
                </a:cubicBezTo>
                <a:cubicBezTo>
                  <a:pt x="1267" y="249"/>
                  <a:pt x="1314" y="227"/>
                  <a:pt x="1368" y="209"/>
                </a:cubicBezTo>
                <a:cubicBezTo>
                  <a:pt x="1402" y="157"/>
                  <a:pt x="1428" y="108"/>
                  <a:pt x="1480" y="73"/>
                </a:cubicBezTo>
                <a:cubicBezTo>
                  <a:pt x="1504" y="0"/>
                  <a:pt x="1535" y="23"/>
                  <a:pt x="1600" y="1"/>
                </a:cubicBezTo>
                <a:cubicBezTo>
                  <a:pt x="1657" y="8"/>
                  <a:pt x="1711" y="19"/>
                  <a:pt x="1768" y="25"/>
                </a:cubicBezTo>
                <a:cubicBezTo>
                  <a:pt x="1785" y="75"/>
                  <a:pt x="1762" y="30"/>
                  <a:pt x="1832" y="57"/>
                </a:cubicBezTo>
                <a:cubicBezTo>
                  <a:pt x="1850" y="64"/>
                  <a:pt x="1864" y="78"/>
                  <a:pt x="1880" y="89"/>
                </a:cubicBezTo>
                <a:cubicBezTo>
                  <a:pt x="1915" y="112"/>
                  <a:pt x="1969" y="116"/>
                  <a:pt x="2008" y="121"/>
                </a:cubicBezTo>
                <a:cubicBezTo>
                  <a:pt x="2016" y="146"/>
                  <a:pt x="2019" y="178"/>
                  <a:pt x="2032" y="201"/>
                </a:cubicBezTo>
                <a:cubicBezTo>
                  <a:pt x="2041" y="218"/>
                  <a:pt x="2064" y="249"/>
                  <a:pt x="2064" y="249"/>
                </a:cubicBezTo>
                <a:cubicBezTo>
                  <a:pt x="2075" y="294"/>
                  <a:pt x="2066" y="322"/>
                  <a:pt x="2112" y="337"/>
                </a:cubicBezTo>
                <a:cubicBezTo>
                  <a:pt x="2117" y="345"/>
                  <a:pt x="2120" y="355"/>
                  <a:pt x="2128" y="361"/>
                </a:cubicBezTo>
                <a:cubicBezTo>
                  <a:pt x="2135" y="366"/>
                  <a:pt x="2147" y="362"/>
                  <a:pt x="2152" y="369"/>
                </a:cubicBezTo>
                <a:cubicBezTo>
                  <a:pt x="2201" y="430"/>
                  <a:pt x="2101" y="378"/>
                  <a:pt x="2200" y="417"/>
                </a:cubicBezTo>
                <a:cubicBezTo>
                  <a:pt x="2215" y="446"/>
                  <a:pt x="2219" y="480"/>
                  <a:pt x="2240" y="505"/>
                </a:cubicBezTo>
                <a:cubicBezTo>
                  <a:pt x="2290" y="565"/>
                  <a:pt x="2360" y="588"/>
                  <a:pt x="2424" y="625"/>
                </a:cubicBezTo>
                <a:cubicBezTo>
                  <a:pt x="2452" y="641"/>
                  <a:pt x="2465" y="663"/>
                  <a:pt x="2496" y="673"/>
                </a:cubicBezTo>
                <a:cubicBezTo>
                  <a:pt x="2517" y="737"/>
                  <a:pt x="2541" y="741"/>
                  <a:pt x="2600" y="761"/>
                </a:cubicBezTo>
                <a:cubicBezTo>
                  <a:pt x="2620" y="820"/>
                  <a:pt x="2670" y="863"/>
                  <a:pt x="2720" y="897"/>
                </a:cubicBezTo>
                <a:cubicBezTo>
                  <a:pt x="2747" y="937"/>
                  <a:pt x="2728" y="916"/>
                  <a:pt x="2784" y="953"/>
                </a:cubicBezTo>
                <a:cubicBezTo>
                  <a:pt x="2792" y="958"/>
                  <a:pt x="2808" y="969"/>
                  <a:pt x="2808" y="969"/>
                </a:cubicBezTo>
                <a:cubicBezTo>
                  <a:pt x="2814" y="993"/>
                  <a:pt x="2819" y="1031"/>
                  <a:pt x="2840" y="1049"/>
                </a:cubicBezTo>
                <a:cubicBezTo>
                  <a:pt x="2849" y="1057"/>
                  <a:pt x="2862" y="1058"/>
                  <a:pt x="2872" y="1065"/>
                </a:cubicBezTo>
                <a:cubicBezTo>
                  <a:pt x="2884" y="1074"/>
                  <a:pt x="2892" y="1088"/>
                  <a:pt x="2904" y="1097"/>
                </a:cubicBezTo>
                <a:cubicBezTo>
                  <a:pt x="2933" y="1118"/>
                  <a:pt x="2981" y="1128"/>
                  <a:pt x="3016" y="1137"/>
                </a:cubicBezTo>
                <a:cubicBezTo>
                  <a:pt x="3068" y="1189"/>
                  <a:pt x="3044" y="1175"/>
                  <a:pt x="3080" y="1193"/>
                </a:cubicBezTo>
              </a:path>
            </a:pathLst>
          </a:custGeom>
          <a:gradFill rotWithShape="0">
            <a:gsLst>
              <a:gs pos="0">
                <a:srgbClr val="6b4723"/>
              </a:gs>
              <a:gs pos="100000">
                <a:srgbClr val="56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5"/>
          <p:cNvSpPr/>
          <p:nvPr/>
        </p:nvSpPr>
        <p:spPr>
          <a:xfrm>
            <a:off x="5791320" y="3683160"/>
            <a:ext cx="608040" cy="558720"/>
          </a:xfrm>
          <a:custGeom>
            <a:avLst/>
            <a:gdLst>
              <a:gd name="textAreaLeft" fmla="*/ 0 w 608040"/>
              <a:gd name="textAreaRight" fmla="*/ 608400 w 6080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83" h="352">
                <a:moveTo>
                  <a:pt x="248" y="0"/>
                </a:moveTo>
                <a:cubicBezTo>
                  <a:pt x="232" y="5"/>
                  <a:pt x="212" y="10"/>
                  <a:pt x="200" y="24"/>
                </a:cubicBezTo>
                <a:cubicBezTo>
                  <a:pt x="187" y="40"/>
                  <a:pt x="193" y="68"/>
                  <a:pt x="176" y="80"/>
                </a:cubicBezTo>
                <a:cubicBezTo>
                  <a:pt x="162" y="90"/>
                  <a:pt x="144" y="91"/>
                  <a:pt x="128" y="96"/>
                </a:cubicBezTo>
                <a:cubicBezTo>
                  <a:pt x="120" y="99"/>
                  <a:pt x="104" y="104"/>
                  <a:pt x="104" y="104"/>
                </a:cubicBezTo>
                <a:cubicBezTo>
                  <a:pt x="85" y="160"/>
                  <a:pt x="96" y="157"/>
                  <a:pt x="40" y="176"/>
                </a:cubicBezTo>
                <a:cubicBezTo>
                  <a:pt x="31" y="202"/>
                  <a:pt x="0" y="248"/>
                  <a:pt x="0" y="248"/>
                </a:cubicBezTo>
                <a:cubicBezTo>
                  <a:pt x="18" y="254"/>
                  <a:pt x="40" y="253"/>
                  <a:pt x="56" y="264"/>
                </a:cubicBezTo>
                <a:cubicBezTo>
                  <a:pt x="122" y="308"/>
                  <a:pt x="12" y="273"/>
                  <a:pt x="104" y="296"/>
                </a:cubicBezTo>
                <a:cubicBezTo>
                  <a:pt x="107" y="304"/>
                  <a:pt x="105" y="315"/>
                  <a:pt x="112" y="320"/>
                </a:cubicBezTo>
                <a:cubicBezTo>
                  <a:pt x="136" y="337"/>
                  <a:pt x="188" y="343"/>
                  <a:pt x="216" y="352"/>
                </a:cubicBezTo>
                <a:cubicBezTo>
                  <a:pt x="252" y="316"/>
                  <a:pt x="267" y="320"/>
                  <a:pt x="320" y="312"/>
                </a:cubicBezTo>
                <a:cubicBezTo>
                  <a:pt x="367" y="296"/>
                  <a:pt x="380" y="310"/>
                  <a:pt x="360" y="264"/>
                </a:cubicBezTo>
                <a:cubicBezTo>
                  <a:pt x="356" y="255"/>
                  <a:pt x="349" y="248"/>
                  <a:pt x="344" y="240"/>
                </a:cubicBezTo>
                <a:cubicBezTo>
                  <a:pt x="347" y="227"/>
                  <a:pt x="342" y="210"/>
                  <a:pt x="352" y="200"/>
                </a:cubicBezTo>
                <a:cubicBezTo>
                  <a:pt x="358" y="194"/>
                  <a:pt x="374" y="216"/>
                  <a:pt x="376" y="208"/>
                </a:cubicBezTo>
                <a:cubicBezTo>
                  <a:pt x="382" y="185"/>
                  <a:pt x="383" y="155"/>
                  <a:pt x="368" y="136"/>
                </a:cubicBezTo>
                <a:cubicBezTo>
                  <a:pt x="354" y="119"/>
                  <a:pt x="304" y="120"/>
                  <a:pt x="304" y="120"/>
                </a:cubicBezTo>
                <a:cubicBezTo>
                  <a:pt x="273" y="140"/>
                  <a:pt x="261" y="159"/>
                  <a:pt x="224" y="168"/>
                </a:cubicBezTo>
                <a:cubicBezTo>
                  <a:pt x="177" y="98"/>
                  <a:pt x="219" y="104"/>
                  <a:pt x="280" y="96"/>
                </a:cubicBezTo>
                <a:cubicBezTo>
                  <a:pt x="283" y="88"/>
                  <a:pt x="283" y="79"/>
                  <a:pt x="288" y="72"/>
                </a:cubicBezTo>
                <a:cubicBezTo>
                  <a:pt x="294" y="64"/>
                  <a:pt x="308" y="65"/>
                  <a:pt x="312" y="56"/>
                </a:cubicBezTo>
                <a:cubicBezTo>
                  <a:pt x="325" y="24"/>
                  <a:pt x="261" y="13"/>
                  <a:pt x="2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6"/>
          <p:cNvSpPr/>
          <p:nvPr/>
        </p:nvSpPr>
        <p:spPr>
          <a:xfrm>
            <a:off x="6362640" y="3649680"/>
            <a:ext cx="812880" cy="939960"/>
          </a:xfrm>
          <a:custGeom>
            <a:avLst/>
            <a:gdLst>
              <a:gd name="textAreaLeft" fmla="*/ 0 w 812880"/>
              <a:gd name="textAreaRight" fmla="*/ 813240 w 81288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512" h="592">
                <a:moveTo>
                  <a:pt x="0" y="5"/>
                </a:moveTo>
                <a:cubicBezTo>
                  <a:pt x="83" y="22"/>
                  <a:pt x="65" y="7"/>
                  <a:pt x="56" y="117"/>
                </a:cubicBezTo>
                <a:cubicBezTo>
                  <a:pt x="72" y="128"/>
                  <a:pt x="98" y="131"/>
                  <a:pt x="104" y="149"/>
                </a:cubicBezTo>
                <a:cubicBezTo>
                  <a:pt x="109" y="165"/>
                  <a:pt x="115" y="181"/>
                  <a:pt x="120" y="197"/>
                </a:cubicBezTo>
                <a:cubicBezTo>
                  <a:pt x="123" y="205"/>
                  <a:pt x="128" y="221"/>
                  <a:pt x="128" y="221"/>
                </a:cubicBezTo>
                <a:cubicBezTo>
                  <a:pt x="152" y="218"/>
                  <a:pt x="183" y="230"/>
                  <a:pt x="200" y="213"/>
                </a:cubicBezTo>
                <a:cubicBezTo>
                  <a:pt x="268" y="145"/>
                  <a:pt x="158" y="128"/>
                  <a:pt x="240" y="149"/>
                </a:cubicBezTo>
                <a:cubicBezTo>
                  <a:pt x="243" y="165"/>
                  <a:pt x="243" y="182"/>
                  <a:pt x="248" y="197"/>
                </a:cubicBezTo>
                <a:cubicBezTo>
                  <a:pt x="259" y="231"/>
                  <a:pt x="288" y="242"/>
                  <a:pt x="232" y="261"/>
                </a:cubicBezTo>
                <a:cubicBezTo>
                  <a:pt x="197" y="313"/>
                  <a:pt x="240" y="261"/>
                  <a:pt x="184" y="293"/>
                </a:cubicBezTo>
                <a:cubicBezTo>
                  <a:pt x="167" y="302"/>
                  <a:pt x="154" y="326"/>
                  <a:pt x="144" y="341"/>
                </a:cubicBezTo>
                <a:cubicBezTo>
                  <a:pt x="162" y="448"/>
                  <a:pt x="175" y="420"/>
                  <a:pt x="296" y="429"/>
                </a:cubicBezTo>
                <a:cubicBezTo>
                  <a:pt x="320" y="445"/>
                  <a:pt x="325" y="446"/>
                  <a:pt x="344" y="469"/>
                </a:cubicBezTo>
                <a:cubicBezTo>
                  <a:pt x="350" y="476"/>
                  <a:pt x="351" y="490"/>
                  <a:pt x="360" y="493"/>
                </a:cubicBezTo>
                <a:cubicBezTo>
                  <a:pt x="385" y="501"/>
                  <a:pt x="413" y="498"/>
                  <a:pt x="440" y="501"/>
                </a:cubicBezTo>
                <a:cubicBezTo>
                  <a:pt x="459" y="525"/>
                  <a:pt x="492" y="592"/>
                  <a:pt x="512" y="533"/>
                </a:cubicBezTo>
                <a:cubicBezTo>
                  <a:pt x="507" y="517"/>
                  <a:pt x="505" y="499"/>
                  <a:pt x="496" y="485"/>
                </a:cubicBezTo>
                <a:cubicBezTo>
                  <a:pt x="491" y="477"/>
                  <a:pt x="479" y="475"/>
                  <a:pt x="472" y="469"/>
                </a:cubicBezTo>
                <a:cubicBezTo>
                  <a:pt x="449" y="450"/>
                  <a:pt x="448" y="445"/>
                  <a:pt x="432" y="421"/>
                </a:cubicBezTo>
                <a:cubicBezTo>
                  <a:pt x="435" y="413"/>
                  <a:pt x="434" y="403"/>
                  <a:pt x="440" y="397"/>
                </a:cubicBezTo>
                <a:cubicBezTo>
                  <a:pt x="446" y="391"/>
                  <a:pt x="463" y="397"/>
                  <a:pt x="464" y="389"/>
                </a:cubicBezTo>
                <a:cubicBezTo>
                  <a:pt x="467" y="365"/>
                  <a:pt x="445" y="336"/>
                  <a:pt x="432" y="317"/>
                </a:cubicBezTo>
                <a:cubicBezTo>
                  <a:pt x="427" y="257"/>
                  <a:pt x="436" y="200"/>
                  <a:pt x="384" y="165"/>
                </a:cubicBezTo>
                <a:cubicBezTo>
                  <a:pt x="347" y="109"/>
                  <a:pt x="291" y="74"/>
                  <a:pt x="232" y="45"/>
                </a:cubicBezTo>
                <a:cubicBezTo>
                  <a:pt x="223" y="40"/>
                  <a:pt x="167" y="6"/>
                  <a:pt x="160" y="5"/>
                </a:cubicBezTo>
                <a:cubicBezTo>
                  <a:pt x="107" y="0"/>
                  <a:pt x="53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492360" y="1844640"/>
            <a:ext cx="79236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6804000" y="2205000"/>
            <a:ext cx="2016000" cy="647640"/>
          </a:xfrm>
          <a:prstGeom prst="cloudCallout">
            <a:avLst>
              <a:gd name="adj1" fmla="val -12282"/>
              <a:gd name="adj2" fmla="val 269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9"/>
          <p:cNvSpPr/>
          <p:nvPr/>
        </p:nvSpPr>
        <p:spPr>
          <a:xfrm>
            <a:off x="2195640" y="3213000"/>
            <a:ext cx="2016000" cy="647640"/>
          </a:xfrm>
          <a:prstGeom prst="cloudCallout">
            <a:avLst>
              <a:gd name="adj1" fmla="val 39291"/>
              <a:gd name="adj2" fmla="val -129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324000" y="1773360"/>
            <a:ext cx="2016000" cy="647640"/>
          </a:xfrm>
          <a:prstGeom prst="cloudCallout">
            <a:avLst>
              <a:gd name="adj1" fmla="val 20629"/>
              <a:gd name="adj2" fmla="val -4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-181080" y="5516640"/>
            <a:ext cx="9721800" cy="1512720"/>
          </a:xfrm>
          <a:prstGeom prst="rect">
            <a:avLst/>
          </a:prstGeom>
          <a:gradFill rotWithShape="0">
            <a:gsLst>
              <a:gs pos="0">
                <a:srgbClr val="5674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46836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702000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46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3059280" y="5157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4"/>
          <p:cNvSpPr/>
          <p:nvPr/>
        </p:nvSpPr>
        <p:spPr>
          <a:xfrm>
            <a:off x="539640" y="5445000"/>
            <a:ext cx="748836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4600 m. = 4 x 1000 = 4 x 6 = 2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 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600 m. = 6 x   100 = 6 x 0,6 = 3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24 + 3,6 = 27,6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– 27,6 =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rebuchet MS"/>
              </a:rPr>
              <a:t>-6,6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5"/>
          <p:cNvSpPr/>
          <p:nvPr/>
        </p:nvSpPr>
        <p:spPr>
          <a:xfrm>
            <a:off x="179280" y="263700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3399"/>
                </a:solidFill>
                <a:latin typeface="Trebuchet MS"/>
              </a:rPr>
              <a:t>Wat is de temperatuur op de top van deze ber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826920" y="1557360"/>
            <a:ext cx="770580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3 Ligging aan ze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Gebieden dichtbij zee hebben vaak veel zee-invloed. Zeewind brengt </a:t>
            </a:r>
            <a:r>
              <a:rPr b="1" lang="en-US" sz="3200" spc="-1" strike="noStrike">
                <a:solidFill>
                  <a:srgbClr val="3399ff"/>
                </a:solidFill>
                <a:latin typeface="Trebuchet MS"/>
              </a:rPr>
              <a:t>verkoel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in de zomer en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verwarm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in de winter. Verder landinwaarts is de zee-invloed minder te merken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8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5092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0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8172360" y="6165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507672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5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3419640" y="4832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8"/>
          <p:cNvSpPr/>
          <p:nvPr/>
        </p:nvSpPr>
        <p:spPr>
          <a:xfrm>
            <a:off x="673272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4643280" y="6093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7451640" y="5445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25092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867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>
            <a:off x="4861080" y="5516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7"/>
          <p:cNvSpPr/>
          <p:nvPr/>
        </p:nvSpPr>
        <p:spPr>
          <a:xfrm>
            <a:off x="8244000" y="5445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9"/>
          <p:cNvSpPr/>
          <p:nvPr/>
        </p:nvSpPr>
        <p:spPr>
          <a:xfrm>
            <a:off x="709308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0"/>
          <p:cNvSpPr/>
          <p:nvPr/>
        </p:nvSpPr>
        <p:spPr>
          <a:xfrm>
            <a:off x="4356000" y="6165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1"/>
          <p:cNvSpPr/>
          <p:nvPr/>
        </p:nvSpPr>
        <p:spPr>
          <a:xfrm>
            <a:off x="7380360" y="6165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10800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804000" y="6093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507672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ff7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3419640" y="4832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10800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5867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806436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ff7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5005440" y="5479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7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8"/>
          <p:cNvSpPr/>
          <p:nvPr/>
        </p:nvSpPr>
        <p:spPr>
          <a:xfrm>
            <a:off x="759636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9"/>
          <p:cNvSpPr/>
          <p:nvPr/>
        </p:nvSpPr>
        <p:spPr>
          <a:xfrm>
            <a:off x="709308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0"/>
          <p:cNvSpPr/>
          <p:nvPr/>
        </p:nvSpPr>
        <p:spPr>
          <a:xfrm>
            <a:off x="421164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3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6920" y="1557360"/>
            <a:ext cx="77058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4 Ligging van gebergt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Bergen houden warme of koude wind tegen. Aan de loefzijde valt de meeste regen. Aan de lijzijde valt weinig neerslag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20"/>
          <p:cNvSpPr/>
          <p:nvPr/>
        </p:nvSpPr>
        <p:spPr>
          <a:xfrm>
            <a:off x="3708360" y="3429000"/>
            <a:ext cx="4751280" cy="248904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489040"/>
              <a:gd name="textAreaBottom" fmla="*/ 2489400 h 2489040"/>
            </a:gdLst>
            <a:ahLst/>
            <a:rect l="textAreaLeft" t="textAreaTop" r="textAreaRight" b="textAreaBottom"/>
            <a:pathLst>
              <a:path w="2328" h="1568">
                <a:moveTo>
                  <a:pt x="0" y="1560"/>
                </a:moveTo>
                <a:cubicBezTo>
                  <a:pt x="16" y="1555"/>
                  <a:pt x="34" y="1553"/>
                  <a:pt x="48" y="1544"/>
                </a:cubicBezTo>
                <a:cubicBezTo>
                  <a:pt x="61" y="1536"/>
                  <a:pt x="74" y="1526"/>
                  <a:pt x="88" y="1520"/>
                </a:cubicBezTo>
                <a:cubicBezTo>
                  <a:pt x="138" y="1498"/>
                  <a:pt x="138" y="1508"/>
                  <a:pt x="192" y="1472"/>
                </a:cubicBezTo>
                <a:cubicBezTo>
                  <a:pt x="208" y="1461"/>
                  <a:pt x="224" y="1451"/>
                  <a:pt x="240" y="1440"/>
                </a:cubicBezTo>
                <a:cubicBezTo>
                  <a:pt x="248" y="1435"/>
                  <a:pt x="264" y="1424"/>
                  <a:pt x="264" y="1424"/>
                </a:cubicBezTo>
                <a:cubicBezTo>
                  <a:pt x="275" y="1408"/>
                  <a:pt x="285" y="1392"/>
                  <a:pt x="296" y="1376"/>
                </a:cubicBezTo>
                <a:cubicBezTo>
                  <a:pt x="301" y="1368"/>
                  <a:pt x="312" y="1352"/>
                  <a:pt x="312" y="1352"/>
                </a:cubicBezTo>
                <a:cubicBezTo>
                  <a:pt x="323" y="1307"/>
                  <a:pt x="340" y="1275"/>
                  <a:pt x="376" y="1248"/>
                </a:cubicBezTo>
                <a:cubicBezTo>
                  <a:pt x="394" y="1194"/>
                  <a:pt x="369" y="1253"/>
                  <a:pt x="408" y="1208"/>
                </a:cubicBezTo>
                <a:cubicBezTo>
                  <a:pt x="434" y="1178"/>
                  <a:pt x="452" y="1140"/>
                  <a:pt x="480" y="1112"/>
                </a:cubicBezTo>
                <a:cubicBezTo>
                  <a:pt x="489" y="1103"/>
                  <a:pt x="503" y="1098"/>
                  <a:pt x="512" y="1088"/>
                </a:cubicBezTo>
                <a:cubicBezTo>
                  <a:pt x="538" y="1059"/>
                  <a:pt x="560" y="1016"/>
                  <a:pt x="584" y="984"/>
                </a:cubicBezTo>
                <a:cubicBezTo>
                  <a:pt x="592" y="795"/>
                  <a:pt x="564" y="696"/>
                  <a:pt x="720" y="592"/>
                </a:cubicBezTo>
                <a:cubicBezTo>
                  <a:pt x="763" y="528"/>
                  <a:pt x="707" y="605"/>
                  <a:pt x="760" y="552"/>
                </a:cubicBezTo>
                <a:cubicBezTo>
                  <a:pt x="781" y="531"/>
                  <a:pt x="780" y="502"/>
                  <a:pt x="800" y="480"/>
                </a:cubicBezTo>
                <a:cubicBezTo>
                  <a:pt x="815" y="463"/>
                  <a:pt x="835" y="451"/>
                  <a:pt x="848" y="432"/>
                </a:cubicBezTo>
                <a:cubicBezTo>
                  <a:pt x="859" y="416"/>
                  <a:pt x="880" y="384"/>
                  <a:pt x="880" y="384"/>
                </a:cubicBezTo>
                <a:cubicBezTo>
                  <a:pt x="894" y="330"/>
                  <a:pt x="919" y="298"/>
                  <a:pt x="952" y="256"/>
                </a:cubicBezTo>
                <a:cubicBezTo>
                  <a:pt x="976" y="225"/>
                  <a:pt x="984" y="189"/>
                  <a:pt x="1008" y="160"/>
                </a:cubicBezTo>
                <a:cubicBezTo>
                  <a:pt x="1040" y="122"/>
                  <a:pt x="1022" y="149"/>
                  <a:pt x="1056" y="120"/>
                </a:cubicBezTo>
                <a:cubicBezTo>
                  <a:pt x="1109" y="75"/>
                  <a:pt x="1164" y="23"/>
                  <a:pt x="1232" y="0"/>
                </a:cubicBezTo>
                <a:cubicBezTo>
                  <a:pt x="1253" y="3"/>
                  <a:pt x="1276" y="1"/>
                  <a:pt x="1296" y="8"/>
                </a:cubicBezTo>
                <a:cubicBezTo>
                  <a:pt x="1309" y="12"/>
                  <a:pt x="1316" y="26"/>
                  <a:pt x="1328" y="32"/>
                </a:cubicBezTo>
                <a:cubicBezTo>
                  <a:pt x="1338" y="37"/>
                  <a:pt x="1349" y="37"/>
                  <a:pt x="1360" y="40"/>
                </a:cubicBezTo>
                <a:cubicBezTo>
                  <a:pt x="1399" y="79"/>
                  <a:pt x="1457" y="97"/>
                  <a:pt x="1504" y="128"/>
                </a:cubicBezTo>
                <a:cubicBezTo>
                  <a:pt x="1523" y="141"/>
                  <a:pt x="1528" y="168"/>
                  <a:pt x="1544" y="184"/>
                </a:cubicBezTo>
                <a:cubicBezTo>
                  <a:pt x="1553" y="193"/>
                  <a:pt x="1565" y="200"/>
                  <a:pt x="1576" y="208"/>
                </a:cubicBezTo>
                <a:cubicBezTo>
                  <a:pt x="1579" y="267"/>
                  <a:pt x="1572" y="326"/>
                  <a:pt x="1584" y="384"/>
                </a:cubicBezTo>
                <a:cubicBezTo>
                  <a:pt x="1587" y="397"/>
                  <a:pt x="1606" y="399"/>
                  <a:pt x="1616" y="408"/>
                </a:cubicBezTo>
                <a:cubicBezTo>
                  <a:pt x="1664" y="451"/>
                  <a:pt x="1707" y="509"/>
                  <a:pt x="1760" y="544"/>
                </a:cubicBezTo>
                <a:cubicBezTo>
                  <a:pt x="1770" y="559"/>
                  <a:pt x="1774" y="577"/>
                  <a:pt x="1784" y="592"/>
                </a:cubicBezTo>
                <a:cubicBezTo>
                  <a:pt x="1790" y="601"/>
                  <a:pt x="1801" y="607"/>
                  <a:pt x="1808" y="616"/>
                </a:cubicBezTo>
                <a:cubicBezTo>
                  <a:pt x="1827" y="639"/>
                  <a:pt x="1839" y="668"/>
                  <a:pt x="1848" y="696"/>
                </a:cubicBezTo>
                <a:cubicBezTo>
                  <a:pt x="1851" y="715"/>
                  <a:pt x="1849" y="734"/>
                  <a:pt x="1856" y="752"/>
                </a:cubicBezTo>
                <a:cubicBezTo>
                  <a:pt x="1868" y="781"/>
                  <a:pt x="1917" y="794"/>
                  <a:pt x="1936" y="816"/>
                </a:cubicBezTo>
                <a:cubicBezTo>
                  <a:pt x="1949" y="830"/>
                  <a:pt x="1968" y="864"/>
                  <a:pt x="1968" y="864"/>
                </a:cubicBezTo>
                <a:cubicBezTo>
                  <a:pt x="1961" y="945"/>
                  <a:pt x="1954" y="940"/>
                  <a:pt x="1968" y="1008"/>
                </a:cubicBezTo>
                <a:cubicBezTo>
                  <a:pt x="1976" y="1047"/>
                  <a:pt x="2008" y="1076"/>
                  <a:pt x="2024" y="1112"/>
                </a:cubicBezTo>
                <a:cubicBezTo>
                  <a:pt x="2046" y="1163"/>
                  <a:pt x="2014" y="1105"/>
                  <a:pt x="2040" y="1184"/>
                </a:cubicBezTo>
                <a:cubicBezTo>
                  <a:pt x="2047" y="1205"/>
                  <a:pt x="2067" y="1215"/>
                  <a:pt x="2080" y="1232"/>
                </a:cubicBezTo>
                <a:cubicBezTo>
                  <a:pt x="2092" y="1247"/>
                  <a:pt x="2112" y="1280"/>
                  <a:pt x="2112" y="1280"/>
                </a:cubicBezTo>
                <a:cubicBezTo>
                  <a:pt x="2115" y="1291"/>
                  <a:pt x="2119" y="1301"/>
                  <a:pt x="2120" y="1312"/>
                </a:cubicBezTo>
                <a:cubicBezTo>
                  <a:pt x="2124" y="1347"/>
                  <a:pt x="2122" y="1382"/>
                  <a:pt x="2128" y="1416"/>
                </a:cubicBezTo>
                <a:cubicBezTo>
                  <a:pt x="2130" y="1425"/>
                  <a:pt x="2140" y="1431"/>
                  <a:pt x="2144" y="1440"/>
                </a:cubicBezTo>
                <a:cubicBezTo>
                  <a:pt x="2148" y="1448"/>
                  <a:pt x="2146" y="1458"/>
                  <a:pt x="2152" y="1464"/>
                </a:cubicBezTo>
                <a:cubicBezTo>
                  <a:pt x="2158" y="1470"/>
                  <a:pt x="2168" y="1468"/>
                  <a:pt x="2176" y="1472"/>
                </a:cubicBezTo>
                <a:cubicBezTo>
                  <a:pt x="2228" y="1498"/>
                  <a:pt x="2171" y="1477"/>
                  <a:pt x="2224" y="1512"/>
                </a:cubicBezTo>
                <a:cubicBezTo>
                  <a:pt x="2257" y="1534"/>
                  <a:pt x="2299" y="1539"/>
                  <a:pt x="2328" y="1568"/>
                </a:cubicBez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6b47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 rot="9880800">
            <a:off x="754920" y="6236640"/>
            <a:ext cx="2592360" cy="819000"/>
          </a:xfrm>
          <a:prstGeom prst="rtTriangle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203640" y="5877000"/>
            <a:ext cx="6119640" cy="720720"/>
          </a:xfrm>
          <a:prstGeom prst="rect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7236000" y="2276640"/>
            <a:ext cx="158400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2916360" y="50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8064360" y="45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4"/>
          <p:cNvSpPr/>
          <p:nvPr/>
        </p:nvSpPr>
        <p:spPr>
          <a:xfrm>
            <a:off x="2195640" y="544500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f72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1116000" y="5373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8"/>
          <p:cNvSpPr/>
          <p:nvPr/>
        </p:nvSpPr>
        <p:spPr>
          <a:xfrm>
            <a:off x="3059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9"/>
          <p:cNvSpPr/>
          <p:nvPr/>
        </p:nvSpPr>
        <p:spPr>
          <a:xfrm>
            <a:off x="673272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21"/>
          <p:cNvSpPr/>
          <p:nvPr/>
        </p:nvSpPr>
        <p:spPr>
          <a:xfrm>
            <a:off x="5651640" y="344016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48" h="632">
                <a:moveTo>
                  <a:pt x="424" y="1"/>
                </a:moveTo>
                <a:cubicBezTo>
                  <a:pt x="384" y="4"/>
                  <a:pt x="343" y="0"/>
                  <a:pt x="304" y="9"/>
                </a:cubicBezTo>
                <a:cubicBezTo>
                  <a:pt x="289" y="13"/>
                  <a:pt x="286" y="48"/>
                  <a:pt x="280" y="57"/>
                </a:cubicBezTo>
                <a:cubicBezTo>
                  <a:pt x="263" y="82"/>
                  <a:pt x="208" y="113"/>
                  <a:pt x="208" y="113"/>
                </a:cubicBezTo>
                <a:cubicBezTo>
                  <a:pt x="203" y="121"/>
                  <a:pt x="199" y="130"/>
                  <a:pt x="192" y="137"/>
                </a:cubicBezTo>
                <a:cubicBezTo>
                  <a:pt x="185" y="144"/>
                  <a:pt x="174" y="146"/>
                  <a:pt x="168" y="153"/>
                </a:cubicBezTo>
                <a:cubicBezTo>
                  <a:pt x="129" y="198"/>
                  <a:pt x="123" y="255"/>
                  <a:pt x="72" y="289"/>
                </a:cubicBezTo>
                <a:cubicBezTo>
                  <a:pt x="66" y="306"/>
                  <a:pt x="51" y="319"/>
                  <a:pt x="48" y="337"/>
                </a:cubicBezTo>
                <a:cubicBezTo>
                  <a:pt x="41" y="374"/>
                  <a:pt x="49" y="413"/>
                  <a:pt x="40" y="449"/>
                </a:cubicBezTo>
                <a:cubicBezTo>
                  <a:pt x="33" y="476"/>
                  <a:pt x="9" y="495"/>
                  <a:pt x="0" y="521"/>
                </a:cubicBezTo>
                <a:cubicBezTo>
                  <a:pt x="37" y="632"/>
                  <a:pt x="14" y="589"/>
                  <a:pt x="296" y="537"/>
                </a:cubicBezTo>
                <a:cubicBezTo>
                  <a:pt x="313" y="534"/>
                  <a:pt x="312" y="489"/>
                  <a:pt x="312" y="489"/>
                </a:cubicBezTo>
                <a:cubicBezTo>
                  <a:pt x="309" y="468"/>
                  <a:pt x="311" y="445"/>
                  <a:pt x="304" y="425"/>
                </a:cubicBezTo>
                <a:cubicBezTo>
                  <a:pt x="300" y="414"/>
                  <a:pt x="286" y="410"/>
                  <a:pt x="280" y="401"/>
                </a:cubicBezTo>
                <a:cubicBezTo>
                  <a:pt x="275" y="394"/>
                  <a:pt x="275" y="385"/>
                  <a:pt x="272" y="377"/>
                </a:cubicBezTo>
                <a:cubicBezTo>
                  <a:pt x="277" y="369"/>
                  <a:pt x="284" y="362"/>
                  <a:pt x="288" y="353"/>
                </a:cubicBezTo>
                <a:cubicBezTo>
                  <a:pt x="295" y="338"/>
                  <a:pt x="304" y="305"/>
                  <a:pt x="304" y="305"/>
                </a:cubicBezTo>
                <a:cubicBezTo>
                  <a:pt x="331" y="308"/>
                  <a:pt x="384" y="335"/>
                  <a:pt x="392" y="289"/>
                </a:cubicBezTo>
                <a:cubicBezTo>
                  <a:pt x="398" y="255"/>
                  <a:pt x="354" y="255"/>
                  <a:pt x="336" y="249"/>
                </a:cubicBezTo>
                <a:cubicBezTo>
                  <a:pt x="328" y="246"/>
                  <a:pt x="312" y="241"/>
                  <a:pt x="312" y="241"/>
                </a:cubicBezTo>
                <a:cubicBezTo>
                  <a:pt x="305" y="221"/>
                  <a:pt x="309" y="138"/>
                  <a:pt x="336" y="129"/>
                </a:cubicBezTo>
                <a:cubicBezTo>
                  <a:pt x="361" y="121"/>
                  <a:pt x="389" y="124"/>
                  <a:pt x="416" y="121"/>
                </a:cubicBezTo>
                <a:cubicBezTo>
                  <a:pt x="435" y="93"/>
                  <a:pt x="437" y="65"/>
                  <a:pt x="448" y="33"/>
                </a:cubicBezTo>
                <a:cubicBezTo>
                  <a:pt x="430" y="6"/>
                  <a:pt x="439" y="16"/>
                  <a:pt x="424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22"/>
          <p:cNvSpPr/>
          <p:nvPr/>
        </p:nvSpPr>
        <p:spPr>
          <a:xfrm>
            <a:off x="6365880" y="3492360"/>
            <a:ext cx="538200" cy="650880"/>
          </a:xfrm>
          <a:custGeom>
            <a:avLst/>
            <a:gdLst>
              <a:gd name="textAreaLeft" fmla="*/ 0 w 538200"/>
              <a:gd name="textAreaRight" fmla="*/ 538560 w 5382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39" h="410">
                <a:moveTo>
                  <a:pt x="118" y="32"/>
                </a:moveTo>
                <a:cubicBezTo>
                  <a:pt x="155" y="44"/>
                  <a:pt x="183" y="51"/>
                  <a:pt x="214" y="72"/>
                </a:cubicBezTo>
                <a:cubicBezTo>
                  <a:pt x="227" y="112"/>
                  <a:pt x="228" y="138"/>
                  <a:pt x="270" y="152"/>
                </a:cubicBezTo>
                <a:cubicBezTo>
                  <a:pt x="290" y="211"/>
                  <a:pt x="274" y="188"/>
                  <a:pt x="310" y="224"/>
                </a:cubicBezTo>
                <a:cubicBezTo>
                  <a:pt x="325" y="268"/>
                  <a:pt x="339" y="322"/>
                  <a:pt x="318" y="368"/>
                </a:cubicBezTo>
                <a:cubicBezTo>
                  <a:pt x="313" y="378"/>
                  <a:pt x="297" y="373"/>
                  <a:pt x="286" y="376"/>
                </a:cubicBezTo>
                <a:cubicBezTo>
                  <a:pt x="252" y="410"/>
                  <a:pt x="268" y="406"/>
                  <a:pt x="206" y="392"/>
                </a:cubicBezTo>
                <a:cubicBezTo>
                  <a:pt x="190" y="388"/>
                  <a:pt x="158" y="376"/>
                  <a:pt x="158" y="376"/>
                </a:cubicBezTo>
                <a:cubicBezTo>
                  <a:pt x="155" y="366"/>
                  <a:pt x="146" y="333"/>
                  <a:pt x="134" y="328"/>
                </a:cubicBezTo>
                <a:cubicBezTo>
                  <a:pt x="128" y="325"/>
                  <a:pt x="74" y="356"/>
                  <a:pt x="62" y="360"/>
                </a:cubicBezTo>
                <a:cubicBezTo>
                  <a:pt x="6" y="349"/>
                  <a:pt x="8" y="350"/>
                  <a:pt x="22" y="296"/>
                </a:cubicBezTo>
                <a:cubicBezTo>
                  <a:pt x="15" y="224"/>
                  <a:pt x="0" y="178"/>
                  <a:pt x="62" y="136"/>
                </a:cubicBezTo>
                <a:cubicBezTo>
                  <a:pt x="82" y="105"/>
                  <a:pt x="91" y="100"/>
                  <a:pt x="126" y="112"/>
                </a:cubicBezTo>
                <a:cubicBezTo>
                  <a:pt x="131" y="120"/>
                  <a:pt x="133" y="132"/>
                  <a:pt x="142" y="136"/>
                </a:cubicBezTo>
                <a:cubicBezTo>
                  <a:pt x="184" y="153"/>
                  <a:pt x="159" y="89"/>
                  <a:pt x="158" y="88"/>
                </a:cubicBezTo>
                <a:cubicBezTo>
                  <a:pt x="146" y="76"/>
                  <a:pt x="126" y="77"/>
                  <a:pt x="110" y="72"/>
                </a:cubicBezTo>
                <a:cubicBezTo>
                  <a:pt x="102" y="69"/>
                  <a:pt x="86" y="64"/>
                  <a:pt x="86" y="64"/>
                </a:cubicBezTo>
                <a:cubicBezTo>
                  <a:pt x="83" y="53"/>
                  <a:pt x="85" y="41"/>
                  <a:pt x="78" y="32"/>
                </a:cubicBezTo>
                <a:cubicBezTo>
                  <a:pt x="73" y="25"/>
                  <a:pt x="54" y="32"/>
                  <a:pt x="54" y="24"/>
                </a:cubicBezTo>
                <a:cubicBezTo>
                  <a:pt x="54" y="14"/>
                  <a:pt x="96" y="2"/>
                  <a:pt x="102" y="0"/>
                </a:cubicBezTo>
                <a:cubicBezTo>
                  <a:pt x="111" y="3"/>
                  <a:pt x="149" y="10"/>
                  <a:pt x="142" y="32"/>
                </a:cubicBezTo>
                <a:cubicBezTo>
                  <a:pt x="139" y="40"/>
                  <a:pt x="126" y="32"/>
                  <a:pt x="118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3"/>
          <p:cNvSpPr/>
          <p:nvPr/>
        </p:nvSpPr>
        <p:spPr>
          <a:xfrm>
            <a:off x="6230880" y="4078440"/>
            <a:ext cx="542880" cy="537840"/>
          </a:xfrm>
          <a:custGeom>
            <a:avLst/>
            <a:gdLst>
              <a:gd name="textAreaLeft" fmla="*/ 0 w 542880"/>
              <a:gd name="textAreaRight" fmla="*/ 543240 w 54288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342" h="339">
                <a:moveTo>
                  <a:pt x="51" y="39"/>
                </a:moveTo>
                <a:cubicBezTo>
                  <a:pt x="104" y="57"/>
                  <a:pt x="95" y="62"/>
                  <a:pt x="163" y="71"/>
                </a:cubicBezTo>
                <a:cubicBezTo>
                  <a:pt x="217" y="89"/>
                  <a:pt x="275" y="84"/>
                  <a:pt x="331" y="95"/>
                </a:cubicBezTo>
                <a:cubicBezTo>
                  <a:pt x="334" y="103"/>
                  <a:pt x="342" y="111"/>
                  <a:pt x="339" y="119"/>
                </a:cubicBezTo>
                <a:cubicBezTo>
                  <a:pt x="333" y="134"/>
                  <a:pt x="268" y="150"/>
                  <a:pt x="267" y="151"/>
                </a:cubicBezTo>
                <a:cubicBezTo>
                  <a:pt x="216" y="185"/>
                  <a:pt x="208" y="189"/>
                  <a:pt x="147" y="199"/>
                </a:cubicBezTo>
                <a:cubicBezTo>
                  <a:pt x="137" y="239"/>
                  <a:pt x="134" y="273"/>
                  <a:pt x="91" y="287"/>
                </a:cubicBezTo>
                <a:cubicBezTo>
                  <a:pt x="86" y="295"/>
                  <a:pt x="83" y="305"/>
                  <a:pt x="75" y="311"/>
                </a:cubicBezTo>
                <a:cubicBezTo>
                  <a:pt x="39" y="339"/>
                  <a:pt x="34" y="285"/>
                  <a:pt x="27" y="263"/>
                </a:cubicBezTo>
                <a:cubicBezTo>
                  <a:pt x="35" y="233"/>
                  <a:pt x="49" y="212"/>
                  <a:pt x="59" y="183"/>
                </a:cubicBezTo>
                <a:cubicBezTo>
                  <a:pt x="33" y="131"/>
                  <a:pt x="46" y="102"/>
                  <a:pt x="27" y="55"/>
                </a:cubicBezTo>
                <a:cubicBezTo>
                  <a:pt x="23" y="46"/>
                  <a:pt x="11" y="44"/>
                  <a:pt x="3" y="39"/>
                </a:cubicBezTo>
                <a:cubicBezTo>
                  <a:pt x="6" y="28"/>
                  <a:pt x="0" y="10"/>
                  <a:pt x="11" y="7"/>
                </a:cubicBezTo>
                <a:cubicBezTo>
                  <a:pt x="37" y="0"/>
                  <a:pt x="68" y="2"/>
                  <a:pt x="91" y="15"/>
                </a:cubicBezTo>
                <a:cubicBezTo>
                  <a:pt x="101" y="20"/>
                  <a:pt x="92" y="41"/>
                  <a:pt x="83" y="47"/>
                </a:cubicBezTo>
                <a:cubicBezTo>
                  <a:pt x="74" y="53"/>
                  <a:pt x="62" y="42"/>
                  <a:pt x="51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24"/>
          <p:cNvSpPr/>
          <p:nvPr/>
        </p:nvSpPr>
        <p:spPr>
          <a:xfrm rot="17427000">
            <a:off x="3708360" y="465300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gradFill rotWithShape="0">
            <a:gsLst>
              <a:gs pos="0">
                <a:srgbClr val="f72130"/>
              </a:gs>
              <a:gs pos="100000">
                <a:srgbClr val="333399"/>
              </a:gs>
            </a:gsLst>
            <a:lin ang="41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25"/>
          <p:cNvSpPr/>
          <p:nvPr/>
        </p:nvSpPr>
        <p:spPr>
          <a:xfrm>
            <a:off x="3708360" y="3573360"/>
            <a:ext cx="1584360" cy="576360"/>
          </a:xfrm>
          <a:prstGeom prst="cloudCallout">
            <a:avLst>
              <a:gd name="adj1" fmla="val -22143"/>
              <a:gd name="adj2" fmla="val 19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6"/>
          <p:cNvSpPr/>
          <p:nvPr/>
        </p:nvSpPr>
        <p:spPr>
          <a:xfrm flipH="1">
            <a:off x="385092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7"/>
          <p:cNvSpPr/>
          <p:nvPr/>
        </p:nvSpPr>
        <p:spPr>
          <a:xfrm flipH="1">
            <a:off x="406692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8"/>
          <p:cNvSpPr/>
          <p:nvPr/>
        </p:nvSpPr>
        <p:spPr>
          <a:xfrm flipH="1">
            <a:off x="421128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9"/>
          <p:cNvSpPr/>
          <p:nvPr/>
        </p:nvSpPr>
        <p:spPr>
          <a:xfrm>
            <a:off x="4643280" y="4149720"/>
            <a:ext cx="217800" cy="216000"/>
          </a:xfrm>
          <a:custGeom>
            <a:avLst/>
            <a:gdLst>
              <a:gd name="textAreaLeft" fmla="*/ 67320 w 217800"/>
              <a:gd name="textAreaRight" fmla="*/ 150480 w 21780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17487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4" y="82467"/>
                </a:lnTo>
                <a:lnTo>
                  <a:pt x="217487" y="82466"/>
                </a:lnTo>
                <a:lnTo>
                  <a:pt x="150279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30"/>
          <p:cNvSpPr/>
          <p:nvPr/>
        </p:nvSpPr>
        <p:spPr>
          <a:xfrm>
            <a:off x="5003640" y="4005360"/>
            <a:ext cx="217800" cy="215640"/>
          </a:xfrm>
          <a:custGeom>
            <a:avLst/>
            <a:gdLst>
              <a:gd name="textAreaLeft" fmla="*/ 67320 w 217800"/>
              <a:gd name="textAreaRight" fmla="*/ 150480 w 217800"/>
              <a:gd name="textAreaTop" fmla="*/ 82440 h 215640"/>
              <a:gd name="textAreaBottom" fmla="*/ 164880 h 215640"/>
            </a:gdLst>
            <a:ahLst/>
            <a:rect l="textAreaLeft" t="textAreaTop" r="textAreaRight" b="textAreaBottom"/>
            <a:pathLst>
              <a:path w="217488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5" y="82467"/>
                </a:lnTo>
                <a:lnTo>
                  <a:pt x="217488" y="82466"/>
                </a:lnTo>
                <a:lnTo>
                  <a:pt x="150280" y="133433"/>
                </a:lnTo>
                <a:lnTo>
                  <a:pt x="175952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31"/>
          <p:cNvSpPr/>
          <p:nvPr/>
        </p:nvSpPr>
        <p:spPr>
          <a:xfrm>
            <a:off x="4859280" y="4221000"/>
            <a:ext cx="217440" cy="216000"/>
          </a:xfrm>
          <a:custGeom>
            <a:avLst/>
            <a:gdLst>
              <a:gd name="textAreaLeft" fmla="*/ 66960 w 217440"/>
              <a:gd name="textAreaRight" fmla="*/ 150480 w 21744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17487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4" y="82467"/>
                </a:lnTo>
                <a:lnTo>
                  <a:pt x="217487" y="82466"/>
                </a:lnTo>
                <a:lnTo>
                  <a:pt x="150279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4500720" y="486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oef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2"/>
          <p:cNvSpPr/>
          <p:nvPr/>
        </p:nvSpPr>
        <p:spPr>
          <a:xfrm>
            <a:off x="7561440" y="42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ij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3"/>
          <p:cNvSpPr/>
          <p:nvPr/>
        </p:nvSpPr>
        <p:spPr>
          <a:xfrm>
            <a:off x="17928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4"/>
          <p:cNvSpPr/>
          <p:nvPr/>
        </p:nvSpPr>
        <p:spPr>
          <a:xfrm>
            <a:off x="53964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5"/>
          <p:cNvSpPr/>
          <p:nvPr/>
        </p:nvSpPr>
        <p:spPr>
          <a:xfrm>
            <a:off x="1476360" y="3860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tuwings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36"/>
          <p:cNvSpPr/>
          <p:nvPr/>
        </p:nvSpPr>
        <p:spPr>
          <a:xfrm>
            <a:off x="0" y="5935680"/>
            <a:ext cx="2720880" cy="1573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714" h="99">
                <a:moveTo>
                  <a:pt x="0" y="37"/>
                </a:moveTo>
                <a:cubicBezTo>
                  <a:pt x="57" y="18"/>
                  <a:pt x="47" y="12"/>
                  <a:pt x="96" y="45"/>
                </a:cubicBezTo>
                <a:cubicBezTo>
                  <a:pt x="161" y="38"/>
                  <a:pt x="186" y="28"/>
                  <a:pt x="248" y="37"/>
                </a:cubicBezTo>
                <a:cubicBezTo>
                  <a:pt x="293" y="34"/>
                  <a:pt x="339" y="36"/>
                  <a:pt x="384" y="29"/>
                </a:cubicBezTo>
                <a:cubicBezTo>
                  <a:pt x="448" y="19"/>
                  <a:pt x="370" y="0"/>
                  <a:pt x="432" y="21"/>
                </a:cubicBezTo>
                <a:cubicBezTo>
                  <a:pt x="451" y="77"/>
                  <a:pt x="505" y="50"/>
                  <a:pt x="560" y="45"/>
                </a:cubicBezTo>
                <a:cubicBezTo>
                  <a:pt x="607" y="14"/>
                  <a:pt x="619" y="46"/>
                  <a:pt x="664" y="61"/>
                </a:cubicBezTo>
                <a:cubicBezTo>
                  <a:pt x="738" y="55"/>
                  <a:pt x="802" y="44"/>
                  <a:pt x="872" y="21"/>
                </a:cubicBezTo>
                <a:cubicBezTo>
                  <a:pt x="903" y="68"/>
                  <a:pt x="924" y="52"/>
                  <a:pt x="984" y="45"/>
                </a:cubicBezTo>
                <a:cubicBezTo>
                  <a:pt x="1013" y="35"/>
                  <a:pt x="1034" y="21"/>
                  <a:pt x="1064" y="13"/>
                </a:cubicBezTo>
                <a:cubicBezTo>
                  <a:pt x="1075" y="16"/>
                  <a:pt x="1087" y="14"/>
                  <a:pt x="1096" y="21"/>
                </a:cubicBezTo>
                <a:cubicBezTo>
                  <a:pt x="1103" y="26"/>
                  <a:pt x="1098" y="39"/>
                  <a:pt x="1104" y="45"/>
                </a:cubicBezTo>
                <a:cubicBezTo>
                  <a:pt x="1110" y="51"/>
                  <a:pt x="1120" y="50"/>
                  <a:pt x="1128" y="53"/>
                </a:cubicBezTo>
                <a:cubicBezTo>
                  <a:pt x="1295" y="23"/>
                  <a:pt x="1162" y="55"/>
                  <a:pt x="1248" y="21"/>
                </a:cubicBezTo>
                <a:cubicBezTo>
                  <a:pt x="1264" y="15"/>
                  <a:pt x="1296" y="5"/>
                  <a:pt x="1296" y="5"/>
                </a:cubicBezTo>
                <a:cubicBezTo>
                  <a:pt x="1322" y="22"/>
                  <a:pt x="1334" y="44"/>
                  <a:pt x="1360" y="61"/>
                </a:cubicBezTo>
                <a:cubicBezTo>
                  <a:pt x="1406" y="54"/>
                  <a:pt x="1427" y="54"/>
                  <a:pt x="1464" y="29"/>
                </a:cubicBezTo>
                <a:cubicBezTo>
                  <a:pt x="1491" y="32"/>
                  <a:pt x="1519" y="28"/>
                  <a:pt x="1544" y="37"/>
                </a:cubicBezTo>
                <a:cubicBezTo>
                  <a:pt x="1552" y="40"/>
                  <a:pt x="1544" y="59"/>
                  <a:pt x="1552" y="61"/>
                </a:cubicBezTo>
                <a:cubicBezTo>
                  <a:pt x="1568" y="65"/>
                  <a:pt x="1584" y="56"/>
                  <a:pt x="1600" y="53"/>
                </a:cubicBezTo>
                <a:cubicBezTo>
                  <a:pt x="1694" y="62"/>
                  <a:pt x="1714" y="48"/>
                  <a:pt x="1672" y="69"/>
                </a:cubicBezTo>
                <a:lnTo>
                  <a:pt x="22" y="99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reeform 2"/>
          <p:cNvSpPr/>
          <p:nvPr/>
        </p:nvSpPr>
        <p:spPr>
          <a:xfrm>
            <a:off x="3708360" y="3429000"/>
            <a:ext cx="4751280" cy="248904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489040"/>
              <a:gd name="textAreaBottom" fmla="*/ 2489400 h 2489040"/>
            </a:gdLst>
            <a:ahLst/>
            <a:rect l="textAreaLeft" t="textAreaTop" r="textAreaRight" b="textAreaBottom"/>
            <a:pathLst>
              <a:path w="2328" h="1568">
                <a:moveTo>
                  <a:pt x="0" y="1560"/>
                </a:moveTo>
                <a:cubicBezTo>
                  <a:pt x="16" y="1555"/>
                  <a:pt x="34" y="1553"/>
                  <a:pt x="48" y="1544"/>
                </a:cubicBezTo>
                <a:cubicBezTo>
                  <a:pt x="61" y="1536"/>
                  <a:pt x="74" y="1526"/>
                  <a:pt x="88" y="1520"/>
                </a:cubicBezTo>
                <a:cubicBezTo>
                  <a:pt x="138" y="1498"/>
                  <a:pt x="138" y="1508"/>
                  <a:pt x="192" y="1472"/>
                </a:cubicBezTo>
                <a:cubicBezTo>
                  <a:pt x="208" y="1461"/>
                  <a:pt x="224" y="1451"/>
                  <a:pt x="240" y="1440"/>
                </a:cubicBezTo>
                <a:cubicBezTo>
                  <a:pt x="248" y="1435"/>
                  <a:pt x="264" y="1424"/>
                  <a:pt x="264" y="1424"/>
                </a:cubicBezTo>
                <a:cubicBezTo>
                  <a:pt x="275" y="1408"/>
                  <a:pt x="285" y="1392"/>
                  <a:pt x="296" y="1376"/>
                </a:cubicBezTo>
                <a:cubicBezTo>
                  <a:pt x="301" y="1368"/>
                  <a:pt x="312" y="1352"/>
                  <a:pt x="312" y="1352"/>
                </a:cubicBezTo>
                <a:cubicBezTo>
                  <a:pt x="323" y="1307"/>
                  <a:pt x="340" y="1275"/>
                  <a:pt x="376" y="1248"/>
                </a:cubicBezTo>
                <a:cubicBezTo>
                  <a:pt x="394" y="1194"/>
                  <a:pt x="369" y="1253"/>
                  <a:pt x="408" y="1208"/>
                </a:cubicBezTo>
                <a:cubicBezTo>
                  <a:pt x="434" y="1178"/>
                  <a:pt x="452" y="1140"/>
                  <a:pt x="480" y="1112"/>
                </a:cubicBezTo>
                <a:cubicBezTo>
                  <a:pt x="489" y="1103"/>
                  <a:pt x="503" y="1098"/>
                  <a:pt x="512" y="1088"/>
                </a:cubicBezTo>
                <a:cubicBezTo>
                  <a:pt x="538" y="1059"/>
                  <a:pt x="560" y="1016"/>
                  <a:pt x="584" y="984"/>
                </a:cubicBezTo>
                <a:cubicBezTo>
                  <a:pt x="592" y="795"/>
                  <a:pt x="564" y="696"/>
                  <a:pt x="720" y="592"/>
                </a:cubicBezTo>
                <a:cubicBezTo>
                  <a:pt x="763" y="528"/>
                  <a:pt x="707" y="605"/>
                  <a:pt x="760" y="552"/>
                </a:cubicBezTo>
                <a:cubicBezTo>
                  <a:pt x="781" y="531"/>
                  <a:pt x="780" y="502"/>
                  <a:pt x="800" y="480"/>
                </a:cubicBezTo>
                <a:cubicBezTo>
                  <a:pt x="815" y="463"/>
                  <a:pt x="835" y="451"/>
                  <a:pt x="848" y="432"/>
                </a:cubicBezTo>
                <a:cubicBezTo>
                  <a:pt x="859" y="416"/>
                  <a:pt x="880" y="384"/>
                  <a:pt x="880" y="384"/>
                </a:cubicBezTo>
                <a:cubicBezTo>
                  <a:pt x="894" y="330"/>
                  <a:pt x="919" y="298"/>
                  <a:pt x="952" y="256"/>
                </a:cubicBezTo>
                <a:cubicBezTo>
                  <a:pt x="976" y="225"/>
                  <a:pt x="984" y="189"/>
                  <a:pt x="1008" y="160"/>
                </a:cubicBezTo>
                <a:cubicBezTo>
                  <a:pt x="1040" y="122"/>
                  <a:pt x="1022" y="149"/>
                  <a:pt x="1056" y="120"/>
                </a:cubicBezTo>
                <a:cubicBezTo>
                  <a:pt x="1109" y="75"/>
                  <a:pt x="1164" y="23"/>
                  <a:pt x="1232" y="0"/>
                </a:cubicBezTo>
                <a:cubicBezTo>
                  <a:pt x="1253" y="3"/>
                  <a:pt x="1276" y="1"/>
                  <a:pt x="1296" y="8"/>
                </a:cubicBezTo>
                <a:cubicBezTo>
                  <a:pt x="1309" y="12"/>
                  <a:pt x="1316" y="26"/>
                  <a:pt x="1328" y="32"/>
                </a:cubicBezTo>
                <a:cubicBezTo>
                  <a:pt x="1338" y="37"/>
                  <a:pt x="1349" y="37"/>
                  <a:pt x="1360" y="40"/>
                </a:cubicBezTo>
                <a:cubicBezTo>
                  <a:pt x="1399" y="79"/>
                  <a:pt x="1457" y="97"/>
                  <a:pt x="1504" y="128"/>
                </a:cubicBezTo>
                <a:cubicBezTo>
                  <a:pt x="1523" y="141"/>
                  <a:pt x="1528" y="168"/>
                  <a:pt x="1544" y="184"/>
                </a:cubicBezTo>
                <a:cubicBezTo>
                  <a:pt x="1553" y="193"/>
                  <a:pt x="1565" y="200"/>
                  <a:pt x="1576" y="208"/>
                </a:cubicBezTo>
                <a:cubicBezTo>
                  <a:pt x="1579" y="267"/>
                  <a:pt x="1572" y="326"/>
                  <a:pt x="1584" y="384"/>
                </a:cubicBezTo>
                <a:cubicBezTo>
                  <a:pt x="1587" y="397"/>
                  <a:pt x="1606" y="399"/>
                  <a:pt x="1616" y="408"/>
                </a:cubicBezTo>
                <a:cubicBezTo>
                  <a:pt x="1664" y="451"/>
                  <a:pt x="1707" y="509"/>
                  <a:pt x="1760" y="544"/>
                </a:cubicBezTo>
                <a:cubicBezTo>
                  <a:pt x="1770" y="559"/>
                  <a:pt x="1774" y="577"/>
                  <a:pt x="1784" y="592"/>
                </a:cubicBezTo>
                <a:cubicBezTo>
                  <a:pt x="1790" y="601"/>
                  <a:pt x="1801" y="607"/>
                  <a:pt x="1808" y="616"/>
                </a:cubicBezTo>
                <a:cubicBezTo>
                  <a:pt x="1827" y="639"/>
                  <a:pt x="1839" y="668"/>
                  <a:pt x="1848" y="696"/>
                </a:cubicBezTo>
                <a:cubicBezTo>
                  <a:pt x="1851" y="715"/>
                  <a:pt x="1849" y="734"/>
                  <a:pt x="1856" y="752"/>
                </a:cubicBezTo>
                <a:cubicBezTo>
                  <a:pt x="1868" y="781"/>
                  <a:pt x="1917" y="794"/>
                  <a:pt x="1936" y="816"/>
                </a:cubicBezTo>
                <a:cubicBezTo>
                  <a:pt x="1949" y="830"/>
                  <a:pt x="1968" y="864"/>
                  <a:pt x="1968" y="864"/>
                </a:cubicBezTo>
                <a:cubicBezTo>
                  <a:pt x="1961" y="945"/>
                  <a:pt x="1954" y="940"/>
                  <a:pt x="1968" y="1008"/>
                </a:cubicBezTo>
                <a:cubicBezTo>
                  <a:pt x="1976" y="1047"/>
                  <a:pt x="2008" y="1076"/>
                  <a:pt x="2024" y="1112"/>
                </a:cubicBezTo>
                <a:cubicBezTo>
                  <a:pt x="2046" y="1163"/>
                  <a:pt x="2014" y="1105"/>
                  <a:pt x="2040" y="1184"/>
                </a:cubicBezTo>
                <a:cubicBezTo>
                  <a:pt x="2047" y="1205"/>
                  <a:pt x="2067" y="1215"/>
                  <a:pt x="2080" y="1232"/>
                </a:cubicBezTo>
                <a:cubicBezTo>
                  <a:pt x="2092" y="1247"/>
                  <a:pt x="2112" y="1280"/>
                  <a:pt x="2112" y="1280"/>
                </a:cubicBezTo>
                <a:cubicBezTo>
                  <a:pt x="2115" y="1291"/>
                  <a:pt x="2119" y="1301"/>
                  <a:pt x="2120" y="1312"/>
                </a:cubicBezTo>
                <a:cubicBezTo>
                  <a:pt x="2124" y="1347"/>
                  <a:pt x="2122" y="1382"/>
                  <a:pt x="2128" y="1416"/>
                </a:cubicBezTo>
                <a:cubicBezTo>
                  <a:pt x="2130" y="1425"/>
                  <a:pt x="2140" y="1431"/>
                  <a:pt x="2144" y="1440"/>
                </a:cubicBezTo>
                <a:cubicBezTo>
                  <a:pt x="2148" y="1448"/>
                  <a:pt x="2146" y="1458"/>
                  <a:pt x="2152" y="1464"/>
                </a:cubicBezTo>
                <a:cubicBezTo>
                  <a:pt x="2158" y="1470"/>
                  <a:pt x="2168" y="1468"/>
                  <a:pt x="2176" y="1472"/>
                </a:cubicBezTo>
                <a:cubicBezTo>
                  <a:pt x="2228" y="1498"/>
                  <a:pt x="2171" y="1477"/>
                  <a:pt x="2224" y="1512"/>
                </a:cubicBezTo>
                <a:cubicBezTo>
                  <a:pt x="2257" y="1534"/>
                  <a:pt x="2299" y="1539"/>
                  <a:pt x="2328" y="1568"/>
                </a:cubicBez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7"/>
          <p:cNvSpPr/>
          <p:nvPr/>
        </p:nvSpPr>
        <p:spPr>
          <a:xfrm rot="9880800">
            <a:off x="754920" y="6236640"/>
            <a:ext cx="2592360" cy="819000"/>
          </a:xfrm>
          <a:prstGeom prst="rtTriangl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3203640" y="5877000"/>
            <a:ext cx="6119640" cy="72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9"/>
          <p:cNvSpPr/>
          <p:nvPr/>
        </p:nvSpPr>
        <p:spPr>
          <a:xfrm>
            <a:off x="7236000" y="2276640"/>
            <a:ext cx="158400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2916360" y="50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8064360" y="45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-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3"/>
          <p:cNvSpPr/>
          <p:nvPr/>
        </p:nvSpPr>
        <p:spPr>
          <a:xfrm>
            <a:off x="2195640" y="544500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f72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1116000" y="5373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3059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6"/>
          <p:cNvSpPr/>
          <p:nvPr/>
        </p:nvSpPr>
        <p:spPr>
          <a:xfrm>
            <a:off x="752472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17"/>
          <p:cNvSpPr/>
          <p:nvPr/>
        </p:nvSpPr>
        <p:spPr>
          <a:xfrm>
            <a:off x="5651640" y="344016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48" h="632">
                <a:moveTo>
                  <a:pt x="424" y="1"/>
                </a:moveTo>
                <a:cubicBezTo>
                  <a:pt x="384" y="4"/>
                  <a:pt x="343" y="0"/>
                  <a:pt x="304" y="9"/>
                </a:cubicBezTo>
                <a:cubicBezTo>
                  <a:pt x="289" y="13"/>
                  <a:pt x="286" y="48"/>
                  <a:pt x="280" y="57"/>
                </a:cubicBezTo>
                <a:cubicBezTo>
                  <a:pt x="263" y="82"/>
                  <a:pt x="208" y="113"/>
                  <a:pt x="208" y="113"/>
                </a:cubicBezTo>
                <a:cubicBezTo>
                  <a:pt x="203" y="121"/>
                  <a:pt x="199" y="130"/>
                  <a:pt x="192" y="137"/>
                </a:cubicBezTo>
                <a:cubicBezTo>
                  <a:pt x="185" y="144"/>
                  <a:pt x="174" y="146"/>
                  <a:pt x="168" y="153"/>
                </a:cubicBezTo>
                <a:cubicBezTo>
                  <a:pt x="129" y="198"/>
                  <a:pt x="123" y="255"/>
                  <a:pt x="72" y="289"/>
                </a:cubicBezTo>
                <a:cubicBezTo>
                  <a:pt x="66" y="306"/>
                  <a:pt x="51" y="319"/>
                  <a:pt x="48" y="337"/>
                </a:cubicBezTo>
                <a:cubicBezTo>
                  <a:pt x="41" y="374"/>
                  <a:pt x="49" y="413"/>
                  <a:pt x="40" y="449"/>
                </a:cubicBezTo>
                <a:cubicBezTo>
                  <a:pt x="33" y="476"/>
                  <a:pt x="9" y="495"/>
                  <a:pt x="0" y="521"/>
                </a:cubicBezTo>
                <a:cubicBezTo>
                  <a:pt x="37" y="632"/>
                  <a:pt x="14" y="589"/>
                  <a:pt x="296" y="537"/>
                </a:cubicBezTo>
                <a:cubicBezTo>
                  <a:pt x="313" y="534"/>
                  <a:pt x="312" y="489"/>
                  <a:pt x="312" y="489"/>
                </a:cubicBezTo>
                <a:cubicBezTo>
                  <a:pt x="309" y="468"/>
                  <a:pt x="311" y="445"/>
                  <a:pt x="304" y="425"/>
                </a:cubicBezTo>
                <a:cubicBezTo>
                  <a:pt x="300" y="414"/>
                  <a:pt x="286" y="410"/>
                  <a:pt x="280" y="401"/>
                </a:cubicBezTo>
                <a:cubicBezTo>
                  <a:pt x="275" y="394"/>
                  <a:pt x="275" y="385"/>
                  <a:pt x="272" y="377"/>
                </a:cubicBezTo>
                <a:cubicBezTo>
                  <a:pt x="277" y="369"/>
                  <a:pt x="284" y="362"/>
                  <a:pt x="288" y="353"/>
                </a:cubicBezTo>
                <a:cubicBezTo>
                  <a:pt x="295" y="338"/>
                  <a:pt x="304" y="305"/>
                  <a:pt x="304" y="305"/>
                </a:cubicBezTo>
                <a:cubicBezTo>
                  <a:pt x="331" y="308"/>
                  <a:pt x="384" y="335"/>
                  <a:pt x="392" y="289"/>
                </a:cubicBezTo>
                <a:cubicBezTo>
                  <a:pt x="398" y="255"/>
                  <a:pt x="354" y="255"/>
                  <a:pt x="336" y="249"/>
                </a:cubicBezTo>
                <a:cubicBezTo>
                  <a:pt x="328" y="246"/>
                  <a:pt x="312" y="241"/>
                  <a:pt x="312" y="241"/>
                </a:cubicBezTo>
                <a:cubicBezTo>
                  <a:pt x="305" y="221"/>
                  <a:pt x="309" y="138"/>
                  <a:pt x="336" y="129"/>
                </a:cubicBezTo>
                <a:cubicBezTo>
                  <a:pt x="361" y="121"/>
                  <a:pt x="389" y="124"/>
                  <a:pt x="416" y="121"/>
                </a:cubicBezTo>
                <a:cubicBezTo>
                  <a:pt x="435" y="93"/>
                  <a:pt x="437" y="65"/>
                  <a:pt x="448" y="33"/>
                </a:cubicBezTo>
                <a:cubicBezTo>
                  <a:pt x="430" y="6"/>
                  <a:pt x="439" y="16"/>
                  <a:pt x="424" y="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8"/>
          <p:cNvSpPr/>
          <p:nvPr/>
        </p:nvSpPr>
        <p:spPr>
          <a:xfrm>
            <a:off x="6365880" y="3492360"/>
            <a:ext cx="538200" cy="650880"/>
          </a:xfrm>
          <a:custGeom>
            <a:avLst/>
            <a:gdLst>
              <a:gd name="textAreaLeft" fmla="*/ 0 w 538200"/>
              <a:gd name="textAreaRight" fmla="*/ 538560 w 5382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39" h="410">
                <a:moveTo>
                  <a:pt x="118" y="32"/>
                </a:moveTo>
                <a:cubicBezTo>
                  <a:pt x="155" y="44"/>
                  <a:pt x="183" y="51"/>
                  <a:pt x="214" y="72"/>
                </a:cubicBezTo>
                <a:cubicBezTo>
                  <a:pt x="227" y="112"/>
                  <a:pt x="228" y="138"/>
                  <a:pt x="270" y="152"/>
                </a:cubicBezTo>
                <a:cubicBezTo>
                  <a:pt x="290" y="211"/>
                  <a:pt x="274" y="188"/>
                  <a:pt x="310" y="224"/>
                </a:cubicBezTo>
                <a:cubicBezTo>
                  <a:pt x="325" y="268"/>
                  <a:pt x="339" y="322"/>
                  <a:pt x="318" y="368"/>
                </a:cubicBezTo>
                <a:cubicBezTo>
                  <a:pt x="313" y="378"/>
                  <a:pt x="297" y="373"/>
                  <a:pt x="286" y="376"/>
                </a:cubicBezTo>
                <a:cubicBezTo>
                  <a:pt x="252" y="410"/>
                  <a:pt x="268" y="406"/>
                  <a:pt x="206" y="392"/>
                </a:cubicBezTo>
                <a:cubicBezTo>
                  <a:pt x="190" y="388"/>
                  <a:pt x="158" y="376"/>
                  <a:pt x="158" y="376"/>
                </a:cubicBezTo>
                <a:cubicBezTo>
                  <a:pt x="155" y="366"/>
                  <a:pt x="146" y="333"/>
                  <a:pt x="134" y="328"/>
                </a:cubicBezTo>
                <a:cubicBezTo>
                  <a:pt x="128" y="325"/>
                  <a:pt x="74" y="356"/>
                  <a:pt x="62" y="360"/>
                </a:cubicBezTo>
                <a:cubicBezTo>
                  <a:pt x="6" y="349"/>
                  <a:pt x="8" y="350"/>
                  <a:pt x="22" y="296"/>
                </a:cubicBezTo>
                <a:cubicBezTo>
                  <a:pt x="15" y="224"/>
                  <a:pt x="0" y="178"/>
                  <a:pt x="62" y="136"/>
                </a:cubicBezTo>
                <a:cubicBezTo>
                  <a:pt x="82" y="105"/>
                  <a:pt x="91" y="100"/>
                  <a:pt x="126" y="112"/>
                </a:cubicBezTo>
                <a:cubicBezTo>
                  <a:pt x="131" y="120"/>
                  <a:pt x="133" y="132"/>
                  <a:pt x="142" y="136"/>
                </a:cubicBezTo>
                <a:cubicBezTo>
                  <a:pt x="184" y="153"/>
                  <a:pt x="159" y="89"/>
                  <a:pt x="158" y="88"/>
                </a:cubicBezTo>
                <a:cubicBezTo>
                  <a:pt x="146" y="76"/>
                  <a:pt x="126" y="77"/>
                  <a:pt x="110" y="72"/>
                </a:cubicBezTo>
                <a:cubicBezTo>
                  <a:pt x="102" y="69"/>
                  <a:pt x="86" y="64"/>
                  <a:pt x="86" y="64"/>
                </a:cubicBezTo>
                <a:cubicBezTo>
                  <a:pt x="83" y="53"/>
                  <a:pt x="85" y="41"/>
                  <a:pt x="78" y="32"/>
                </a:cubicBezTo>
                <a:cubicBezTo>
                  <a:pt x="73" y="25"/>
                  <a:pt x="54" y="32"/>
                  <a:pt x="54" y="24"/>
                </a:cubicBezTo>
                <a:cubicBezTo>
                  <a:pt x="54" y="14"/>
                  <a:pt x="96" y="2"/>
                  <a:pt x="102" y="0"/>
                </a:cubicBezTo>
                <a:cubicBezTo>
                  <a:pt x="111" y="3"/>
                  <a:pt x="149" y="10"/>
                  <a:pt x="142" y="32"/>
                </a:cubicBezTo>
                <a:cubicBezTo>
                  <a:pt x="139" y="40"/>
                  <a:pt x="126" y="32"/>
                  <a:pt x="118" y="3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9"/>
          <p:cNvSpPr/>
          <p:nvPr/>
        </p:nvSpPr>
        <p:spPr>
          <a:xfrm>
            <a:off x="6230880" y="4078440"/>
            <a:ext cx="542880" cy="537840"/>
          </a:xfrm>
          <a:custGeom>
            <a:avLst/>
            <a:gdLst>
              <a:gd name="textAreaLeft" fmla="*/ 0 w 542880"/>
              <a:gd name="textAreaRight" fmla="*/ 543240 w 54288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342" h="339">
                <a:moveTo>
                  <a:pt x="51" y="39"/>
                </a:moveTo>
                <a:cubicBezTo>
                  <a:pt x="104" y="57"/>
                  <a:pt x="95" y="62"/>
                  <a:pt x="163" y="71"/>
                </a:cubicBezTo>
                <a:cubicBezTo>
                  <a:pt x="217" y="89"/>
                  <a:pt x="275" y="84"/>
                  <a:pt x="331" y="95"/>
                </a:cubicBezTo>
                <a:cubicBezTo>
                  <a:pt x="334" y="103"/>
                  <a:pt x="342" y="111"/>
                  <a:pt x="339" y="119"/>
                </a:cubicBezTo>
                <a:cubicBezTo>
                  <a:pt x="333" y="134"/>
                  <a:pt x="268" y="150"/>
                  <a:pt x="267" y="151"/>
                </a:cubicBezTo>
                <a:cubicBezTo>
                  <a:pt x="216" y="185"/>
                  <a:pt x="208" y="189"/>
                  <a:pt x="147" y="199"/>
                </a:cubicBezTo>
                <a:cubicBezTo>
                  <a:pt x="137" y="239"/>
                  <a:pt x="134" y="273"/>
                  <a:pt x="91" y="287"/>
                </a:cubicBezTo>
                <a:cubicBezTo>
                  <a:pt x="86" y="295"/>
                  <a:pt x="83" y="305"/>
                  <a:pt x="75" y="311"/>
                </a:cubicBezTo>
                <a:cubicBezTo>
                  <a:pt x="39" y="339"/>
                  <a:pt x="34" y="285"/>
                  <a:pt x="27" y="263"/>
                </a:cubicBezTo>
                <a:cubicBezTo>
                  <a:pt x="35" y="233"/>
                  <a:pt x="49" y="212"/>
                  <a:pt x="59" y="183"/>
                </a:cubicBezTo>
                <a:cubicBezTo>
                  <a:pt x="33" y="131"/>
                  <a:pt x="46" y="102"/>
                  <a:pt x="27" y="55"/>
                </a:cubicBezTo>
                <a:cubicBezTo>
                  <a:pt x="23" y="46"/>
                  <a:pt x="11" y="44"/>
                  <a:pt x="3" y="39"/>
                </a:cubicBezTo>
                <a:cubicBezTo>
                  <a:pt x="6" y="28"/>
                  <a:pt x="0" y="10"/>
                  <a:pt x="11" y="7"/>
                </a:cubicBezTo>
                <a:cubicBezTo>
                  <a:pt x="37" y="0"/>
                  <a:pt x="68" y="2"/>
                  <a:pt x="91" y="15"/>
                </a:cubicBezTo>
                <a:cubicBezTo>
                  <a:pt x="101" y="20"/>
                  <a:pt x="92" y="41"/>
                  <a:pt x="83" y="47"/>
                </a:cubicBezTo>
                <a:cubicBezTo>
                  <a:pt x="74" y="53"/>
                  <a:pt x="62" y="42"/>
                  <a:pt x="51" y="3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8"/>
          <p:cNvSpPr/>
          <p:nvPr/>
        </p:nvSpPr>
        <p:spPr>
          <a:xfrm>
            <a:off x="4500720" y="486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oef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9"/>
          <p:cNvSpPr/>
          <p:nvPr/>
        </p:nvSpPr>
        <p:spPr>
          <a:xfrm>
            <a:off x="7561440" y="42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ij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0"/>
          <p:cNvSpPr/>
          <p:nvPr/>
        </p:nvSpPr>
        <p:spPr>
          <a:xfrm>
            <a:off x="17928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1"/>
          <p:cNvSpPr/>
          <p:nvPr/>
        </p:nvSpPr>
        <p:spPr>
          <a:xfrm>
            <a:off x="53964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2"/>
          <p:cNvSpPr/>
          <p:nvPr/>
        </p:nvSpPr>
        <p:spPr>
          <a:xfrm rot="10800000">
            <a:off x="7956720" y="4941360"/>
            <a:ext cx="1079280" cy="289080"/>
          </a:xfrm>
          <a:prstGeom prst="rightArrow">
            <a:avLst>
              <a:gd name="adj1" fmla="val 50000"/>
              <a:gd name="adj2" fmla="val 9333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3"/>
          <p:cNvSpPr/>
          <p:nvPr/>
        </p:nvSpPr>
        <p:spPr>
          <a:xfrm>
            <a:off x="0" y="5935680"/>
            <a:ext cx="2720880" cy="1573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714" h="99">
                <a:moveTo>
                  <a:pt x="0" y="37"/>
                </a:moveTo>
                <a:cubicBezTo>
                  <a:pt x="57" y="18"/>
                  <a:pt x="47" y="12"/>
                  <a:pt x="96" y="45"/>
                </a:cubicBezTo>
                <a:cubicBezTo>
                  <a:pt x="161" y="38"/>
                  <a:pt x="186" y="28"/>
                  <a:pt x="248" y="37"/>
                </a:cubicBezTo>
                <a:cubicBezTo>
                  <a:pt x="293" y="34"/>
                  <a:pt x="339" y="36"/>
                  <a:pt x="384" y="29"/>
                </a:cubicBezTo>
                <a:cubicBezTo>
                  <a:pt x="448" y="19"/>
                  <a:pt x="370" y="0"/>
                  <a:pt x="432" y="21"/>
                </a:cubicBezTo>
                <a:cubicBezTo>
                  <a:pt x="451" y="77"/>
                  <a:pt x="505" y="50"/>
                  <a:pt x="560" y="45"/>
                </a:cubicBezTo>
                <a:cubicBezTo>
                  <a:pt x="607" y="14"/>
                  <a:pt x="619" y="46"/>
                  <a:pt x="664" y="61"/>
                </a:cubicBezTo>
                <a:cubicBezTo>
                  <a:pt x="738" y="55"/>
                  <a:pt x="802" y="44"/>
                  <a:pt x="872" y="21"/>
                </a:cubicBezTo>
                <a:cubicBezTo>
                  <a:pt x="903" y="68"/>
                  <a:pt x="924" y="52"/>
                  <a:pt x="984" y="45"/>
                </a:cubicBezTo>
                <a:cubicBezTo>
                  <a:pt x="1013" y="35"/>
                  <a:pt x="1034" y="21"/>
                  <a:pt x="1064" y="13"/>
                </a:cubicBezTo>
                <a:cubicBezTo>
                  <a:pt x="1075" y="16"/>
                  <a:pt x="1087" y="14"/>
                  <a:pt x="1096" y="21"/>
                </a:cubicBezTo>
                <a:cubicBezTo>
                  <a:pt x="1103" y="26"/>
                  <a:pt x="1098" y="39"/>
                  <a:pt x="1104" y="45"/>
                </a:cubicBezTo>
                <a:cubicBezTo>
                  <a:pt x="1110" y="51"/>
                  <a:pt x="1120" y="50"/>
                  <a:pt x="1128" y="53"/>
                </a:cubicBezTo>
                <a:cubicBezTo>
                  <a:pt x="1295" y="23"/>
                  <a:pt x="1162" y="55"/>
                  <a:pt x="1248" y="21"/>
                </a:cubicBezTo>
                <a:cubicBezTo>
                  <a:pt x="1264" y="15"/>
                  <a:pt x="1296" y="5"/>
                  <a:pt x="1296" y="5"/>
                </a:cubicBezTo>
                <a:cubicBezTo>
                  <a:pt x="1322" y="22"/>
                  <a:pt x="1334" y="44"/>
                  <a:pt x="1360" y="61"/>
                </a:cubicBezTo>
                <a:cubicBezTo>
                  <a:pt x="1406" y="54"/>
                  <a:pt x="1427" y="54"/>
                  <a:pt x="1464" y="29"/>
                </a:cubicBezTo>
                <a:cubicBezTo>
                  <a:pt x="1491" y="32"/>
                  <a:pt x="1519" y="28"/>
                  <a:pt x="1544" y="37"/>
                </a:cubicBezTo>
                <a:cubicBezTo>
                  <a:pt x="1552" y="40"/>
                  <a:pt x="1544" y="59"/>
                  <a:pt x="1552" y="61"/>
                </a:cubicBezTo>
                <a:cubicBezTo>
                  <a:pt x="1568" y="65"/>
                  <a:pt x="1584" y="56"/>
                  <a:pt x="1600" y="53"/>
                </a:cubicBezTo>
                <a:cubicBezTo>
                  <a:pt x="1694" y="62"/>
                  <a:pt x="1714" y="48"/>
                  <a:pt x="1672" y="69"/>
                </a:cubicBezTo>
                <a:lnTo>
                  <a:pt x="22" y="99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nl-NL" sz="3600" spc="-1" strike="noStrike" u="sng">
                <a:solidFill>
                  <a:srgbClr val="ffffff"/>
                </a:solidFill>
                <a:uFillTx/>
                <a:latin typeface="Trebuchet MS"/>
              </a:rPr>
              <a:t>Temperatuurverschillen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rebuchet MS"/>
              </a:rPr>
              <a:t> op aar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79280" y="692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826920" y="1844640"/>
            <a:ext cx="763452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rebuchet MS"/>
              </a:rPr>
              <a:t>Breedteligging en de invalshoek van de z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ff33"/>
                </a:solidFill>
                <a:latin typeface="Trebuchet MS"/>
              </a:rPr>
              <a:t>  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Plaatsen dichtbij de evenaar ligge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   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op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ff3300"/>
                </a:solidFill>
                <a:latin typeface="Trebuchet MS"/>
              </a:rPr>
              <a:t>lage breedt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en zij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ff3300"/>
                </a:solidFill>
                <a:latin typeface="Trebuchet MS"/>
              </a:rPr>
              <a:t>warm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.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Plaatsen op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hog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breedt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liggen dichtbij de polen en zij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koud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4896000" y="4697280"/>
            <a:ext cx="4248000" cy="2160720"/>
          </a:xfrm>
          <a:prstGeom prst="irregularSeal2">
            <a:avLst/>
          </a:prstGeom>
          <a:solidFill>
            <a:srgbClr val="b00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anteken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nem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B opdrachten §3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werk = §3 vragen 1 t/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ende 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otopics: video over temperatuurverschi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Klimaatsysteem van Kö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105264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1 Breedteligging en de invalshoek van de 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world_sunlight_map_hemisphere"/>
          <p:cNvPicPr/>
          <p:nvPr/>
        </p:nvPicPr>
        <p:blipFill>
          <a:blip r:embed="rId1"/>
          <a:stretch/>
        </p:blipFill>
        <p:spPr>
          <a:xfrm>
            <a:off x="0" y="1720800"/>
            <a:ext cx="10272600" cy="5137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2"/>
          <p:cNvSpPr/>
          <p:nvPr/>
        </p:nvSpPr>
        <p:spPr>
          <a:xfrm>
            <a:off x="5148360" y="1484280"/>
            <a:ext cx="453708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3"/>
          <p:cNvSpPr/>
          <p:nvPr/>
        </p:nvSpPr>
        <p:spPr>
          <a:xfrm>
            <a:off x="7740720" y="1268280"/>
            <a:ext cx="3600360" cy="60483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4"/>
          <p:cNvSpPr/>
          <p:nvPr/>
        </p:nvSpPr>
        <p:spPr>
          <a:xfrm>
            <a:off x="2556000" y="1989000"/>
            <a:ext cx="0" cy="4608720"/>
          </a:xfrm>
          <a:prstGeom prst="line">
            <a:avLst/>
          </a:prstGeom>
          <a:ln w="28440">
            <a:solidFill>
              <a:srgbClr val="b000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 flipH="1">
            <a:off x="250560" y="4221000"/>
            <a:ext cx="460836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2400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even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4859280" y="4005360"/>
            <a:ext cx="2952720" cy="43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3924360" y="1989000"/>
            <a:ext cx="475308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9"/>
          <p:cNvSpPr/>
          <p:nvPr/>
        </p:nvSpPr>
        <p:spPr>
          <a:xfrm rot="10800000">
            <a:off x="2626920" y="1989000"/>
            <a:ext cx="1297080" cy="432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2627280" y="1989000"/>
            <a:ext cx="1297080" cy="432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2"/>
          <p:cNvSpPr/>
          <p:nvPr/>
        </p:nvSpPr>
        <p:spPr>
          <a:xfrm>
            <a:off x="4859280" y="400536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"/>
          <p:cNvSpPr/>
          <p:nvPr/>
        </p:nvSpPr>
        <p:spPr>
          <a:xfrm>
            <a:off x="262728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Lage 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4"/>
          <p:cNvSpPr/>
          <p:nvPr/>
        </p:nvSpPr>
        <p:spPr>
          <a:xfrm>
            <a:off x="1908000" y="2276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Hoge 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5"/>
          <p:cNvSpPr/>
          <p:nvPr/>
        </p:nvSpPr>
        <p:spPr>
          <a:xfrm>
            <a:off x="4859280" y="4508640"/>
            <a:ext cx="302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Trebuchet MS"/>
              </a:rPr>
              <a:t>Zon valt loodrecht in op evenaar. Hoeft maar klein gebied te beschijnen. Wordt erg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Trebuchet MS"/>
              </a:rPr>
              <a:t>W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6"/>
          <p:cNvSpPr/>
          <p:nvPr/>
        </p:nvSpPr>
        <p:spPr>
          <a:xfrm>
            <a:off x="4788000" y="242100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Trebuchet MS"/>
              </a:rPr>
              <a:t>Zon valt schuin in op polen. Moet een groot gebied beschijnen. Wordt erg </a:t>
            </a:r>
            <a:r>
              <a:rPr b="1" lang="en-US" sz="1800" spc="-1" strike="noStrike" u="sng">
                <a:solidFill>
                  <a:srgbClr val="3399ff"/>
                </a:solidFill>
                <a:uFillTx/>
                <a:latin typeface="Trebuchet MS"/>
              </a:rPr>
              <a:t>KOU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24000" y="126828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bbe0e3"/>
                </a:solidFill>
                <a:latin typeface="Trebuchet MS"/>
              </a:rPr>
              <a:t>1 Breedteligging en invalshoek van de 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1"/>
          <p:cNvSpPr/>
          <p:nvPr/>
        </p:nvSpPr>
        <p:spPr>
          <a:xfrm>
            <a:off x="5651640" y="1844640"/>
            <a:ext cx="1081080" cy="107964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2"/>
          <p:cNvSpPr/>
          <p:nvPr/>
        </p:nvSpPr>
        <p:spPr>
          <a:xfrm>
            <a:off x="5867280" y="2852640"/>
            <a:ext cx="649440" cy="25210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3"/>
          <p:cNvSpPr/>
          <p:nvPr/>
        </p:nvSpPr>
        <p:spPr>
          <a:xfrm rot="17819400">
            <a:off x="3514320" y="1490400"/>
            <a:ext cx="649440" cy="56181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3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-252360" y="5300640"/>
            <a:ext cx="9720360" cy="1800360"/>
          </a:xfrm>
          <a:prstGeom prst="rect">
            <a:avLst/>
          </a:prstGeom>
          <a:gradFill rotWithShape="0">
            <a:gsLst>
              <a:gs pos="0">
                <a:srgbClr val="4a64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4"/>
          <p:cNvSpPr/>
          <p:nvPr/>
        </p:nvSpPr>
        <p:spPr>
          <a:xfrm>
            <a:off x="324000" y="2205000"/>
            <a:ext cx="1081080" cy="1079640"/>
          </a:xfrm>
          <a:prstGeom prst="sun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826920" y="1557360"/>
            <a:ext cx="7705800" cy="44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Trebuchet MS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Hoogteligging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Hoe hoger je komt, hoe kouder het               wordt. De zon verwarmt de aarde. De aarde verwarmt de atmosfeer. Elke 1000 m. stijg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- 6 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         Elke 100 m. stijg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- 0,6 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        Elke 1 m. stijg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- 0,006 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Oval 6"/>
          <p:cNvSpPr/>
          <p:nvPr/>
        </p:nvSpPr>
        <p:spPr>
          <a:xfrm>
            <a:off x="-2700360" y="2205000"/>
            <a:ext cx="15084360" cy="50403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79280" y="33336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5"/>
          <p:cNvSpPr/>
          <p:nvPr/>
        </p:nvSpPr>
        <p:spPr>
          <a:xfrm>
            <a:off x="-973080" y="6093000"/>
            <a:ext cx="11341080" cy="2232000"/>
          </a:xfrm>
          <a:prstGeom prst="ellipse">
            <a:avLst/>
          </a:prstGeom>
          <a:gradFill rotWithShape="0">
            <a:gsLst>
              <a:gs pos="0">
                <a:srgbClr val="4a6400"/>
              </a:gs>
              <a:gs pos="100000">
                <a:srgbClr val="668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8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9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0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1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2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3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>
            <a:off x="4859280" y="3141720"/>
            <a:ext cx="0" cy="2951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5148360" y="407664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Zon verwarmt de aa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7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9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0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1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3"/>
          <p:cNvSpPr/>
          <p:nvPr/>
        </p:nvSpPr>
        <p:spPr>
          <a:xfrm>
            <a:off x="4859280" y="3141720"/>
            <a:ext cx="0" cy="2806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4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3348000" y="623736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Aarde absorbeert warm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79280" y="26028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1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3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 rot="214200">
            <a:off x="5651280" y="3789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1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 rot="21453000">
            <a:off x="4211640" y="3789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5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 rot="21072000">
            <a:off x="183492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 rot="517200">
            <a:off x="766728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4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2556000" y="537372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33399"/>
                </a:solidFill>
                <a:latin typeface="Trebuchet MS"/>
              </a:rPr>
              <a:t>Aarde straalt warmte terug in dampk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79280" y="189000"/>
            <a:ext cx="9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Hoe ontstaan verschillen in klimaatgebi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0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2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5"/>
          <p:cNvSpPr/>
          <p:nvPr/>
        </p:nvSpPr>
        <p:spPr>
          <a:xfrm rot="21072000">
            <a:off x="183492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7"/>
          <p:cNvSpPr/>
          <p:nvPr/>
        </p:nvSpPr>
        <p:spPr>
          <a:xfrm rot="209400">
            <a:off x="5940000" y="3789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1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8"/>
          <p:cNvSpPr/>
          <p:nvPr/>
        </p:nvSpPr>
        <p:spPr>
          <a:xfrm rot="21406800">
            <a:off x="4356000" y="3789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5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9"/>
          <p:cNvSpPr/>
          <p:nvPr/>
        </p:nvSpPr>
        <p:spPr>
          <a:xfrm rot="793200">
            <a:off x="7740360" y="4005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46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2916360" y="537372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Dampkring dichtbij aarde het war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3132000" y="306864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Hoe hoger je komt, hoe kouder het wor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9:37:07Z</dcterms:created>
  <dc:creator>Rene Anjewierden</dc:creator>
  <dc:description/>
  <dc:language>en-US</dc:language>
  <cp:lastModifiedBy>matthiasdejong</cp:lastModifiedBy>
  <dcterms:modified xsi:type="dcterms:W3CDTF">2010-12-29T13:54:08Z</dcterms:modified>
  <cp:revision>17</cp:revision>
  <dc:subject/>
  <dc:title>Dia 1</dc:title>
</cp:coreProperties>
</file>