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DFE4-81F1-4B3B-B610-57BAFC30BB0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9242-1F9E-4E18-B836-6360E8EF696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647-8A66-4719-A2FC-AFAE5975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4E4-C769-4B5E-9DE4-473A91F6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DBB-D44D-49F2-B0C6-1D89385B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9D72-A1FC-4518-8DD0-ECE4E8D0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09A9-FC77-46E0-81C7-F1530E5D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4DA4-2CD5-46D7-A4B0-8DFE56A4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7C74-7213-4FFB-93C0-31C222A6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194-6DA6-4B6E-AC98-2118EA0E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94E-5719-42BB-893A-E8DF5C90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7EC9-542A-4CB4-ABA0-58AC489D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6D7-A776-4D6E-96E8-92E25BE4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7E4C-8241-4F4B-AF1D-C2720E0D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C05A-A538-4B97-9C74-ECA88197AD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3600" spc="-1" strike="noStrike" u="sng">
                <a:solidFill>
                  <a:srgbClr val="ffffff"/>
                </a:solidFill>
                <a:uFillTx/>
                <a:latin typeface="Trebuchet MS"/>
              </a:rPr>
              <a:t>Temperatuurverschillen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rebuchet MS"/>
              </a:rPr>
              <a:t> op aa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692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26920" y="1844640"/>
            <a:ext cx="763452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Breedteligging en de invalshoek van de 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ff33"/>
                </a:solidFill>
                <a:latin typeface="Trebuchet MS"/>
              </a:rPr>
              <a:t>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dichtbij de evenaar ligge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 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lage 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warm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hog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liggen dichtbij de polen 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koud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896000" y="4697280"/>
            <a:ext cx="4248000" cy="2160720"/>
          </a:xfrm>
          <a:prstGeom prst="irregularSeal2">
            <a:avLst/>
          </a:prstGeom>
          <a:solidFill>
            <a:srgbClr val="b00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tek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ne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4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702000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46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539640" y="5445000"/>
            <a:ext cx="7488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4600 m. = 4 x 1000 = 4 x 6 =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600 m. = 6 x   100 = 6 x 0,6 = 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24 + 3,6 = 27,6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– 27,6 =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ebuchet MS"/>
              </a:rPr>
              <a:t>-6,6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179280" y="263700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3399"/>
                </a:solidFill>
                <a:latin typeface="Trebuchet MS"/>
              </a:rPr>
              <a:t>Wat is de temperatuur op de top van deze ber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826920" y="1557360"/>
            <a:ext cx="7705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3 Ligging aan z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Gebieden dichtbij zee hebben vaak veel zee-invloed. Zeewind brengt </a:t>
            </a:r>
            <a:r>
              <a:rPr b="1" lang="en-US" sz="3200" spc="-1" strike="noStrike">
                <a:solidFill>
                  <a:srgbClr val="3399ff"/>
                </a:solidFill>
                <a:latin typeface="Trebuchet MS"/>
              </a:rPr>
              <a:t>verkoel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zomer en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verwarm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winter. Verder landinwaarts is de zee-invloed minder te merken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817236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73272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4643280" y="609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745164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4861080" y="551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8244000" y="544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356000" y="61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738036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804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806436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005440" y="5479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7596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211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826920" y="1557360"/>
            <a:ext cx="77058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4 Ligging van geberg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Bergen houden warme of koude wind tegen. Aan de loefzijde valt de meeste regen. Aan de lijzijde valt weinig neerslag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0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6b4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673272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1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2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3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4"/>
          <p:cNvSpPr/>
          <p:nvPr/>
        </p:nvSpPr>
        <p:spPr>
          <a:xfrm rot="17427000">
            <a:off x="3708360" y="465300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gradFill rotWithShape="0">
            <a:gsLst>
              <a:gs pos="0">
                <a:srgbClr val="f72130"/>
              </a:gs>
              <a:gs pos="100000">
                <a:srgbClr val="333399"/>
              </a:gs>
            </a:gsLst>
            <a:lin ang="4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5"/>
          <p:cNvSpPr/>
          <p:nvPr/>
        </p:nvSpPr>
        <p:spPr>
          <a:xfrm>
            <a:off x="3708360" y="3573360"/>
            <a:ext cx="1584360" cy="576360"/>
          </a:xfrm>
          <a:prstGeom prst="cloudCallout">
            <a:avLst>
              <a:gd name="adj1" fmla="val -22143"/>
              <a:gd name="adj2" fmla="val 19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6"/>
          <p:cNvSpPr/>
          <p:nvPr/>
        </p:nvSpPr>
        <p:spPr>
          <a:xfrm flipH="1">
            <a:off x="3850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7"/>
          <p:cNvSpPr/>
          <p:nvPr/>
        </p:nvSpPr>
        <p:spPr>
          <a:xfrm flipH="1">
            <a:off x="4066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 flipH="1">
            <a:off x="421128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9"/>
          <p:cNvSpPr/>
          <p:nvPr/>
        </p:nvSpPr>
        <p:spPr>
          <a:xfrm>
            <a:off x="4643280" y="4149720"/>
            <a:ext cx="21780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0"/>
          <p:cNvSpPr/>
          <p:nvPr/>
        </p:nvSpPr>
        <p:spPr>
          <a:xfrm>
            <a:off x="5003640" y="4005360"/>
            <a:ext cx="217800" cy="215640"/>
          </a:xfrm>
          <a:custGeom>
            <a:avLst/>
            <a:gdLst/>
            <a:ahLst/>
            <a:rect l="l" t="t" r="r" b="b"/>
            <a:pathLst>
              <a:path w="217488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5" y="82467"/>
                </a:lnTo>
                <a:lnTo>
                  <a:pt x="217488" y="82466"/>
                </a:lnTo>
                <a:lnTo>
                  <a:pt x="150280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7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1"/>
          <p:cNvSpPr/>
          <p:nvPr/>
        </p:nvSpPr>
        <p:spPr>
          <a:xfrm>
            <a:off x="4859280" y="4221000"/>
            <a:ext cx="21744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2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3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4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5"/>
          <p:cNvSpPr/>
          <p:nvPr/>
        </p:nvSpPr>
        <p:spPr>
          <a:xfrm>
            <a:off x="147636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uwings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6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2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-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752472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7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8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2"/>
          <p:cNvSpPr/>
          <p:nvPr/>
        </p:nvSpPr>
        <p:spPr>
          <a:xfrm rot="10800000">
            <a:off x="7956720" y="4941360"/>
            <a:ext cx="1079280" cy="289080"/>
          </a:xfrm>
          <a:prstGeom prst="rightArrow">
            <a:avLst>
              <a:gd name="adj1" fmla="val 50000"/>
              <a:gd name="adj2" fmla="val 93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3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0" y="18900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24000" y="105264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1 Breedteligging en de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world_sunlight_map_hemisphere"/>
          <p:cNvPicPr/>
          <p:nvPr/>
        </p:nvPicPr>
        <p:blipFill>
          <a:blip r:embed="rId1"/>
          <a:stretch/>
        </p:blipFill>
        <p:spPr>
          <a:xfrm>
            <a:off x="0" y="1720800"/>
            <a:ext cx="10272600" cy="5137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5148360" y="1484280"/>
            <a:ext cx="453708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7740720" y="1268280"/>
            <a:ext cx="3600360" cy="6048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2556000" y="1989000"/>
            <a:ext cx="0" cy="4608720"/>
          </a:xfrm>
          <a:prstGeom prst="line">
            <a:avLst/>
          </a:prstGeom>
          <a:ln w="28440">
            <a:solidFill>
              <a:srgbClr val="b000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5"/>
          <p:cNvSpPr/>
          <p:nvPr/>
        </p:nvSpPr>
        <p:spPr>
          <a:xfrm flipH="1">
            <a:off x="250560" y="422100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2400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ven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859280" y="4005360"/>
            <a:ext cx="2952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3924360" y="1989000"/>
            <a:ext cx="4753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 rot="10800000">
            <a:off x="2626920" y="1989000"/>
            <a:ext cx="1297080" cy="432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2627280" y="1989000"/>
            <a:ext cx="129708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2"/>
          <p:cNvSpPr/>
          <p:nvPr/>
        </p:nvSpPr>
        <p:spPr>
          <a:xfrm>
            <a:off x="4859280" y="400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62728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La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1908000" y="22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Ho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859280" y="4508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loodrecht in op evenaar. Hoeft maar klein gebied te beschijnen. Wordt erg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rebuchet MS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4788000" y="242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schuin in op polen. Moet een groot gebied beschijnen. Wordt erg </a:t>
            </a:r>
            <a:r>
              <a:rPr b="1" lang="en-US" sz="1800" spc="-1" strike="noStrike" u="sng">
                <a:solidFill>
                  <a:srgbClr val="3399ff"/>
                </a:solidFill>
                <a:uFillTx/>
                <a:latin typeface="Trebuchet MS"/>
              </a:rPr>
              <a:t>KO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126828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bbe0e3"/>
                </a:solidFill>
                <a:latin typeface="Trebuchet MS"/>
              </a:rPr>
              <a:t>1 Breedteligging en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1"/>
          <p:cNvSpPr/>
          <p:nvPr/>
        </p:nvSpPr>
        <p:spPr>
          <a:xfrm>
            <a:off x="5651640" y="184464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5867280" y="2852640"/>
            <a:ext cx="649440" cy="2521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 rot="17819400">
            <a:off x="3514320" y="1490400"/>
            <a:ext cx="649440" cy="5618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3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-252360" y="5300640"/>
            <a:ext cx="9720360" cy="1800360"/>
          </a:xfrm>
          <a:prstGeom prst="rect">
            <a:avLst/>
          </a:prstGeom>
          <a:gradFill rotWithShape="0">
            <a:gsLst>
              <a:gs pos="0">
                <a:srgbClr val="4a64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4"/>
          <p:cNvSpPr/>
          <p:nvPr/>
        </p:nvSpPr>
        <p:spPr>
          <a:xfrm>
            <a:off x="324000" y="220500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1584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26920" y="1557360"/>
            <a:ext cx="77058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2 Hoogteligging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Hoe hoger je komt, hoe kouder het               wordt. De zon verwarmt de aarde. De aarde verwarmt de atmosfeer. Elke 10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Elke 1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Elke 1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00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6"/>
          <p:cNvSpPr/>
          <p:nvPr/>
        </p:nvSpPr>
        <p:spPr>
          <a:xfrm>
            <a:off x="-2700360" y="2205000"/>
            <a:ext cx="15084360" cy="50403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-973080" y="6093000"/>
            <a:ext cx="11341080" cy="2232000"/>
          </a:xfrm>
          <a:prstGeom prst="ellipse">
            <a:avLst/>
          </a:prstGeom>
          <a:gradFill rotWithShape="0">
            <a:gsLst>
              <a:gs pos="0">
                <a:srgbClr val="4a6400"/>
              </a:gs>
              <a:gs pos="100000">
                <a:srgbClr val="668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4859280" y="3141720"/>
            <a:ext cx="0" cy="295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5148360" y="4076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Zon verwarmt de 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4859280" y="3141720"/>
            <a:ext cx="0" cy="2806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348000" y="6237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Aarde absorbeert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4"/>
          <p:cNvSpPr/>
          <p:nvPr/>
        </p:nvSpPr>
        <p:spPr>
          <a:xfrm rot="214200">
            <a:off x="565128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1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 rot="21453000">
            <a:off x="421164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5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7"/>
          <p:cNvSpPr/>
          <p:nvPr/>
        </p:nvSpPr>
        <p:spPr>
          <a:xfrm rot="517200">
            <a:off x="766728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4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556000" y="537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Trebuchet MS"/>
              </a:rPr>
              <a:t>Aarde straalt warmte terug in dampk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 rot="209400">
            <a:off x="5940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 rot="21406800">
            <a:off x="4356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9"/>
          <p:cNvSpPr/>
          <p:nvPr/>
        </p:nvSpPr>
        <p:spPr>
          <a:xfrm rot="793200">
            <a:off x="7740360" y="4005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46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2916360" y="5373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Dampkring dichtbij aarde het war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132000" y="3068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Hoe hoger je komt, hoe kouder het wor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1187280" y="3645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1187280" y="4292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1187280" y="4869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1187280" y="5516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0" y="45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0" y="4005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30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4788000" y="3968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8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4284720" y="450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4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6012000" y="3213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2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539640" y="566100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00 m. = 3 x 1000 = 3 x 6 =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 – 18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37:07Z</dcterms:created>
  <dc:creator>Rene Anjewierden</dc:creator>
  <dc:description/>
  <dc:language>en-US</dc:language>
  <cp:lastModifiedBy>Docent</cp:lastModifiedBy>
  <dcterms:modified xsi:type="dcterms:W3CDTF">2012-11-06T20:11:45Z</dcterms:modified>
  <cp:revision>43</cp:revision>
  <dc:subject/>
  <dc:title>Dia 1</dc:title>
</cp:coreProperties>
</file>