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A41-673F-4352-B0B4-C579B68D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661-8A2D-4E41-B6BC-F59CC50E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0B4-250B-4E20-8C64-5EFC056C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E4E-1878-44E9-B69F-29F48E40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94F-7F2B-4014-87EE-7441035C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6D7-87CA-4DF2-B491-0AF64740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66A-8BED-4E26-872C-5C03B65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356-6280-4150-8C26-E58E485B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CBC-1341-4F93-9CD5-5FDD8551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FC0-C156-4ACB-A3D4-74BDAB7E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B4F-27FD-4287-974F-96C19E5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5AA-93D0-4661-960A-99CF71D2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8439-062D-4BFD-9A04-9BE97889E6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60208_dampkring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kring: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ooltv.nl/beeldbank/clip/20060208_dampkring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2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>
              <a:gd name="textAreaLeft" fmla="*/ 66960 w 217440"/>
              <a:gd name="textAreaRight" fmla="*/ 150480 w 2174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9280" y="692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§3 vragen 1 t/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nde 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otopics: video over temperatuurversch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limaatsysteem van Kö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rebuchet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33336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matthiasdejong</cp:lastModifiedBy>
  <dcterms:modified xsi:type="dcterms:W3CDTF">2010-12-29T13:54:08Z</dcterms:modified>
  <cp:revision>17</cp:revision>
  <dc:subject/>
  <dc:title>Dia 1</dc:title>
</cp:coreProperties>
</file>