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3D3-DE04-4C29-BDFB-88E14B65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B39-0746-4AEF-B0EC-7D68EBC6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8EA-7BC4-47AC-950C-E73D3E1A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F49-3ABD-4667-953C-1C24CA55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62C-D617-4F65-B678-DA426104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6C0-951D-41AB-ADEF-337D5295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CE4-72F2-4065-AF5C-B1BCDEA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65A-AC82-4DCE-8970-6190335A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1DF-8E13-44B8-8718-0E96D4BB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0A6-55B1-451B-A143-362970D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5AD-0F48-42CB-8230-0E33CC0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FAA-8AC7-4D75-95D5-95EA3812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E7FD-D9E1-44F4-84E6-629CA254BC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60208_dampkring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kring: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tv.nl/beeldbank/clip/20060208_dampkring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2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>
              <a:gd name="textAreaLeft" fmla="*/ 66960 w 217440"/>
              <a:gd name="textAreaRight" fmla="*/ 150480 w 2174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692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§3 vragen 1 t/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nde 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otopics: video over temperatuurversch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limaatsysteem van Kö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rebuchet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33336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matthiasdejong</cp:lastModifiedBy>
  <dcterms:modified xsi:type="dcterms:W3CDTF">2010-12-29T13:54:08Z</dcterms:modified>
  <cp:revision>17</cp:revision>
  <dc:subject/>
  <dc:title>Dia 1</dc:title>
</cp:coreProperties>
</file>