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57A-A714-415D-993B-0E9993E5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822-3185-453D-BAE9-C6387A3B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A28-7190-4971-8303-064F4A90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451-71D8-407C-A3CC-48769CCD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178-2076-4314-94ED-5431A8C6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672-65AB-41F3-B46F-4F57ED6F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CA7-92E6-4714-BC9B-EA6F12CA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820F-E05C-4EEE-917F-5852280A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D55-4990-4236-A4A3-08613762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8B8-7FBE-4F07-8DED-D99B5C10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9A5-77C9-4FD9-87C5-1781C43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FF2-3D69-4CA5-9CCC-BA51B614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FF18-A621-44EF-B4F3-54981FEF59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60208_dampkring01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kring: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hooltv.nl/beeldbank/clip/20060208_dampkring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2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>
              <a:gd name="textAreaLeft" fmla="*/ 66960 w 217440"/>
              <a:gd name="textAreaRight" fmla="*/ 150480 w 2174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79280" y="692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§3 vragen 1 t/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nde 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otopics: video over temperatuurversch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limaatsysteem van Kö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rebuchet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33336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matthiasdejong</cp:lastModifiedBy>
  <dcterms:modified xsi:type="dcterms:W3CDTF">2010-12-29T13:54:08Z</dcterms:modified>
  <cp:revision>17</cp:revision>
  <dc:subject/>
  <dc:title>Dia 1</dc:title>
</cp:coreProperties>
</file>