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3251-6A42-4740-ACED-D081A4E3087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AE35-51BF-4566-8172-D79C11DE87C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A61-BBA7-4278-816D-FF824A0B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480-DFEA-41E9-AEAB-31BD3B04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E25-FB1A-4763-823F-3D9B8FCA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D37-A4EC-47FB-9A8D-B0991905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70A-73BD-43D2-A874-4F5D8CEA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35C-F71F-4004-87CB-CE401C6C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7DE-0960-447D-885E-97400FA6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418-9DCD-4CFE-89AF-7F81BEAC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B5E-DBD0-4552-B214-60DC4320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D8D-8517-475F-89C3-611685DC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1E0-00F4-492F-91C3-A7C50667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0DF-3DC1-41F3-8F83-6A83123B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8469-98FC-434E-9A75-C8C0FE9778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92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7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18900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584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2 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Docent</cp:lastModifiedBy>
  <dcterms:modified xsi:type="dcterms:W3CDTF">2012-11-06T20:11:45Z</dcterms:modified>
  <cp:revision>43</cp:revision>
  <dc:subject/>
  <dc:title>Dia 1</dc:title>
</cp:coreProperties>
</file>