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1B5-F4F7-411D-ABF2-E79FA28A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AF2-25BD-4514-AA29-497FF94E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CA9-7910-41E2-BBE7-06019E16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EFA-C1DA-48A0-A426-FA484978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59F-0073-4BE6-8525-5BF143BF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52F-6E2A-48AE-A4C4-508BCDA3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54F-BB90-4501-B076-5B38E777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5AA-7DCD-4A28-B10C-454E948A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42D-D207-46EE-8E4E-B0326979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BAD-4A7A-4620-BD18-4BD7267F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A7D-C4BA-470D-B2F5-7D922CCD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E60-942D-4AB5-BB8A-87A03875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6763-0DD4-4206-8C50-E07D12EA31A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60208_dampkring01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kring: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hooltv.nl/beeldbank/clip/20060208_dampkring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2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>
              <a:gd name="textAreaLeft" fmla="*/ 66960 w 217440"/>
              <a:gd name="textAreaRight" fmla="*/ 150480 w 2174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79280" y="692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§3 vragen 1 t/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nde 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otopics: video over temperatuurversch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Klimaatsysteem van Kö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rebuchet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9280" y="33336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matthiasdejong</cp:lastModifiedBy>
  <dcterms:modified xsi:type="dcterms:W3CDTF">2010-12-29T13:54:08Z</dcterms:modified>
  <cp:revision>17</cp:revision>
  <dc:subject/>
  <dc:title>Dia 1</dc:title>
</cp:coreProperties>
</file>