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E5DF-A2F1-49EB-A28E-D153436342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44E2-DD0C-4A06-BB3E-58D98BA2A51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9AC2-AD75-4CE6-83FC-1A33869DA7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5E8D-7C3C-4F7F-9940-6D893F767C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A7E8-6856-4292-B383-5B3EB7886C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97C8-93C6-48E6-B123-0AA95370D2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079D-903B-466C-8CFB-8051BF78E5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B9AC-53BC-46E2-9249-6426F0E1BA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C27A-A202-493F-9C19-0270C1BD64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63E6-2A44-41B3-B61C-F7E0862328D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B2CD-AFBD-4A01-AEEB-FF16663D42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5495-5828-41F3-93A2-9990348F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BE0-53FC-42F1-9662-AA5B55F8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FFE-5DBF-4EBD-AFDE-2F3A0FAF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57A-FB60-4150-ACD8-E3976539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E95-137C-4BC7-9135-168EB2A1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6C9-D9C9-4013-88FE-F6C1073A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70D2-B927-4ABC-A9A1-DF22BBA2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7A4-FFD1-4333-B095-5CA79859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9D7-3338-4ED4-82C6-2329A5D7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7AA-CA82-453E-B5A9-F2770B1B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1CA-7329-4C73-A8CB-9790FA1C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F7C-44F2-4094-B20D-461D030E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143C-0E03-4F74-9283-9FDFC40479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kijken huiswerk §3: opdracht 1 t/m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woestijn3"/>
          <p:cNvPicPr/>
          <p:nvPr/>
        </p:nvPicPr>
        <p:blipFill>
          <a:blip r:embed="rId1"/>
          <a:stretch/>
        </p:blipFill>
        <p:spPr>
          <a:xfrm>
            <a:off x="539640" y="1989000"/>
            <a:ext cx="4608720" cy="3168720"/>
          </a:xfrm>
          <a:prstGeom prst="rect">
            <a:avLst/>
          </a:prstGeom>
          <a:ln w="0">
            <a:noFill/>
          </a:ln>
        </p:spPr>
      </p:pic>
      <p:sp>
        <p:nvSpPr>
          <p:cNvPr id="187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11280" y="2421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067280" y="234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ah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8081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9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686560" y="9079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oor de draaiing van de aarde rond de zon ontstaan seiz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0" y="5734080"/>
            <a:ext cx="9396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0" y="5877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hoeveel dagen draait de aarde om de z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696000" y="587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In 365 d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2843280" y="907920"/>
            <a:ext cx="0" cy="5329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40328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476360" y="5805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692360" y="21337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1835280" y="4653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843280" y="573408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843280" y="76500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050920" y="623736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2916360" y="5950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3132000" y="5950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132000" y="587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90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1763640" y="148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1763640" y="55166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5364000" y="350028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3276720" y="1700280"/>
            <a:ext cx="287280" cy="287280"/>
          </a:xfrm>
          <a:custGeom>
            <a:avLst/>
            <a:gdLst>
              <a:gd name="textAreaLeft" fmla="*/ 88560 w 287280"/>
              <a:gd name="textAreaRight" fmla="*/ 198720 w 28728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H="1">
            <a:off x="1763640" y="981000"/>
            <a:ext cx="216072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68360" y="2708280"/>
            <a:ext cx="4681440" cy="151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755640" y="2205000"/>
            <a:ext cx="453708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324000" y="3357720"/>
            <a:ext cx="460836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924360" y="9079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826920" y="5589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 rot="952200">
            <a:off x="361800" y="29926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 rot="1148400">
            <a:off x="826560" y="21337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 rot="978600">
            <a:off x="394920" y="38602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116000" y="595008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183528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2843280" y="1268280"/>
            <a:ext cx="1873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 flipH="1" flipV="1">
            <a:off x="1116000" y="515736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3492360" y="220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900000" y="4292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5364000" y="364500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79280" y="119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>
            <a:off x="313200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3" y="109753"/>
                </a:lnTo>
                <a:lnTo>
                  <a:pt x="287337" y="109753"/>
                </a:lnTo>
                <a:lnTo>
                  <a:pt x="198544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6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48000" y="1844640"/>
            <a:ext cx="1728720" cy="64764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82692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4252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3635280" y="1268280"/>
            <a:ext cx="5112000" cy="446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000042">
                  <a:alpha val="2509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-1224000" y="-67464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>
            <a:off x="5148000" y="1125360"/>
            <a:ext cx="216036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3851280" y="2852640"/>
            <a:ext cx="468144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140360" y="2276640"/>
            <a:ext cx="453708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3635280" y="3500280"/>
            <a:ext cx="446580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51672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140360" y="57340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952200">
            <a:off x="6626160" y="407160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 rot="1018800">
            <a:off x="6624360" y="3068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 rot="978600">
            <a:off x="6084360" y="465264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4427640" y="6093000"/>
            <a:ext cx="1512720" cy="1443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29272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6227640" y="1268280"/>
            <a:ext cx="187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 flipH="1" flipV="1">
            <a:off x="4500360" y="5157360"/>
            <a:ext cx="172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140360" y="422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6877080" y="206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187280" y="3500280"/>
            <a:ext cx="244800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7164360" y="1268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21 december</a:t>
            </a: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72436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5"/>
          <p:cNvSpPr/>
          <p:nvPr/>
        </p:nvSpPr>
        <p:spPr>
          <a:xfrm flipH="1" flipV="1">
            <a:off x="5076720" y="1557360"/>
            <a:ext cx="719280" cy="21600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1547640" y="2781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H="1">
            <a:off x="1258560" y="2852640"/>
            <a:ext cx="576360" cy="1297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826920" y="321300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1547640" y="278136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 flipH="1" flipV="1">
            <a:off x="971640" y="4005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802800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 flipH="1">
            <a:off x="7740360" y="2924280"/>
            <a:ext cx="57636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7236000" y="335772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802800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7380000" y="4076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H="1">
            <a:off x="4140000" y="1197000"/>
            <a:ext cx="502920" cy="12952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H="1">
            <a:off x="4140360" y="4869000"/>
            <a:ext cx="57600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3635280" y="162864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3635280" y="5300640"/>
            <a:ext cx="1513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4356000" y="1125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3780000" y="2349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>
            <a:off x="4356000" y="4797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3780000" y="6021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2411280" y="3573360"/>
            <a:ext cx="136872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>
            <a:off x="5076360" y="3573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4356000" y="184464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4356000" y="422100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356000" y="4869000"/>
            <a:ext cx="0" cy="647640"/>
          </a:xfrm>
          <a:prstGeom prst="line">
            <a:avLst/>
          </a:prstGeom>
          <a:ln w="381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0" y="407664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164360" y="9079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6012000" y="53323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1835280" y="18900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ma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§3 vragen 1 t/m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G: §3 vragen 1 t/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66"/>
                </a:solidFill>
                <a:latin typeface="Trebuchet MS"/>
              </a:rPr>
              <a:t>Wat zijn de gevolgen van verschil in ligg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2205000"/>
            <a:ext cx="79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ereikbaar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Zonnestraling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Lengte van dag en na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ijdverschi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364000" y="191628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erschillen in temperatuur en klim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435600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4643280" y="522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543564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brazilie0"/>
          <p:cNvPicPr/>
          <p:nvPr/>
        </p:nvPicPr>
        <p:blipFill>
          <a:blip r:embed="rId1"/>
          <a:stretch/>
        </p:blipFill>
        <p:spPr>
          <a:xfrm>
            <a:off x="776160" y="1413000"/>
            <a:ext cx="415620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24000" y="350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Brazil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malediven5535526767sde"/>
          <p:cNvPicPr/>
          <p:nvPr/>
        </p:nvPicPr>
        <p:blipFill>
          <a:blip r:embed="rId1"/>
          <a:stretch/>
        </p:blipFill>
        <p:spPr>
          <a:xfrm>
            <a:off x="539640" y="1700280"/>
            <a:ext cx="4537080" cy="35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468360" y="2852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aled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groenland003"/>
          <p:cNvPicPr/>
          <p:nvPr/>
        </p:nvPicPr>
        <p:blipFill>
          <a:blip r:embed="rId1"/>
          <a:stretch/>
        </p:blipFill>
        <p:spPr>
          <a:xfrm>
            <a:off x="684360" y="1413000"/>
            <a:ext cx="4259160" cy="4051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916360" y="148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Gro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noordpool_001"/>
          <p:cNvPicPr/>
          <p:nvPr/>
        </p:nvPicPr>
        <p:blipFill>
          <a:blip r:embed="rId1"/>
          <a:stretch/>
        </p:blipFill>
        <p:spPr>
          <a:xfrm>
            <a:off x="468360" y="2060640"/>
            <a:ext cx="4680000" cy="3036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179280" y="3789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8360" y="20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Antarctica-01"/>
          <p:cNvPicPr/>
          <p:nvPr/>
        </p:nvPicPr>
        <p:blipFill>
          <a:blip r:embed="rId1"/>
          <a:stretch/>
        </p:blipFill>
        <p:spPr>
          <a:xfrm>
            <a:off x="539640" y="1773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611280" y="4869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Zuidpool ( Antarctic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Namibie_1"/>
          <p:cNvPicPr/>
          <p:nvPr/>
        </p:nvPicPr>
        <p:blipFill>
          <a:blip r:embed="rId1"/>
          <a:stretch/>
        </p:blipFill>
        <p:spPr>
          <a:xfrm>
            <a:off x="539640" y="1916280"/>
            <a:ext cx="4537080" cy="311292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851280" y="378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amib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1:18:28Z</dcterms:created>
  <dc:creator>Rene Anjewierden</dc:creator>
  <dc:description/>
  <dc:language>en-US</dc:language>
  <cp:lastModifiedBy>matthiasdejong</cp:lastModifiedBy>
  <dcterms:modified xsi:type="dcterms:W3CDTF">2010-11-11T13:21:41Z</dcterms:modified>
  <cp:revision>13</cp:revision>
  <dc:subject/>
  <dc:title>Dia 1</dc:title>
</cp:coreProperties>
</file>