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Welke doelen hebben controlere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9FAC-6021-408F-ADDA-D6AC5100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C96F-C47E-4DA6-9363-9BE4872E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792E-F164-4951-A9F3-EE3A0F4A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FA76-224C-4A68-A651-A547C8B4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A75D-B391-4DFE-8EAE-13A405AB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268A-D556-4353-8A2B-DC6DDDB6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D0BA-AF8E-4CA2-AE48-DD48123B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B7A8-76C3-4DD5-BE6F-8D08C033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D318-BDD8-4626-9E62-D573B13F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29A7-7098-4E55-8F7B-307993F3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A0E8-0649-4BC1-8DC0-0B4A3A62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737D-40D6-468F-AEAA-D96470E3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91C3-A91A-47CB-85AE-666F38E1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C29D-5CED-41B6-AEAB-8C71FBFE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D0A5-0016-436D-AB06-BA81A1A4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68C9-5878-4C77-9406-DA9A5243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6FE8-D9F1-4AA6-9675-8FA51B41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50D7F-CF33-4732-8AB5-4BEC8727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AB8FA-0D50-4079-A718-D2F615AF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0F761-ACA0-451A-BA2F-FA7AB357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1C1B0-7527-4025-A98A-35DFE527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999C3-ECE7-4C42-8A56-13712785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DB32-2887-4BC3-A932-FA928CE4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A29B6-CBE4-404C-95CB-46068F8E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AE0BB-B446-47F6-8DA7-14784F28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611BE-DC49-45BF-AB84-B252348F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DA778-AF80-45AB-9563-7C475691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9433E-D273-43CD-9EC3-29E7DEA7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532A4-CBDD-4D07-9B8E-B052804D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3C70A-761A-46F1-B7BE-DA52F522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9148-15BC-4269-BF85-00E35013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BC45-E9CF-465C-A8FD-2F3F136D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15CA-2F38-4A26-8801-F8047FBB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433B-51D9-4BCE-9778-098F4516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E944-FFA9-4D5F-93B2-12A70E51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1551-C2DC-4400-9E89-05BFB4F6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90DF3-CDDF-4C93-9165-FFABED05098D}" type="slidenum">
              <a:rPr b="0" lang="nl-NL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2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CE7A8A4-473E-44E5-93ED-FF61890ADA7E}" type="slidenum">
              <a:rPr b="0" lang="nl-N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6D24A11-3A3D-4212-8E4C-33D68554A1E4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FzCsiGkSBec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assie.horeca.nl/video/15658/het_reageren_op_een_verborgen_regelovertreding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Verdana"/>
              </a:rPr>
              <a:t>Les 2 Sociale Hygiëne / 2-1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560" y="351756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7620120" cy="28573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3203640" y="638172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Jacob van Wi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Geweigerd.nl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llen die zich in Nederland bevinden, worden in gelijke gevallen gelijk behandeld. Discriminatie wegens godsdienst, levensovertuiging, politieke gezindheid, ras, geslacht of op welke grond dan ook, is niet toegestaan.”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amenwerken met partij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Met welke partijen werk je sam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me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ndere ondernem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olit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Taken leidinggeven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erknemers voorlich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nstructie gev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oezicht houd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erkoverleg voer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oor- Nabespreking (briefing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oache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Vragen en antwoord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nneer vertoont iemand sociaal-hygiënisch gedra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t zijn fatsoensnorm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3. Wat is het verschil tussen moreel en immoreel gedra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4. Waaruit bestaat een sociaal-hygiënisch beleid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5. Leg uit waarom het verstandig is om in een horeca- of slijtersbedrijf een sociaal-hygiënisch beleid te voer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6. Wat moet een leidinggevende doen om geloofwaardig over te komen bij zijn gasten of klant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7. Een gedragsregel stelt grenzen aan gedrag. Geef aan tussen welke twee gedragingen de gedragsregel de grens stel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8. Er zijn twee soorten regels. Welke zijn dit en wat hebben ze met elkaar geme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9. Stel dat u een regel moet opstellen. Wat moet u dan ten minste in de omschrijving van de regel opnem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0. Leg uit wat het verband is tussen het waarom van de regel en het geven van argument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1. Wat verstaat men onder het begrip ‘normvervaging’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2. Geef aan wat het doel is van een handhavingsbelei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3. Uit welke vier stappen bestaat het handhavingsbeleid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4. Welke W’s spelen een rol bij de waarneming van regelovertredin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Hoe kun je er als ondernemer voor zorgen dat gasten zich goed gedragen jouw horeca-gelegenhei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5. Welke drie sancties kunnen in een horecabedrijf worden toegepas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6. Wanneer pleegt iemand ‘huisvredebreuk’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7. Geef aan wat u de gast vertelt voordat u tot vorderen overgaa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8. Wat zijn de drie voordelen van een schriftelijke ontzeggin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9. Geef aan waarover elke medewerker zich moet uitspreken bij toepassing van het handhavingsbelei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0. Geef aan waar de selectiecriteria bij het deurbeleid betrekking op mogen hebb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1. Wat wordt in de Grondwet onder discriminatie verstaa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2. Welke afspraken kunnen er gemaakt worden met de politi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3. Over welke zaken kunnen ondernemers samenwerk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Afslui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ZIJN ER NOG VRAG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oede wee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e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kstvak 2"/>
          <p:cNvSpPr/>
          <p:nvPr/>
        </p:nvSpPr>
        <p:spPr>
          <a:xfrm>
            <a:off x="849240" y="278136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ideo Contact maken bij regelhandha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passie.horeca.nl/video/15658/het_reageren_op_een_verborgen_regelovertr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isie op gastvrijheidsconce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dreigingen onderzoe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renzen stellen a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andhavingsbele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amenwerken met partij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orlichting en instructi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iligheidsbeleid (komt la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en goede gedragsregel bestaat uit drie  onderdelen, namelij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doel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 van de regel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inhoud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 van de regel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het </a:t>
            </a: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waarom 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van de rege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Verdana"/>
              </a:rPr>
              <a:t>Opdracht huisregels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ciaal-Hygiënisch belei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360" indent="-466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6836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andhavingsbeleid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6836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 hebben nu regels, maar wat moet je doen om er voor te zorgen dat deze ook worden nageleef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Verdana"/>
              </a:rPr>
              <a:t>Handhavingsbeleid: Stapp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s controlere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overtreding corrig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overtreding sanction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ancties afdwin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Eisen stellen om ervoor te zorgen da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naam van het bedrijf behouden blijf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orde en rust in het bedrijf gegarandeerd word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iligheid van gasten en medewerkers gewaarborgd word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De eisen mogen alleen betrekking hebben 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redietwaard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Selectiecrite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eren op basis van getalscriteri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eren op basis van leeftij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ie op basis van huisrege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09:40:52Z</dcterms:created>
  <dc:creator>VMBO Leeuwarden</dc:creator>
  <dc:description/>
  <dc:language>en-US</dc:language>
  <cp:lastModifiedBy>12viwijc</cp:lastModifiedBy>
  <dcterms:modified xsi:type="dcterms:W3CDTF">2013-12-02T08:19:09Z</dcterms:modified>
  <cp:revision>18</cp:revision>
  <dc:subject/>
  <dc:title>Sociale Hygiëne jaar1 Sporeto</dc:title>
</cp:coreProperties>
</file>