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9A0-2EE3-403D-A184-F7C14626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06C-5FB7-4B5B-97AB-2B0B67C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D90-938D-4576-98FF-355F50E5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8A2-02FB-4AD6-A24A-74256220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E904-A87B-473B-A6AC-9D5578AB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0A2A-C7E5-409D-B652-81F7DB7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DA3-4357-497F-A054-C74C7E1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EB9-4BF8-4156-AC0B-12FEAD84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C0E1-49CC-4643-A383-D57676D3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3785-CF58-4B41-9697-8C43C8FF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2A1B-FE1C-4A5E-AF49-7634C637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039-AF93-43EC-840F-7563C0D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5E2D-5725-4FEB-A38B-614A893E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FFA-94F1-4F9D-A111-92DA1EC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1588-9D15-4332-90C0-B97146E2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DD03-C2C4-431F-81AF-6FA3A73A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FF0C-5316-4DA4-B761-3926A770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F3A4-8E3E-41DD-92E2-6FB8DE01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1F08-B64F-4FFE-B72C-8964427B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EC94-3F49-4F46-9548-9003B160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85E5-A85B-4BAC-B23F-23CBB4A1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242F-FD06-422F-BB1F-112C9F48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4BC-C20A-4D01-93F3-36795D4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0716-4EFF-42F7-B756-090F303C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6DFC-6F0B-42D6-9E91-4CABBE4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8D4F-79C3-4C15-BB12-44BC471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7400-0832-4D4E-88FA-3B3CF3A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084F-E10B-411A-AA6E-EAACBB64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1637-1FAD-4762-B56A-21D3DE1D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B60F-A0EF-4420-BE7B-34341B70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2DC-3BE0-4458-A289-5073B96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A6D-C434-499E-91B8-8B76D933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311-781B-455F-96D2-C3000F9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E8F-CE28-4ADE-BD36-43BEB3F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D1C-CFE2-42A3-B931-77823A9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E92-CE7F-45D4-8AD0-E4594708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B2AF5-9DFD-4F7D-9B68-0E4AF78A0208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89DA0D-F5A0-4140-A7F5-F5E94DC37A80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4CED5A-9C54-4635-AF24-893A2CEF34D6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65/Contact_maken_SH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Huisregels opstellen en handha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Stel dat je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Geef aan wat je de gast vertelt voordat je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Contact mak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 </a:t>
            </a: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65/Contact_maken_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Jacob</cp:lastModifiedBy>
  <dcterms:modified xsi:type="dcterms:W3CDTF">2013-12-16T05:02:34Z</dcterms:modified>
  <cp:revision>19</cp:revision>
  <dc:subject/>
  <dc:title>Sociale Hygiëne jaar1 Sporeto</dc:title>
</cp:coreProperties>
</file>