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3E7968-F7ED-4B02-B58D-758DB4202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A1A95-4F5D-447E-9CE6-642AFA1B0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646FF1-2795-48F1-9F26-18003D70F9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A52DDF-E10E-4DF1-AC1A-3FCEC7672E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3E430A-E24B-4550-A68A-AD3577A960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01C12-D8B3-434D-8EE1-1A16B0E995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DCFEB2-6F57-4457-9518-AE6313AFCC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DF370D-0FE8-4ACC-96D4-E9DCB0533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A04819-1E69-481A-A049-61CA9212FA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B3A466-D401-4D57-B1B8-C18957FE2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29354-166B-4740-AD39-88ECCFEB1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BF755-2340-4193-9084-AC81E9185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7E2FB-4F00-408C-9C44-01D30D532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BB65F-3BAD-4707-989A-22D993709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6F7059-5495-4DA1-96B1-4FA5C80AF2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C41612-4E23-461C-902A-A8ECDC9127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CEB57C-98F1-4698-B26A-694EDB13D7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48D8C-1898-42AF-A39E-8CD2DA7CB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6AD1F-CC50-4E03-8BFB-59AE464BE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AAC21-87C1-451D-BADA-21A383DE2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5B611-456C-4102-BFD6-A83A668B0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A5CB2-7FBE-49C2-AFCD-6B1964844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FBE5A-7658-4A3F-83EC-A8E17DDE9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F0E07-6071-488E-9A58-77705A7C83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26197-37EB-4D89-AC27-4C73AE51FBA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BABAC-2F88-4330-9BCA-176A07F1507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vh.nl/examens/sociale-hygiene.htm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Verdana"/>
              </a:rPr>
              <a:t>Sociale Hygiëne jaar 2 Sporeto</a:t>
            </a:r>
            <a:endParaRPr b="0" lang="en-US" sz="36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0000"/>
              </a:solidFill>
              <a:latin typeface="Verdana"/>
            </a:endParaRPr>
          </a:p>
        </p:txBody>
      </p:sp>
      <p:pic>
        <p:nvPicPr>
          <p:cNvPr id="87" name="Picture 4" descr="hf_sociale-hygiene"/>
          <p:cNvPicPr/>
          <p:nvPr/>
        </p:nvPicPr>
        <p:blipFill>
          <a:blip r:embed="rId1"/>
          <a:stretch/>
        </p:blipFill>
        <p:spPr>
          <a:xfrm>
            <a:off x="755640" y="2708280"/>
            <a:ext cx="7620120" cy="2857320"/>
          </a:xfrm>
          <a:prstGeom prst="rect">
            <a:avLst/>
          </a:prstGeom>
          <a:ln w="0">
            <a:noFill/>
          </a:ln>
        </p:spPr>
      </p:pic>
      <p:sp>
        <p:nvSpPr>
          <p:cNvPr id="88" name="Text Box 5"/>
          <p:cNvSpPr/>
          <p:nvPr/>
        </p:nvSpPr>
        <p:spPr>
          <a:xfrm>
            <a:off x="2700360" y="624060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Jacob van Wiere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Theorie en antwoorden hoofdstuk 9</a:t>
            </a:r>
            <a:endParaRPr b="0" lang="en-US" sz="3800" spc="-1" strike="noStrike">
              <a:solidFill>
                <a:srgbClr val="000000"/>
              </a:solidFill>
              <a:latin typeface="Verdana"/>
            </a:endParaRPr>
          </a:p>
        </p:txBody>
      </p:sp>
      <p:sp>
        <p:nvSpPr>
          <p:cNvPr id="106" name=""/>
          <p:cNvSpPr txBox="1"/>
          <p:nvPr/>
        </p:nvSpPr>
        <p:spPr>
          <a:xfrm>
            <a:off x="566280" y="1752480"/>
            <a:ext cx="8001000" cy="4267440"/>
          </a:xfrm>
          <a:prstGeom prst="rect">
            <a:avLst/>
          </a:prstGeom>
          <a:noFill/>
          <a:ln w="0">
            <a:noFill/>
          </a:ln>
        </p:spPr>
        <p:txBody>
          <a:bodyPr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Afroombox: Een box waarin overtollig geld afgeroomd kan worden. </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Door de camera zichtbaar op te hangen voor het publiek. kan het effect van camera’s verbeterd worden </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Theorie en antwoorden hoofdstuk 9</a:t>
            </a:r>
            <a:endParaRPr b="0" lang="en-US" sz="3800" spc="-1" strike="noStrike">
              <a:solidFill>
                <a:srgbClr val="000000"/>
              </a:solidFill>
              <a:latin typeface="Verdana"/>
            </a:endParaRPr>
          </a:p>
        </p:txBody>
      </p:sp>
      <p:sp>
        <p:nvSpPr>
          <p:cNvPr id="108" name=""/>
          <p:cNvSpPr txBox="1"/>
          <p:nvPr/>
        </p:nvSpPr>
        <p:spPr>
          <a:xfrm>
            <a:off x="468000" y="1773000"/>
            <a:ext cx="8001000" cy="4267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Detectiepoort</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Voordeel:</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Het apparaat heeft een preventieve werking op wapenbezit van gasten of spoort deze op. </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Nadeel:</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Dat het problemen kan geven met gasten, die de controle als inbreuk op hun privacy ervaren.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Theorie en antwoorden hoofdstuk 9</a:t>
            </a:r>
            <a:endParaRPr b="0" lang="en-US" sz="3800" spc="-1" strike="noStrike">
              <a:solidFill>
                <a:srgbClr val="000000"/>
              </a:solidFill>
              <a:latin typeface="Verdana"/>
            </a:endParaRPr>
          </a:p>
        </p:txBody>
      </p:sp>
      <p:sp>
        <p:nvSpPr>
          <p:cNvPr id="110" name=""/>
          <p:cNvSpPr txBox="1"/>
          <p:nvPr/>
        </p:nvSpPr>
        <p:spPr>
          <a:xfrm>
            <a:off x="566280" y="1752480"/>
            <a:ext cx="8001000" cy="42674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Het magazijn is te beveiligen door de volgende maatregele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Het magazijn moet in principe altijd op slot zij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Gasten mogen niet in de buurt van het magazijn kunnen kome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Alle tussendeuren in het bedrijf moeten gesloten zij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Zorg voor een goede verlichting, extra (zware) sloten en vergrendelingen als het magazijn ook van buiten te bereiken is.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Plaats eventueel een hekwerk rondom het magazij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Raampjes in het magazijn moeten afgesloten kunnen worden met speciale raamsloten met traliewerk voor het raam.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Zorg voor goed sleutelbeheer ten aanzien van de magazijnsleutel.</a:t>
            </a:r>
            <a:endParaRPr b="0" lang="en-US" sz="1800" spc="-1" strike="noStrike">
              <a:solidFill>
                <a:srgbClr val="000000"/>
              </a:solidFill>
              <a:latin typeface="Verdana"/>
            </a:endParaRPr>
          </a:p>
          <a:p>
            <a:pPr>
              <a:spcBef>
                <a:spcPts val="451"/>
              </a:spcBef>
              <a:buClr>
                <a:srgbClr val="cc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566280" y="1752480"/>
            <a:ext cx="8001000" cy="42674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In een sleutelprocedure dient te zijn vastgelegd: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ie in het bezit is van welke sleutel;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ie welke deur mag of moet openen of sluite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ie welke sleutel op welk moment moet inleveren of in de sleutelkast opberge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ie het bedrijf opent of sluit;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elke sleutels in de sleutelkast moeten hangen bij afsluiting van het bedrijf;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ie belast is met het toezicht en de controle op het sleutelbeheer;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dat vermissing van sleutels direct gemeld moet worden door hotelgasten of mede-werkers. </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 name="Rechthoek 1"/>
          <p:cNvSpPr/>
          <p:nvPr/>
        </p:nvSpPr>
        <p:spPr>
          <a:xfrm>
            <a:off x="746280" y="260280"/>
            <a:ext cx="691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Verdana"/>
              </a:rPr>
              <a:t>Theorie en antwoorden hoofdstuk 9</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566280" y="1752480"/>
            <a:ext cx="8001000" cy="4267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De horecaportier moet aan de volgende eisen voldoen: </a:t>
            </a:r>
            <a:endParaRPr b="0" lang="en-US" sz="2800" spc="-1" strike="noStrike">
              <a:solidFill>
                <a:srgbClr val="000000"/>
              </a:solidFill>
              <a:latin typeface="Verdana"/>
            </a:endParaRPr>
          </a:p>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de horecaportier moet in dienst zijn van een particuliere beveiligingsorganisatie; </a:t>
            </a:r>
            <a:endParaRPr b="0" lang="en-US" sz="2800" spc="-1" strike="noStrike">
              <a:solidFill>
                <a:srgbClr val="000000"/>
              </a:solidFill>
              <a:latin typeface="Verdana"/>
            </a:endParaRPr>
          </a:p>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de horecaportier moet in bezit zijn van een SVH Diploma Horecaportier; </a:t>
            </a:r>
            <a:endParaRPr b="0" lang="en-US" sz="2800" spc="-1" strike="noStrike">
              <a:solidFill>
                <a:srgbClr val="000000"/>
              </a:solidFill>
              <a:latin typeface="Verdana"/>
            </a:endParaRPr>
          </a:p>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de horecaportier moet met succes gescreend zijn door de politie. </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Rechthoek 2"/>
          <p:cNvSpPr/>
          <p:nvPr/>
        </p:nvSpPr>
        <p:spPr>
          <a:xfrm>
            <a:off x="746280" y="260280"/>
            <a:ext cx="691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Verdana"/>
              </a:rPr>
              <a:t>Theorie en antwoorden hoofdstuk 9</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566640" y="1752480"/>
            <a:ext cx="8182080" cy="44848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De taken van de BHV’er zijn: </a:t>
            </a:r>
            <a:endParaRPr b="0" lang="en-US" sz="2800" spc="-1" strike="noStrike">
              <a:solidFill>
                <a:srgbClr val="000000"/>
              </a:solidFill>
              <a:latin typeface="Verdana"/>
            </a:endParaRPr>
          </a:p>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het verlenen van eerste hulp bij ongevallen; </a:t>
            </a:r>
            <a:endParaRPr b="0" lang="en-US" sz="2800" spc="-1" strike="noStrike">
              <a:solidFill>
                <a:srgbClr val="000000"/>
              </a:solidFill>
              <a:latin typeface="Verdana"/>
            </a:endParaRPr>
          </a:p>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het beperken en bestrijden van brand; </a:t>
            </a:r>
            <a:endParaRPr b="0" lang="en-US" sz="2800" spc="-1" strike="noStrike">
              <a:solidFill>
                <a:srgbClr val="000000"/>
              </a:solidFill>
              <a:latin typeface="Verdana"/>
            </a:endParaRPr>
          </a:p>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het beperken van de gevolgen van ongevallen; </a:t>
            </a:r>
            <a:endParaRPr b="0" lang="en-US" sz="2800" spc="-1" strike="noStrike">
              <a:solidFill>
                <a:srgbClr val="000000"/>
              </a:solidFill>
              <a:latin typeface="Verdana"/>
            </a:endParaRPr>
          </a:p>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het alarmeren en evacueren van alle aanwezige personen in het bedrijf.</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6" name="Rechthoek 2"/>
          <p:cNvSpPr/>
          <p:nvPr/>
        </p:nvSpPr>
        <p:spPr>
          <a:xfrm>
            <a:off x="746280" y="260280"/>
            <a:ext cx="691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Verdana"/>
              </a:rPr>
              <a:t>Theorie en antwoorden hoofdstuk 9</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566280" y="1752480"/>
            <a:ext cx="8001000" cy="426744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Je krijgt nu de oefentoets met daarin net als bij de echte toets 40 vragen. De score van deze oefentoets telt niet mee, maar geeft je een idee van wat voor soort vragen je kunt verwachten. De theorie uit de powerpoints samen met de vragen en antwoorden uit de vorige lessen vormen de basis van de eindtoets. Door deze goed te leren bereid je jezelf optimaal voor!</a:t>
            </a:r>
            <a:endParaRPr b="0" lang="en-US" sz="2500" spc="-1" strike="noStrike">
              <a:solidFill>
                <a:srgbClr val="000000"/>
              </a:solidFill>
              <a:latin typeface="Verdana"/>
            </a:endParaRPr>
          </a:p>
        </p:txBody>
      </p:sp>
      <p:sp>
        <p:nvSpPr>
          <p:cNvPr id="118" name="Rechthoek 2"/>
          <p:cNvSpPr/>
          <p:nvPr/>
        </p:nvSpPr>
        <p:spPr>
          <a:xfrm>
            <a:off x="746280" y="26028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Verdana"/>
              </a:rPr>
              <a:t>Oefentoet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Programma vandaag</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anchor="t">
            <a:normAutofit fontScale="98000"/>
          </a:bodyPr>
          <a:p>
            <a:pPr marL="460080" indent="-460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ijziging datum eindtoets + taples</a:t>
            </a:r>
            <a:endParaRPr b="0" lang="en-US" sz="3000" spc="-1" strike="noStrike">
              <a:solidFill>
                <a:srgbClr val="000000"/>
              </a:solidFill>
              <a:latin typeface="Verdana"/>
            </a:endParaRPr>
          </a:p>
          <a:p>
            <a:pPr marL="460080" indent="-460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Informatie officieel examen</a:t>
            </a:r>
            <a:endParaRPr b="0" lang="en-US" sz="3000" spc="-1" strike="noStrike">
              <a:solidFill>
                <a:srgbClr val="000000"/>
              </a:solidFill>
              <a:latin typeface="Verdana"/>
            </a:endParaRPr>
          </a:p>
          <a:p>
            <a:pPr marL="460080" indent="-460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Behandelen opdrachten hoofdstuk 4</a:t>
            </a:r>
            <a:endParaRPr b="0" lang="en-US" sz="3000" spc="-1" strike="noStrike">
              <a:solidFill>
                <a:srgbClr val="000000"/>
              </a:solidFill>
              <a:latin typeface="Verdana"/>
            </a:endParaRPr>
          </a:p>
          <a:p>
            <a:pPr marL="460080" indent="-460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Behandelen theorie en opdrachten hoofdstuk 9</a:t>
            </a:r>
            <a:endParaRPr b="0" lang="en-US" sz="3000" spc="-1" strike="noStrike">
              <a:solidFill>
                <a:srgbClr val="000000"/>
              </a:solidFill>
              <a:latin typeface="Verdana"/>
            </a:endParaRPr>
          </a:p>
          <a:p>
            <a:pPr marL="460080" indent="-460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Maken van oefentoets</a:t>
            </a:r>
            <a:endParaRPr b="0" lang="en-US" sz="3000" spc="-1" strike="noStrike">
              <a:solidFill>
                <a:srgbClr val="000000"/>
              </a:solidFill>
              <a:latin typeface="Verdana"/>
            </a:endParaRPr>
          </a:p>
          <a:p>
            <a:pPr marL="460080" indent="-460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Nabespreken oefentoets</a:t>
            </a:r>
            <a:endParaRPr b="0" lang="en-US" sz="3000" spc="-1" strike="noStrike">
              <a:solidFill>
                <a:srgbClr val="000000"/>
              </a:solidFill>
              <a:latin typeface="Verdana"/>
            </a:endParaRPr>
          </a:p>
          <a:p>
            <a:pPr marL="460080" indent="-460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Afsluiting</a:t>
            </a:r>
            <a:endParaRPr b="0" lang="en-US" sz="3000" spc="-1" strike="noStrike">
              <a:solidFill>
                <a:srgbClr val="000000"/>
              </a:solidFill>
              <a:latin typeface="Verdana"/>
            </a:endParaRPr>
          </a:p>
          <a:p>
            <a:pPr marL="460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0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0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Datum eindtoets en tapcursus</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Eindtoets en tapcursus vindt plaats op 27-1-2014. Ik probeer de les met Frank nog om te ruilen zodat we alles op de middag kunnen plannen. De tapcursus vindt plaats in de Leeuwarden Loung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formatie examen</a:t>
            </a:r>
            <a:endParaRPr b="0" lang="en-US" sz="3800" spc="-1" strike="noStrike">
              <a:solidFill>
                <a:srgbClr val="000000"/>
              </a:solidFill>
              <a:latin typeface="Verdana"/>
            </a:endParaRPr>
          </a:p>
        </p:txBody>
      </p:sp>
      <p:sp>
        <p:nvSpPr>
          <p:cNvPr id="94" name="PlaceHolder 2"/>
          <p:cNvSpPr>
            <a:spLocks noGrp="1"/>
          </p:cNvSpPr>
          <p:nvPr>
            <p:ph/>
          </p:nvPr>
        </p:nvSpPr>
        <p:spPr>
          <a:xfrm>
            <a:off x="684000" y="1267920"/>
            <a:ext cx="8001000" cy="3814920"/>
          </a:xfrm>
          <a:prstGeom prst="rect">
            <a:avLst/>
          </a:prstGeom>
          <a:noFill/>
          <a:ln w="0">
            <a:noFill/>
          </a:ln>
        </p:spPr>
        <p:txBody>
          <a:bodyPr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Examen kan aangevraagd worden via </a:t>
            </a:r>
            <a:r>
              <a:rPr b="0" lang="nl-NL" sz="3000" spc="-1" strike="noStrike" u="sng">
                <a:solidFill>
                  <a:srgbClr val="336699"/>
                </a:solidFill>
                <a:uFillTx/>
                <a:latin typeface="Verdana"/>
                <a:hlinkClick r:id="rId1"/>
              </a:rPr>
              <a:t>http://www.svh.nl/examens/sociale-hygiene.htm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Kost 127 euro en kan op donderdags digitaal op de NHL gedaan worden om 13:00/14:15/15:30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Vragen hoofdstuk 4</a:t>
            </a:r>
            <a:endParaRPr b="0" lang="en-US" sz="3800" spc="-1" strike="noStrike">
              <a:solidFill>
                <a:srgbClr val="000000"/>
              </a:solidFill>
              <a:latin typeface="Verdana"/>
            </a:endParaRPr>
          </a:p>
        </p:txBody>
      </p:sp>
      <p:sp>
        <p:nvSpPr>
          <p:cNvPr id="96" name="PlaceHolder 2"/>
          <p:cNvSpPr>
            <a:spLocks noGrp="1"/>
          </p:cNvSpPr>
          <p:nvPr>
            <p:ph/>
          </p:nvPr>
        </p:nvSpPr>
        <p:spPr>
          <a:xfrm>
            <a:off x="610920" y="1628640"/>
            <a:ext cx="8001000" cy="426744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1. De volgende afwegingen moeten worden gemaakt bij de gespreksmodellen ‘Openlijke en Verborgen regelovertreding: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elke regelovertreding;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assistentie of delegere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doel bepale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anneer optreden. </a:t>
            </a: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2. Het doel van ‘inzicht tonen’ is, dat de gast niet te direct geconfronteerd wordt met het woord ‘nee’.</a:t>
            </a: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3. het verschil tussen een openlijke en een verborgen regelovertreding is dat de handelingen van de overtreder bij openlijke regelovertreding zelf zijn waargenomen en bij verborgen regelovertreding nie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Vragen hoofdstuk 4 (vervolg)</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4. De gast zal  als je hem confronteert met een verborgen regelovertreding A2-gedrag (ontkennend gedrag) vertonen. Hij weet immers dat de regelhandhaver slechts optreedt op basis van vermoedens.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5. Om goed met klachten van gasten om te kunnen gaan, moet je onderscheid kunnen maken tussen: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soorten klachten;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soorten klagers;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wijze van klagen;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oe klachten afgehandeld kunnen worden.</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Theorie en antwoorden hoofdstuk 9</a:t>
            </a: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toiletten moeten aan de volgende eisen voldoen: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In de onmiddellijke nabijheid van een horecalokaliteit zijn, ten behoeve van de bezoekers, ten minste twee volledig van elkaar gescheiden toiletgelegenheden aanwezig.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Elke toiletgelegenheid bevat ten minste: </a:t>
            </a:r>
            <a:endParaRPr b="0" lang="en-US" sz="2000" spc="-1" strike="noStrike">
              <a:solidFill>
                <a:srgbClr val="000000"/>
              </a:solidFill>
              <a:latin typeface="Verdana"/>
            </a:endParaRPr>
          </a:p>
          <a:p>
            <a:pPr lvl="1" marL="907920" indent="-43632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één of meer behoorlijk afsluitbare toiletruimten; </a:t>
            </a:r>
            <a:endParaRPr b="0" lang="en-US" sz="1600" spc="-1" strike="noStrike">
              <a:solidFill>
                <a:srgbClr val="000000"/>
              </a:solidFill>
              <a:latin typeface="Verdana"/>
            </a:endParaRPr>
          </a:p>
          <a:p>
            <a:pPr lvl="1" marL="907920" indent="-43632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één of meer behoorlijke voorzieningen om de handen met deugdelijk stromend drinkwater te kunnen wassen. </a:t>
            </a:r>
            <a:endParaRPr b="0" lang="en-US" sz="16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in de toiletruimte aanwezige toiletpotten en urinoirs zijn voorzien van waterspoeling.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toiletruimten zijn niet rechtstreeks toegankelijk vanuit een horecalokaliteit. </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Theorie en antwoorden hoofdstuk 9</a:t>
            </a: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anchor="t">
            <a:normAutofit fontScale="98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Een brandmelding bestaat uit het noemen van: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naam van melder;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t adres van uw bedrijf (straatnaam, huisnummer, woonplaats);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naam van uw bedrijf;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t soort bedrijf (bijvoorbeeld café);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bereikbaarheid van het bedrijf (routebeschrijving);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wat er gebeurd is (oorzaak van brand);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aard van de brand (binnen of buiten, schoorsteenbrand of gasexplosie);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t aantal mensen dat op dat moment aanwezig is.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Laat iemand de brandweer buiten opwachten. </a:t>
            </a:r>
            <a:endParaRPr b="0" lang="en-US" sz="2000" spc="-1" strike="noStrike">
              <a:solidFill>
                <a:srgbClr val="000000"/>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Theorie en antwoorden hoofdstuk 9</a:t>
            </a:r>
            <a:endParaRPr b="0" lang="en-US" sz="3800" spc="-1" strike="noStrike">
              <a:solidFill>
                <a:srgbClr val="000000"/>
              </a:solidFill>
              <a:latin typeface="Verdana"/>
            </a:endParaRPr>
          </a:p>
        </p:txBody>
      </p:sp>
      <p:sp>
        <p:nvSpPr>
          <p:cNvPr id="104" name=""/>
          <p:cNvSpPr txBox="1"/>
          <p:nvPr/>
        </p:nvSpPr>
        <p:spPr>
          <a:xfrm>
            <a:off x="566280" y="1752480"/>
            <a:ext cx="8001000" cy="42674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De volgende bouwkundige voorzieningen kunnen getroffen worden om de veiligheid te vergroten: </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een goed doorzicht; </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een goed overzicht; </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een goed toezicht; </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goede verlichting; </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een beveiligde kassa; </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een veilige kluis; </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sleutelbeheer. </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2T09:40:52Z</dcterms:created>
  <dc:creator>VMBO Leeuwarden</dc:creator>
  <dc:description/>
  <dc:language>en-US</dc:language>
  <cp:lastModifiedBy>Jacob</cp:lastModifiedBy>
  <dcterms:modified xsi:type="dcterms:W3CDTF">2014-01-12T20:20:25Z</dcterms:modified>
  <cp:revision>25</cp:revision>
  <dc:subject/>
  <dc:title>Sociale Hygiëne jaar1 Sporeto</dc:title>
</cp:coreProperties>
</file>