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-11798280" y="-11796840"/>
            <a:ext cx="11796840" cy="124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Welke doelen hebben controleren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BFF3-0612-4091-8E9F-A15277AC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5829-8931-4E41-9ECE-8E63B0C91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BD82-D884-4F43-84A6-8C436030D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B484-2C9B-45C4-AC67-DD1A97F36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96D7-40F1-4DDC-BAF5-98B414782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5A93-CD59-4323-AA2D-FB24C4D35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CCD48-90DA-4034-9650-08FDF9DE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E44D9-EEE2-4B48-9226-F5883E7B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BF0-2ABE-4B0F-B114-D708CC1A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C42D5-3406-40D6-94D1-E8F5AABB1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C76A3-9BD5-43BD-A4D5-ABA98C1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A661-1CE4-4232-9E78-09133B22B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48AFB-2132-4E84-BDD6-92F2B5D76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D6E0C-4B49-4AB9-9A65-51E5766C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A947D-3B9E-406C-AB4F-983B5F882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67CA7-DA49-45D8-89C3-5946E66D7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8A7-4B1A-4726-BDFA-E9189C70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5B30F0-D48A-42C3-B262-4C4BC66CE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342C42-F7C7-4AF0-943F-4482E61D2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5BA7E-CD9E-4D74-8FB7-38ED5CDD8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B4742-1F19-4447-BF80-47E89EC4E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197AD-1E75-47FF-A956-6BA220FDA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A459-AFE8-43EE-B002-F5BE213C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C26AA2-AF6F-4665-BBFB-F26B6068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1E038E-40F8-4CD1-8B18-5958B41C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C58FF-2962-44D3-8E37-6256895EA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04CF24-0928-4A3C-A3AC-D3DD02F4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9BFB0-9BE2-4F40-B187-90D72709B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A5855-75A6-42C4-B828-D8708EC0C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096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4920" y="175212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64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096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4920" y="3979800"/>
            <a:ext cx="257508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645CB-8152-47AC-9FC2-AC2F60CD7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732-5414-4433-9635-181033A5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40BE4-66F1-4DC7-8C55-0B27B598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266400"/>
            <a:ext cx="799812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5DDD-A25F-4B6E-91B7-300613C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E174-DA2F-42AB-B399-20FDCDE4C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4880" y="397980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40BB-154A-4C29-BB83-907C442FF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64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4880" y="1752120"/>
            <a:ext cx="3902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640" y="3979800"/>
            <a:ext cx="7997760" cy="203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A835-8BCF-42C5-BAEC-C570D113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3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4"/>
          <p:cNvSpPr/>
          <p:nvPr/>
        </p:nvSpPr>
        <p:spPr>
          <a:xfrm>
            <a:off x="609480" y="6172200"/>
            <a:ext cx="7925040" cy="144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1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26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19782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2635B0-D946-490C-82DB-2260ED163E84}" type="slidenum">
              <a:rPr b="0" lang="nl-NL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990360"/>
            <a:ext cx="776916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63C751A-B1A0-448B-84E3-012BA3E35EB5}" type="slidenum">
              <a:rPr b="0" lang="nl-N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672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7320" y="6246720"/>
            <a:ext cx="289728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6320" y="624672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marL="216000"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C854158E-B9C1-4796-AA15-B73641C0A77C}" type="slidenum">
              <a:rPr b="0" lang="nl-NL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youtube.com/watch?v=FzCsiGkSBec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passie.horeca.nl/video/15658/het_reageren_op_een_verborgen_regelovertreding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Verdana"/>
              </a:rPr>
              <a:t>Les 2 Sociale Hygiëne / 2-12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47560" y="351756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2"/>
          <a:stretch/>
        </p:blipFill>
        <p:spPr>
          <a:xfrm>
            <a:off x="755640" y="2708280"/>
            <a:ext cx="7620120" cy="285732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4"/>
          <p:cNvSpPr/>
          <p:nvPr/>
        </p:nvSpPr>
        <p:spPr>
          <a:xfrm>
            <a:off x="3203640" y="638172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Verdana"/>
              </a:rPr>
              <a:t>Jacob van Wier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Geweigerd.nl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llen die zich in Nederland bevinden, worden in gelijke gevallen gelijk behandeld. Discriminatie wegens godsdienst, levensovertuiging, politieke gezindheid, ras, geslacht of op welke grond dan ook, is niet toegestaan.”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Met welke partijen werk je sam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eme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Andere ondernemer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Politi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Taken leidinggeven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nemers voorlicht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Instructie gev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Toezicht houd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Werkoverleg voere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Voor- Nabespreking (briefing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Coachen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Vragen en antwoorde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nneer vertoont iemand sociaal-hygiënisch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Wat zijn fatsoensnor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Verdana"/>
              <a:buAutoNum type="arabicPeriod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14440" indent="-514440">
              <a:spcBef>
                <a:spcPts val="751"/>
              </a:spcBef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3. Wat is het verschil tussen moreel en immoreel gedra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4. Waaruit bestaat een sociaal-hygiënisch 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5. Leg uit waarom het verstandig is om in een horeca- of slijtersbedrijf een sociaal-hygiënisch beleid te voer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6. Wat moet een leidinggevende doen om geloofwaardig over te komen bij zijn gasten of klant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7. Een gedragsregel stelt grenzen aan gedrag. Geef aan tussen welke twee gedragingen de gedragsregel de grens stel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8. Er zijn twee soorten regels. Welke zijn dit en wat hebben ze met elkaar gemeen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9. Stel dat u een regel moet opstellen. Wat moet u dan ten minste in de omschrijving van de regel opnem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0. Leg uit wat het verband is tussen het waarom van de regel en het geven van argument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1. Wat verstaat men onder het begrip ‘normvervaging’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2. Geef aan wat het doel is van een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3. Uit welke vier stappen bestaat het handhavingsbeleid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4. Welke W’s spelen een rol bij de waarneming van regelovertred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nl-NL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Hoe kun je er als ondernemer voor zorgen dat gasten zich goed gedragen jouw horeca-gelegenheid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5. Welke drie sancties kunnen in een horecabedrijf worden toegepast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6. Wanneer pleegt iemand ‘huisvredebreuk’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7. Geef aan wat u de gast vertelt voordat u tot vorderen overgaat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8. Wat zijn de drie voordelen van een schriftelijke ontzegging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19. Geef aan waarover elke medewerker zich moet uitspreken bij toepassing van het handhavingsbelei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0. Geef aan waar de selectiecriteria bij het deurbeleid betrekking op mogen hebbe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1. Wat wordt in de Grondwet onder discriminatie verstaa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2. Welke afspraken kunnen er gemaakt worden met de politie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812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566640" y="1752120"/>
            <a:ext cx="7997760" cy="42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23. Over welke zaken kunnen ondernemers samenwerken?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Afsluitin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ZIJN ER NOG VRAGEN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Goede week!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e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kstvak 2"/>
          <p:cNvSpPr/>
          <p:nvPr/>
        </p:nvSpPr>
        <p:spPr>
          <a:xfrm>
            <a:off x="849240" y="2781360"/>
            <a:ext cx="73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Video Contact maken bij regelhandhav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nl-NL" sz="1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passie.horeca.nl/video/15658/het_reageren_op_een_verborgen_regelovertred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isie op gastvrijheidsconce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Bedreigingen onderzoek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Grenzen stellen aan gedra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Het handhavings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Samenwerken met partij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oorlichting en instructi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6560" indent="-4665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"/>
              <a:tabLst>
                <a:tab algn="l" pos="466560"/>
                <a:tab algn="l" pos="571680"/>
                <a:tab algn="l" pos="1020600"/>
                <a:tab algn="l" pos="1469880"/>
                <a:tab algn="l" pos="1919160"/>
                <a:tab algn="l" pos="2368440"/>
                <a:tab algn="l" pos="2817720"/>
                <a:tab algn="l" pos="3267000"/>
                <a:tab algn="l" pos="3716280"/>
                <a:tab algn="l" pos="4165560"/>
                <a:tab algn="l" pos="4614840"/>
                <a:tab algn="l" pos="5064120"/>
                <a:tab algn="l" pos="5513400"/>
                <a:tab algn="l" pos="5962680"/>
                <a:tab algn="l" pos="6411960"/>
                <a:tab algn="l" pos="6861240"/>
                <a:tab algn="l" pos="7310520"/>
                <a:tab algn="l" pos="7759800"/>
                <a:tab algn="l" pos="8209080"/>
                <a:tab algn="l" pos="8658360"/>
                <a:tab algn="l" pos="91076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Verdana"/>
              </a:rPr>
              <a:t>Veiligheidsbeleid (komt late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Een goede gedragsregel bestaat uit drie  onderdelen, namelijk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751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doel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inhoud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 van de regel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-46692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het </a:t>
            </a:r>
            <a:r>
              <a:rPr b="1" i="1" lang="nl-NL" sz="3000" spc="-1" strike="noStrike">
                <a:solidFill>
                  <a:srgbClr val="000000"/>
                </a:solidFill>
                <a:latin typeface="Verdana"/>
              </a:rPr>
              <a:t>waarom </a:t>
            </a:r>
            <a:r>
              <a:rPr b="0" i="1" lang="nl-NL" sz="3000" spc="-1" strike="noStrike">
                <a:solidFill>
                  <a:srgbClr val="000000"/>
                </a:solidFill>
                <a:latin typeface="Verdana"/>
              </a:rPr>
              <a:t>van de regel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8360" indent="0">
              <a:spcBef>
                <a:spcPts val="499"/>
              </a:spcBef>
              <a:buNone/>
              <a:tabLst>
                <a:tab algn="l" pos="0"/>
                <a:tab algn="l" pos="46836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nl-NL" sz="2800" spc="-1" strike="noStrike">
                <a:solidFill>
                  <a:srgbClr val="000000"/>
                </a:solidFill>
                <a:latin typeface="Verdana"/>
              </a:rPr>
              <a:t>Opdracht huisregels!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 Box 1"/>
          <p:cNvSpPr/>
          <p:nvPr/>
        </p:nvSpPr>
        <p:spPr>
          <a:xfrm>
            <a:off x="57456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ciaal-Hygiënisch belei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56664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andhavingsbeleid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68360" indent="-4669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68360"/>
                <a:tab algn="l" pos="909720"/>
                <a:tab algn="l" pos="1824120"/>
                <a:tab algn="l" pos="2738520"/>
                <a:tab algn="l" pos="3652920"/>
                <a:tab algn="l" pos="4567320"/>
                <a:tab algn="l" pos="5481720"/>
                <a:tab algn="l" pos="6396120"/>
                <a:tab algn="l" pos="7310520"/>
                <a:tab algn="l" pos="8224920"/>
                <a:tab algn="l" pos="9139320"/>
                <a:tab algn="l" pos="10053720"/>
                <a:tab algn="l" pos="10331280"/>
                <a:tab algn="l" pos="1078056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We hebben nu regels, maar wat moet je doen om er voor te zorgen dat deze ook worden nageleefd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Sociaal-Hygiënisch 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45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600" spc="-1" strike="noStrike">
                <a:solidFill>
                  <a:srgbClr val="000000"/>
                </a:solidFill>
                <a:latin typeface="Verdana"/>
              </a:rPr>
              <a:t>Handhavingsbeleid: Stapp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s controleren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corrig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Regelovertreding sanctioner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02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65000"/>
              <a:buFont typeface="Verdana"/>
              <a:buAutoNum type="arabicPeriod"/>
              <a:tabLst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Sancties afdwinge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6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571680"/>
                <a:tab algn="l" pos="676440"/>
                <a:tab algn="l" pos="1125360"/>
                <a:tab algn="l" pos="1574640"/>
                <a:tab algn="l" pos="2023920"/>
                <a:tab algn="l" pos="2473200"/>
                <a:tab algn="l" pos="2922480"/>
                <a:tab algn="l" pos="3371760"/>
                <a:tab algn="l" pos="3821040"/>
                <a:tab algn="l" pos="4270320"/>
                <a:tab algn="l" pos="4719600"/>
                <a:tab algn="l" pos="5168880"/>
                <a:tab algn="l" pos="5618160"/>
                <a:tab algn="l" pos="6067440"/>
                <a:tab algn="l" pos="6516720"/>
                <a:tab algn="l" pos="6966000"/>
                <a:tab algn="l" pos="7415280"/>
                <a:tab algn="l" pos="7864560"/>
                <a:tab algn="l" pos="8313840"/>
                <a:tab algn="l" pos="8763120"/>
                <a:tab algn="l" pos="92124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Eisen stellen om ervoor te zorgen dat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goede naam van het bedrijf behouden blijf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orde en rust in het bedrijf gegarandeer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De veiligheid van gasten en medewerkers gewaarborgd word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Verdana"/>
              </a:rPr>
              <a:t>De eisen mogen alleen betrekking hebben op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led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Gedra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Verdana"/>
              </a:rPr>
              <a:t>Kredietwaardighei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266400"/>
            <a:ext cx="799956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800" spc="-1" strike="noStrike">
                <a:solidFill>
                  <a:srgbClr val="000000"/>
                </a:solidFill>
                <a:latin typeface="Verdana"/>
              </a:rPr>
              <a:t>Deurbelei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7999560" cy="426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Verdana"/>
              </a:rPr>
              <a:t>Selectiecriter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getalscriteriu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eren op basis van leeftij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1640">
              <a:spcBef>
                <a:spcPts val="7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nl-NL" sz="3000" spc="-1" strike="noStrike">
                <a:solidFill>
                  <a:srgbClr val="000000"/>
                </a:solidFill>
                <a:latin typeface="Verdana"/>
              </a:rPr>
              <a:t>Selectie op basis van huisregel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2T09:40:52Z</dcterms:created>
  <dc:creator>VMBO Leeuwarden</dc:creator>
  <dc:description/>
  <dc:language>en-US</dc:language>
  <cp:lastModifiedBy>12viwijc</cp:lastModifiedBy>
  <dcterms:modified xsi:type="dcterms:W3CDTF">2013-12-02T08:19:09Z</dcterms:modified>
  <cp:revision>18</cp:revision>
  <dc:subject/>
  <dc:title>Sociale Hygiëne jaar1 Sporeto</dc:title>
</cp:coreProperties>
</file>