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D74C6-9985-408A-8F95-6F71BB4A7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C733D-578A-493A-A8C6-3B37E8FE6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CD4DC-A55F-467A-ABDD-0B33D1782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AED9A-810D-4023-B6DD-07FBDB1AF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63F28-9717-4781-9E13-72F3821C2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46C75-0EEE-471C-9D63-DE52A6C9B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1D67F-4EC2-4318-BD92-9FDCE3F4C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03C9A-6A64-4A03-97C4-8E37604C0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9BD29-4CF7-4F7A-8D7C-D0666F286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39E1D-2C06-45B0-BC72-91BF9FA83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47AB9-C603-4330-A478-6BA8D27ED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C0648-8404-45AB-AAD4-DF506D361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6C9F5-31A3-42A1-9874-68F96718C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D052F-8B59-4EF5-98E2-D884601B6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94C31-E7D8-4D36-8F71-134E5C4DC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82205-E805-4FD9-8BBB-CDB62E7FF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4D539-9DE9-414E-B211-0ADDADF98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F27CA-DEAA-4F30-81A3-519968CC5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6D964-46C1-4993-AC1A-33D2862AE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4A967-EBE0-4EEC-B4F6-DCF43F168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F06A5-3E8A-4CDC-8635-970403DA1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16163-253E-4722-9D7B-17D49FB03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7BB9-D09F-4A00-A23E-550C4B85E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B47BD-8ABC-4578-8BF3-9C4D06D37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15B8-40FA-463F-8561-6F7E9FFA371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C873-0675-44D9-A5FE-4890696351D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m8pDgj9iYls&amp;feature=player_embedded" TargetMode="External"/><Relationship Id="rId2" Type="http://schemas.openxmlformats.org/officeDocument/2006/relationships/hyperlink" Target="http://www.youtube.com/watch?v=2rkMA_606YA"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kent de 6 p’s?</a:t>
            </a: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betekent het en wat kun je er mee?</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laa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esentati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ersonee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duc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ij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moti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Uitwerking van de vragen uit het boek en voor de eindtoets</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hoofdverdeling is te maken in de horeca- en slijtersmark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soorten logiesverstrekkende bedrijv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verschillende verkooppunten voor alcoholhoudende dranken, die in de detailhandel voorkome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in onderscheidt een slijterij zich van andere verkooppunten van alcoholhoudende drank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een omschrijving van het begrip ‘doelgroep’.</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zes te onderscheiden doelgroepen in de markt en noem van ieder een belangrijk gedragskenmerk.</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twee voorbeelden van doelgroepen in de markt die elkaar onder een dak van een horecabedrijf moeilijk verdrag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je moet doen om een door jou gewenste doelgroep binnen te hal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zijn de zes P’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640" y="1752480"/>
            <a:ext cx="8182080" cy="4484880"/>
          </a:xfrm>
          <a:prstGeom prst="rect">
            <a:avLst/>
          </a:prstGeom>
          <a:noFill/>
          <a:ln w="0">
            <a:noFill/>
          </a:ln>
        </p:spPr>
        <p:txBody>
          <a:bodyPr anchor="t">
            <a:normAutofit/>
          </a:bodyPr>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wordt verstaan onder ‘gastvrijheidsformule’.</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Hoe kun je op de hoogte blijven van ontwikkelingen in de markt en waarom is dat belangrijk?</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r voor kiest om een restaurant te beginnen waar met verse en dure ingredienten wordt gewerkt, welke eisen stelt dat dan aan de totale formule van je bedrijf?</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en jongeren café begint, waar moet je dan in je formule rekening mee houd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speelt er allemaal een rol bij het vaststellen van de verkoopprijs van een product dat je verkoop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Stel je begint een cafetaria in een volksbuurt waar veel moslims wonen. Wat voor consequenties zal dit hebben voor de P van Product en de P van promoti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280" y="1752480"/>
            <a:ext cx="8001000" cy="4267440"/>
          </a:xfrm>
          <a:prstGeom prst="rect">
            <a:avLst/>
          </a:prstGeom>
          <a:noFill/>
          <a:ln w="0">
            <a:noFill/>
          </a:ln>
        </p:spPr>
        <p:txBody>
          <a:bodyPr anchor="t">
            <a:normAutofit/>
          </a:bodyPr>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arom de P van Personeel een heel belangrijk instrument binnen de bedrijfsformule is.</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om is ‘aftersales’ belangrijk?</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p welke manieren kan een leidinggevende medewerkers instructie geven?</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is het doel van een werkoverleg?</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1"/>
              </a:rPr>
              <a:t>Leip</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2"/>
              </a:rPr>
              <a:t>Rondjes Lop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ennis check</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8" name="Picture 4" descr="drugs"/>
          <p:cNvPicPr/>
          <p:nvPr/>
        </p:nvPicPr>
        <p:blipFill>
          <a:blip r:embed="rId3"/>
          <a:stretch/>
        </p:blipFill>
        <p:spPr>
          <a:xfrm>
            <a:off x="4140360" y="1989000"/>
            <a:ext cx="446400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Antwoord vraag 1</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Het geslacht en het lichaamsgewicht        (3 glazen man = 2 glazen vrouw)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gewenning aan alcohol</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gehele gezondheid</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stemm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verwacht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Een volle maag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combinatie met drugs / geneesmiddelen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leiding</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zet cursu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is Sociale Hygiëne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lcohol, drugs &amp; gokken (kennischeck)</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e weg naar ondernemerschap (gezamenlijke uitwerking vrag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Verantwoord alcoholgebruik</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	</a:t>
            </a:r>
            <a:r>
              <a:rPr b="0" i="1" lang="nl-NL" sz="1700" spc="-1" strike="noStrike">
                <a:solidFill>
                  <a:srgbClr val="000000"/>
                </a:solidFill>
                <a:latin typeface="Verdana"/>
              </a:rPr>
              <a:t>Iemand drinkt verantwoord als hij/zij: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Met mate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De drankjes verdeelt over de tij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Bewust 1 á 2 dagen per week geen alcohol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voor plezier en ontspanning drinkt en niet vanwege stress of problem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In vrije tijd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drinkt als hij/zij zich geestelijk en lichamelijk goed voel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in combinatie met drugs, slaap- kalmeringsmiddelen of andere medicijn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bij deelname aan het verkee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zwangerschap en het geven van borstvoeding</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sportbeoefening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2</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Door zelf geen alcohol te nemen  tijdens werktij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3</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Eén glas alcohol doet er gemiddeld 5 á 6 kwartier over om afgebroken te worde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0.5 promille</a:t>
            </a:r>
            <a:r>
              <a:rPr b="0" lang="nl-NL" sz="1500" spc="-1" strike="noStrike">
                <a:solidFill>
                  <a:srgbClr val="000000"/>
                </a:solidFill>
                <a:latin typeface="Verdana"/>
              </a:rPr>
              <a:t> (1 glas vrouwen – 2 glazen manne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Polsslag en ademhaling worden sneller. Je wordt iets warmer. Smaak, reuk en gezichtsvermogen gaan achteruit en pijn vermindert. Eetlust neemt to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5-1.5 promille </a:t>
            </a:r>
            <a:r>
              <a:rPr b="0" lang="nl-NL" sz="1500" spc="-1" strike="noStrike">
                <a:solidFill>
                  <a:srgbClr val="000000"/>
                </a:solidFill>
                <a:latin typeface="Verdana"/>
              </a:rPr>
              <a:t>(1-5 glazen vrouw – 2-7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elfoverschatting, intrede verdovend effect, geheugen verslechterd, tunneleffect, reactiesnelheid gaat achterui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1.5-3 promille (</a:t>
            </a:r>
            <a:r>
              <a:rPr b="0" lang="nl-NL" sz="1500" spc="-1" strike="noStrike">
                <a:solidFill>
                  <a:srgbClr val="000000"/>
                </a:solidFill>
                <a:latin typeface="Verdana"/>
              </a:rPr>
              <a:t>5-9 glazen vrouw – 7-14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lles hiervoor wordt versterkt. Overdreven emotioneel. Geen zelfkritiek, gezicht wordt rood en zwelt op. Misselijkheid en braken mogelijk.</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3-4 promille </a:t>
            </a:r>
            <a:r>
              <a:rPr b="0" lang="nl-NL" sz="1500" spc="-1" strike="noStrike">
                <a:solidFill>
                  <a:srgbClr val="000000"/>
                </a:solidFill>
                <a:latin typeface="Verdana"/>
              </a:rPr>
              <a:t>(9-13 glazen vrouw – 14-19 glazen man)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intuigen raken verdoofd. Drinker is totaal in de w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4 promille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Kans op bewusteloosheid wordt zeer groot en vanaf hier ontstaat levensgeva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5 promille</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cuut levensgevaar. Coma zuipen!</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4</a:t>
            </a: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Verdana"/>
              </a:rPr>
              <a:t>Stimulerend</a:t>
            </a:r>
            <a:r>
              <a:rPr b="0" i="1" lang="nl-NL" sz="2400" spc="-1" strike="noStrike">
                <a:solidFill>
                  <a:srgbClr val="000000"/>
                </a:solidFill>
                <a:latin typeface="Verdana"/>
              </a:rPr>
              <a:t>	</a:t>
            </a:r>
            <a:r>
              <a:rPr b="0" i="1" lang="nl-NL" sz="2400" spc="-1" strike="noStrike">
                <a:solidFill>
                  <a:srgbClr val="000000"/>
                </a:solidFill>
                <a:latin typeface="Verdana"/>
              </a:rPr>
              <a:t>Verdovend</a:t>
            </a:r>
            <a:r>
              <a:rPr b="0" i="1" lang="nl-NL" sz="2400" spc="-1" strike="noStrike">
                <a:solidFill>
                  <a:srgbClr val="000000"/>
                </a:solidFill>
                <a:latin typeface="Verdana"/>
              </a:rPr>
              <a:t>	</a:t>
            </a:r>
            <a:r>
              <a:rPr b="0" i="1" lang="nl-NL" sz="2400" spc="-1" strike="noStrike">
                <a:solidFill>
                  <a:srgbClr val="000000"/>
                </a:solidFill>
                <a:latin typeface="Verdana"/>
              </a:rPr>
              <a:t>	</a:t>
            </a:r>
            <a:r>
              <a:rPr b="0" i="1" lang="nl-NL" sz="2400" spc="-1" strike="noStrike">
                <a:solidFill>
                  <a:srgbClr val="000000"/>
                </a:solidFill>
                <a:latin typeface="Verdana"/>
              </a:rPr>
              <a:t>Bewustzijnsv.</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Cocaïne </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Alcohol</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asj&amp;wie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peed</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eroïne</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Paddo’s</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Tabak</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Slaapmiddelen</a:t>
            </a:r>
            <a:r>
              <a:rPr b="0" lang="nl-NL" sz="2400" spc="-1" strike="noStrike">
                <a:solidFill>
                  <a:srgbClr val="000000"/>
                </a:solidFill>
                <a:latin typeface="Verdana"/>
              </a:rPr>
              <a:t>	</a:t>
            </a:r>
            <a:r>
              <a:rPr b="0" lang="nl-NL" sz="2400" spc="-1" strike="noStrike">
                <a:solidFill>
                  <a:srgbClr val="000000"/>
                </a:solidFill>
                <a:latin typeface="Verdana"/>
              </a:rPr>
              <a:t>XTC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offie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ntwoord vraag 5: </a:t>
            </a:r>
            <a:r>
              <a:rPr b="0" lang="nl-NL" sz="2400" spc="-1" strike="noStrike">
                <a:solidFill>
                  <a:srgbClr val="000000"/>
                </a:solidFill>
                <a:latin typeface="Verdana"/>
              </a:rPr>
              <a:t>Cocaïn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lcohol / speed / cocaïne / Hasj&amp;Wiet</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Per drugs wil ik antwoord op de volgende vrag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oe wordt het gebruikt</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Wat zijn de effect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isico’s? </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Legaal of illegaal? </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Maatreg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speellimiet bepalen (bijv. max 1 uur achtere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of beperkt geld wiss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utomaten zo plaatsen dat je toezicht kunt hou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edewerkers voorlichten en verbieden te gokken tijdens het werk</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Direct optre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s een speler overlast veroorzaakt (luidruchtig speel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nger dan een uur speel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fsluiting</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Heeft iemand nog v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Opzet 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oek circa € 22,50,- via www.svh.n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anwezigheidsplich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ervangende opdracht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Toe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fficieel exam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OWERPOIN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heeft hier in de horeca gewerk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weet wat Sociale Hygiëne i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alcoholgebruik en het gebruik van soft- en harddrugs op het menselijk lichaam en gees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het gebruik van alcohol in combinatie met drugs en medicijn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coholmisbruik, alcoholafhankelijkheid en de sociale gevolgen daarva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gebruik van speelautomaten als bedoeld in de wet op de kansspelen en de daaraan verbonden risico’s van gokverslaving</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drank en horecawet en andere regelgeving die verband houd met alcoho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nnen de branche geldende codes voor alcoholhoudende drank</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echnische, bouwkundige en ruimtelijke voorzieningen van de inrichting</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verschillende bedrijfsformules en gedragskenmerken van de verschillende doelgroepen.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rPr>
              <a:t>	</a:t>
            </a:r>
            <a:r>
              <a:rPr b="0" i="1" lang="nl-NL" sz="2000" spc="-1" strike="noStrike">
                <a:solidFill>
                  <a:srgbClr val="000000"/>
                </a:solidFill>
                <a:latin typeface="Verdana"/>
              </a:rPr>
              <a:t>Leidinggevenden beschikken over kennis en inzicht, die nodig is om hun bedrijfsvoering af te stemmen op hun doelgroepen en het bedrijf te exploiteren met inachtneming van de bijzondere maatschappelijke verantwoordelijkheid die zij hebbe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Bedrijfssoort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Logies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oedsel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gebruik ter plaats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thuisgebrui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Doelgroepen in de markt</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choli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oerist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uders met kind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akenmens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enio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enstaand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weeverdieners</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rkende jong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tudenten</a:t>
            </a:r>
            <a:endParaRPr b="0" lang="en-US" sz="1800" spc="-1" strike="noStrike">
              <a:solidFill>
                <a:srgbClr val="000000"/>
              </a:solidFill>
              <a:latin typeface="Verdana"/>
            </a:endParaRPr>
          </a:p>
          <a:p>
            <a:pPr marL="469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fontScale="97000"/>
          </a:bodyPr>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Gastvrijheidsconcept:</a:t>
            </a:r>
            <a:endParaRPr b="0" lang="en-US" sz="30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	</a:t>
            </a:r>
            <a:r>
              <a:rPr b="0" lang="nl-NL" sz="3000" spc="-1" strike="noStrike">
                <a:solidFill>
                  <a:srgbClr val="000000"/>
                </a:solidFill>
                <a:latin typeface="Verdana"/>
              </a:rPr>
              <a:t>Gastvrijheid is het gevoel dat de gast heeft bij de geboden dienstverlening (service). De keuzes die je daar bij maakt als ondernemer is het gastvrijheidsconcept:</a:t>
            </a:r>
            <a:endParaRPr b="0" lang="en-US" sz="30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roduct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Gedrag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Omgeving </a:t>
            </a:r>
            <a:endParaRPr b="0" lang="en-US" sz="26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3-11-24T17:08:55Z</dcterms:modified>
  <cp:revision>22</cp:revision>
  <dc:subject/>
  <dc:title>Sociale Hygiëne jaar1 Sporeto</dc:title>
</cp:coreProperties>
</file>