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46B6-8682-49A8-B308-92E55E4AC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E35-FF6B-47F9-9E97-05E2087FE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8299-82B0-4AAD-9E5E-11614315D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078F-0536-44E1-90C5-64800053D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7209D-6DE0-4C2A-A8F1-B109FC56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BDA84-CF43-4FCE-B50D-351EF1031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0D2D5-3D0E-44C7-9224-94A74F36D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148D-6D35-4937-868A-EFB6822C0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DAFF-7928-4531-B944-E2260BF53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F9EE-C120-4D6D-B832-8BD1A3C8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DD0C-9E26-4EE2-98BF-1C3D654E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AC63-2F1C-4D7D-BBDA-57FF4A961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B6077-1981-4906-BF9B-54418FB6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5A3C2-6834-49EF-8C9E-D89129EB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10DAD-11C4-441F-AF82-C7D210DE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6575-BBE7-46A0-A7AB-9590FE7CD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E6F9-186E-48DB-A2F9-38D1E6AF0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803BA-1385-46C0-9643-8F26AA08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792DA-64BD-4107-93A9-E70D5BE4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5D60-7F2D-410B-BC08-D94153001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EE0B1-D41A-4A8A-92FA-D9875D2B4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685351-A565-408B-9792-648F70389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8788-848A-478A-87C0-5D7AD524B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28E815-BF96-4049-BBC9-D1F9EB4B6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1E26D-04DE-4650-8729-4F84EE23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D8DE-3E7B-4494-A2C6-0D1E2673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9BDC26-E704-4112-90CF-71E978817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3400EA-CA68-4DE2-A893-2450ED326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6F187-F9D8-4C25-8B85-DF1DB8165E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61E23-58BD-42D8-B62A-A55783E64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2FB-3AD6-457C-8B0E-649C1572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E78E-691C-4F03-A841-FC279F135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383E-D798-47C8-9B3B-A20FE7820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754B-4C4F-4C5A-9871-2FAB5C8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7AE9-1925-4AB3-9D45-B85EB2425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63AD7-AC7E-435D-862A-AB002BB65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A5A06A-8EAD-40EC-AAAD-35E2B6E51C58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156771F1-F49D-4747-AEF2-FDB9332C7E3C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620AD616-DD4A-4AAB-98A6-19204C5C79A5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65/Contact_maken_SH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Huisregels opstellen en handhave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Stel dat je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Geef aan wat je de gast vertelt voordat je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Contact mak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 </a:t>
            </a: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65/Contact_maken_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Jacob</cp:lastModifiedBy>
  <dcterms:modified xsi:type="dcterms:W3CDTF">2013-12-16T05:02:34Z</dcterms:modified>
  <cp:revision>19</cp:revision>
  <dc:subject/>
  <dc:title>Sociale Hygiëne jaar1 Sporeto</dc:title>
</cp:coreProperties>
</file>