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elke doelen hebben controlere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AE7-BCEB-49B0-8F46-65E7410B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D20-4E63-442D-9755-51904F69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6E8-FE8B-42BC-9383-A4FC2AC9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BA1-1B89-4585-9C9C-0AEE48C3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6E5C-74B4-44C3-8171-CCB8AA7A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8F08-4360-48B2-A0C0-300B5355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4653-5815-40C9-B2B8-B8D22087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7244-C4DF-41D1-BE5C-6B61A6B4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9F48-392D-4402-802B-2A963DDB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BA83-1545-469F-B304-DD8BA9B9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84B0-A50F-40BE-B7FE-27841E76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1D6-0205-4DAD-B184-6E6EF9F0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57C4-20F9-4571-8686-4171260F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0D90-4E13-4F04-86C6-61917B7C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57B9-E531-469B-B39F-BB5A4587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F845-371D-453A-A5AE-86B3AA9D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7B43-5F1B-436F-B4BA-599C5CF1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18FD1-A160-47D7-AE15-201AE9DE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855E-6C60-4539-99E6-FC1CBA53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F520-A216-4D9B-948B-A4AFAFC0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074C-DB52-4A59-A7CB-D5D9AE05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4C612-1681-4445-99D8-F9D5D4EB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E65F-7D5D-4112-9640-B7414028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4D705-1E0F-4B8E-94BE-5F78010D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39E5-BEBD-4BB7-A458-571DA4DB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559E-427C-4188-885A-8F8BF6DA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E667-C694-4AC9-8C71-E47C512C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95E5B-ACC3-4885-9C06-E635BA63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71048-E5D8-4717-8284-11929E7A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E80B3-61B6-4212-A1EE-0012D189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6B6-E555-4032-8782-AA4544E7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54D-B140-4D97-899E-9CD538DB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7EE8-9E7D-44AA-B8D0-2F52D6FE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FB3-9ACB-4824-8045-A5B092F4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390-81D4-43A1-BCA8-02248B60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C98-0F11-4F6F-BE3F-AE4C1412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7D689-8C50-4423-8DAC-EDB0E3DC97D3}" type="slidenum">
              <a: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01FA9DF-246C-4648-AAAB-6DD75E314123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A73CB5A-FFF0-4309-AF2F-62CE22163925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ssie.horeca.nl/video/15665/Contact_maken_SH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FzCsiGkSBec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Verdana"/>
              </a:rPr>
              <a:t>Huisregels opstellen en handhav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560" y="35175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03640" y="638172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Jacob van W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Met welke partijen werk je sam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me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ndere onderne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olit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Taken leidinggeven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nemers voorlich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nstructie gev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oezicht houd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overleg voer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or- Nabespreking (briefin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oache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Vragen en antwoord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t zijn fatsoensnor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. Wat is het verschil tussen moreel en immoreel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3. Wat moet een leidinggevende doen om geloofwaardig over te komen bij zijn gasten of klant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4. Een gedragsregel stelt grenzen aan gedrag. Geef aan tussen welke twee gedragingen de gedragsregel de grens stel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5. Er zijn twee soorten regels. Welke zijn dit en wat hebben ze met elkaar geme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6. Stel dat je een regel moet opstellen. Wat moet u dan ten minste in de omschrijving van de regel opne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7. Leg uit wat het verband is tussen het waarom van de regel en het geven van argument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8. Wat verstaat men onder het begrip ‘normvervaging’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9. Geef aan wat het doel is van een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0. Uit welke vier stappen bestaat het handhavings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1. Welke W’s spelen een rol bij de waarneming van regelovertred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2. Welke drie sancties kunnen in een horecabedrijf worden toegepas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3. Wanneer pleegt iemand ‘huisvredebreuk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Hoe kun je er als ondernemer voor zorgen dat gasten zich goed gedragen jouw horeca-gelegenhei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4. Geef aan wat je de gast vertelt voordat je tot vorderen overgaa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5. Wat zijn de drie voordelen van een schriftelijke ontzegg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6. Geef aan waarover elke medewerker zich moet uitspreken bij toepassing van het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7. Geef aan waar de selectiecriteria bij het deurbeleid betrekking op mogen hebb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8. Wat wordt in de Grondwet onder discriminatie verstaa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9. Welke afspraken kunnen er gemaakt worden met de politi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0. Over welke zaken kunnen ondernemers samenwerk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ER NOG VRAG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wee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Contact mak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849240" y="2781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ideo Contact maken bij regelhandhaving </a:t>
            </a:r>
            <a:r>
              <a:rPr b="0" lang="nl-NL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assie.horeca.nl/video/15665/Contact_maken_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en goede gedragsregel bestaat uit drie  onderdelen, namelij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doel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inhoud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het </a:t>
            </a: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waarom 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van de reg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Opdracht huisregels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ciaal-Hygiënisch bele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andhavingsbelei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 hebben nu regels, maar wat moet je doen om er voor te zorgen dat deze ook worden nageleef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Verdana"/>
              </a:rPr>
              <a:t>Handhavingsbeleid: Stapp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s controlere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corrig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sanction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ncties afdwin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Eisen stellen om ervoor te zorgen d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naam van het bedrijf behouden blijf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orde en rust in het bedrijf gegarandeer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iligheid van gasten en medewerkers gewaarborg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De eisen mogen alleen betrekking hebben 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redietwaard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Selectiecrite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getalscriter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leeftij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ie op basis van huisreg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Geweigerd.nl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llen die zich in Nederland bevinden, worden in gelijke gevallen gelijk behandeld. Discriminatie wegens godsdienst, levensovertuiging, politieke gezindheid, ras, geslacht of op welke grond dan ook, is niet toegestaan.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9:40:52Z</dcterms:created>
  <dc:creator>VMBO Leeuwarden</dc:creator>
  <dc:description/>
  <dc:language>en-US</dc:language>
  <cp:lastModifiedBy>Jacob</cp:lastModifiedBy>
  <dcterms:modified xsi:type="dcterms:W3CDTF">2013-12-16T05:02:34Z</dcterms:modified>
  <cp:revision>19</cp:revision>
  <dc:subject/>
  <dc:title>Sociale Hygiëne jaar1 Sporeto</dc:title>
</cp:coreProperties>
</file>