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E7D77-4F03-4987-AAA1-4443E37DE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0AADA-BCCF-4D1C-8617-BB518E118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F7FD0-0049-450C-BEBF-A1DFCA32F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BF9D2-3E28-40D6-A351-95ED28AA3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610EBE-4A70-41B8-9AD6-9762EF8003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8A746-ADC7-4BDE-AD59-C3A6140B3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FCD60-FEF9-4CAC-B05C-6ED3C6F41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EAE27-2BB9-4BA5-90C6-CFEFB519C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4F9530-E530-4D96-B81B-AFF809694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5AAEA6-A205-4854-9A1E-BF3F74B7C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38134-96DA-4A4F-80B6-C05041FEB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8618B-ABEB-4F9C-AF1B-E2758150C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1947F-6A24-4C38-B8F0-C374E7204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9A460-D19E-4A43-8BC1-1FCDC3B10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7427D9-35F7-4597-87D1-604533319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DF37F2-607C-4DAC-8DE6-6309F1E97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E1C0A3-829E-4F7B-8162-48C3E08F3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800F7-49A9-44A4-86B4-A1C4DA078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56ACA-6E10-4320-97DC-469D4B58F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FE5B4-4CA8-4838-A145-F6071D2A2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DF493-5F85-4D62-B699-6D9DB5DC1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7D82-6AE3-49BC-8388-69442434C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E8807-E125-490A-8158-1B2F044BF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13F68-46F1-4B4A-8FE1-0C645493C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1E26-0802-4BB9-8B2A-460DBF20855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138C-D799-46C5-AB5B-4C2C22DA03E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vh.nl/examens/sociale-hygiene.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roombox: Een box waarin overtollig geld afgeroomd kan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oor de camera zichtbaar op te hangen voor het publiek. kan het effect van camera’s verbeterd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8" name=""/>
          <p:cNvSpPr txBox="1"/>
          <p:nvPr/>
        </p:nvSpPr>
        <p:spPr>
          <a:xfrm>
            <a:off x="468000" y="1773000"/>
            <a:ext cx="800100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tectiepoor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Voor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apparaat heeft een preventieve werking op wapenbezit van gasten of spoort deze op.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Na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at het problemen kan geven met gasten, die de controle als inbreuk op hun privacy ervare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is te beveiligen door de volgende maatrege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moet in principe altijd op slot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asten mogen niet in de buurt van het magazijn kunnen kom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 tussendeuren in het bedrijf moeten gesloten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een goede verlichting, extra (zware) sloten en vergrendelingen als het magazijn ook van buiten te bereiken is.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laats eventueel een hekwerk rondom het maga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Raampjes in het magazijn moeten afgesloten kunnen worden met speciale raamsloten met traliewerk voor het raam.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goed sleutelbeheer ten aanzien van de magazijnsleutel.</a:t>
            </a:r>
            <a:endParaRPr b="0" lang="en-US" sz="1800" spc="-1" strike="noStrike">
              <a:solidFill>
                <a:srgbClr val="000000"/>
              </a:solidFill>
              <a:latin typeface="Verdana"/>
            </a:endParaRPr>
          </a:p>
          <a:p>
            <a:pPr>
              <a:spcBef>
                <a:spcPts val="451"/>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 een sleutelprocedure dient te zijn vastgelegd: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in het bezit is van welke sleutel;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deur mag of moet openen of sluit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sleutel op welk moment moet inleveren of in de sleutelkast opberg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het bedrijf opent of sluit;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sleutels in de sleutelkast moeten hangen bij afsluiting van het bedrijf;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belast is met het toezicht en de controle op het sleutelbeheer;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at vermissing van sleutels direct gemeld moet worden door hotelgasten of mede-werkers.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Rechthoek 1"/>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280" y="1752480"/>
            <a:ext cx="8001000" cy="4267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aan de volgende eisen voldo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dienst zijn van een particuliere beveiligingsorganisatie;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bezit zijn van een SVH Diploma Horecaportier;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met succes gescreend zijn door de politie.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640" y="1752480"/>
            <a:ext cx="8182080" cy="4484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taken van de BHV’er zij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verlenen van eerste hulp bij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en bestrijden van brand;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van de gevolgen van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alarmeren en evacueren van alle aanwezige personen in het bedrijf.</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66280" y="1752480"/>
            <a:ext cx="8001000" cy="426744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Je krijgt nu de oefentoets met daarin net als bij de echte toets 40 vragen. De score van deze oefentoets telt niet mee, maar geeft je een idee van wat voor soort vragen je kunt verwachten. De theorie uit de powerpoints samen met de vragen en antwoorden uit de vorige lessen vormen de basis van de eindtoets. Door deze goed te leren bereid je jezelf optimaal voor!</a:t>
            </a:r>
            <a:endParaRPr b="0" lang="en-US" sz="2500" spc="-1" strike="noStrike">
              <a:solidFill>
                <a:srgbClr val="000000"/>
              </a:solidFill>
              <a:latin typeface="Verdana"/>
            </a:endParaRPr>
          </a:p>
        </p:txBody>
      </p:sp>
      <p:sp>
        <p:nvSpPr>
          <p:cNvPr id="118" name="Rechthoek 2"/>
          <p:cNvSpPr/>
          <p:nvPr/>
        </p:nvSpPr>
        <p:spPr>
          <a:xfrm>
            <a:off x="746280" y="260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Oefentoet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jziging datum eindtoets + taple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formatie officieel examen</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opdrachten hoofdstuk 4</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theorie en opdrachten hoofdstuk 9</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Maken va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Nabespreke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atum eindtoets en tap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indtoets en tapcursus vindt plaats op 27-1-2014. Ik probeer de les met Frank nog om te ruilen zodat we alles op de middag kunnen plannen. De tapcursus vindt plaats in de Leeuwarden Loun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formatie examen</a:t>
            </a:r>
            <a:endParaRPr b="0" lang="en-US" sz="3800" spc="-1" strike="noStrike">
              <a:solidFill>
                <a:srgbClr val="000000"/>
              </a:solidFill>
              <a:latin typeface="Verdana"/>
            </a:endParaRPr>
          </a:p>
        </p:txBody>
      </p:sp>
      <p:sp>
        <p:nvSpPr>
          <p:cNvPr id="94" name="PlaceHolder 2"/>
          <p:cNvSpPr>
            <a:spLocks noGrp="1"/>
          </p:cNvSpPr>
          <p:nvPr>
            <p:ph/>
          </p:nvPr>
        </p:nvSpPr>
        <p:spPr>
          <a:xfrm>
            <a:off x="684000" y="1267920"/>
            <a:ext cx="8001000" cy="381492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xamen kan aangevraagd worden via </a:t>
            </a:r>
            <a:r>
              <a:rPr b="0" lang="nl-NL" sz="3000" spc="-1" strike="noStrike" u="sng">
                <a:solidFill>
                  <a:srgbClr val="336699"/>
                </a:solidFill>
                <a:uFillTx/>
                <a:latin typeface="Verdana"/>
                <a:hlinkClick r:id="rId1"/>
              </a:rPr>
              <a:t>http://www.svh.nl/examens/sociale-hygiene.htm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ost 127 euro en kan op donderdags digitaal op de NHL gedaan worden om 13:00/14:15/15:30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a:t>
            </a:r>
            <a:endParaRPr b="0" lang="en-US" sz="3800" spc="-1" strike="noStrike">
              <a:solidFill>
                <a:srgbClr val="000000"/>
              </a:solidFill>
              <a:latin typeface="Verdana"/>
            </a:endParaRPr>
          </a:p>
        </p:txBody>
      </p:sp>
      <p:sp>
        <p:nvSpPr>
          <p:cNvPr id="96" name="PlaceHolder 2"/>
          <p:cNvSpPr>
            <a:spLocks noGrp="1"/>
          </p:cNvSpPr>
          <p:nvPr>
            <p:ph/>
          </p:nvPr>
        </p:nvSpPr>
        <p:spPr>
          <a:xfrm>
            <a:off x="610920" y="1628640"/>
            <a:ext cx="8001000" cy="42674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1. De volgende afwegingen moeten worden gemaakt bij de gespreksmodellen ‘Openlijke en Verborgen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ssistentie of deleger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oel bepa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anneer optreden.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2. Het doel van ‘inzicht tonen’ is, dat de gast niet te direct geconfronteerd wordt met het woord ‘nee’.</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3. het verschil tussen een openlijke en een verborgen regelovertreding is dat de handelingen van de overtreder bij openlijke regelovertreding zelf zijn waargenomen en bij verborgen regelovertreding nie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 (vervolg)</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4. De gast zal  als je hem confronteert met een verborgen regelovertreding A2-gedrag (ontkennend gedrag) vertonen. Hij weet immers dat de regelhandhaver slechts optreedt op basis van vermoedens.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5. Om goed met klachten van gasten om te kunnen gaan, moet je onderscheid kunnen maken tuss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cht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gers;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ijze van klag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klachten afgehandeld kunnen worde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ten moeten aan de volgende eisen voldoe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de onmiddellijke nabijheid van een horecalokaliteit zijn, ten behoeve van de bezoekers, ten minste twee volledig van elkaar gescheiden toiletgelegenheden aanwezi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lke toiletgelegenheid bevat ten minste: </a:t>
            </a:r>
            <a:endParaRPr b="0" lang="en-US" sz="20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 afsluitbare toiletruimten; </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e voorzieningen om de handen met deugdelijk stromend drinkwater te kunnen wassen. </a:t>
            </a:r>
            <a:endParaRPr b="0" lang="en-US" sz="16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 de toiletruimte aanwezige toiletpotten en urinoirs zijn voorzien van waterspoel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ruimten zijn niet rechtstreeks toegankelijk vanuit een horecalokalitei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brandmelding bestaat uit het noemen va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am van melder;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dres van uw bedrijf (straatnaam, huisnummer, woonplaat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naam van uw bedrijf;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soort bedrijf (bijvoorbeeld café);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bereikbaarheid van het bedrijf (routebeschrijv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at er gebeurd is (oorzaak van brand);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aard van de brand (binnen of buiten, schoorsteenbrand of gasexplosie);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antal mensen dat op dat moment aanwezig i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at iemand de brandweer buiten opwachten.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volgende bouwkundige voorzieningen kunnen getroffen worden om de veiligheid te vergroten: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doo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ove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toe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oede verlichting;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beveiligde kassa;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veilige kluis;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leutelbeheer.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4-01-12T20:20:25Z</dcterms:modified>
  <cp:revision>25</cp:revision>
  <dc:subject/>
  <dc:title>Sociale Hygiëne jaar1 Sporeto</dc:title>
</cp:coreProperties>
</file>