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53F-CE94-4B1E-BF71-14F9E2B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276-96B2-4E95-A269-A475F6EB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DD7-2167-40F5-9019-61AAABA2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D40-5A27-4FF3-91D6-2E830A9F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5DF8-1E5F-4630-8463-7D306777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9BBD-009D-46AF-8409-DF6AF30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C1A-063C-4B1C-9B77-388D72B1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9EAF-CE63-467B-90E4-D0D7CD79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E321-17C8-4054-BDA6-7184D8F6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FC34-230E-418E-BD61-70C06E4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B63-CDF6-4458-A369-2CD4953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751-7F14-4A86-9B8B-D276585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B73-E384-44CC-8C5E-B340942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76D-EC71-453B-ACFA-6BB8A43B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41B3-4ACD-4E33-A167-CB30E32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E0C9-9CE8-4915-8A7E-38FA0DFE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2B4-10E5-4DC3-94C3-0B857929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2876-75F1-4416-8684-C2DADEE7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D5C2-048E-41C5-A796-EFAC47DA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B682-6F9F-4464-AEAE-2F1357C2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849D-E748-4770-B0B1-0F35EB4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4D62-1F22-4132-B27A-A480493E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B58-FD4E-4B27-9F26-BA5F849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DED0-32AE-44BA-8490-BFAFED8A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644E-97F6-40F6-B3FD-DDC122F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60F3-17DF-48AE-8653-8B7466C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55D8-1561-436C-B1DB-58969E9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BBCE-D56C-4E09-BB10-88402DD3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6613-F0E1-4EE4-B691-FCDA964D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2B4D-80F3-4992-8779-36D6D2D5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9EB-B712-415F-B091-C09C6380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D54-4384-420B-9B7C-C7D5B0D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3EE-C7AF-4F02-8BB7-C41643ED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AC6-BCC6-44F4-A7AF-935EAE6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2B6-D3DD-4B99-A809-496DDB7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83B-F9F3-4629-8F07-DDDE9280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EC9A6-490F-442E-A546-9B4DB59E0A7F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E4691B-7CCC-4178-BD41-B88CC251EC9F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82C3CA-6F63-4A47-9CC4-6DC1525C0CC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58/het_reageren_op_een_verborgen_regelovertre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Les 2 Sociale Hygiëne / 2-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nneer vertoont iemand sociaal-hygiënisch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Waaruit bestaat een sociaal-hygiënisch 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Leg uit waarom het verstandig is om in een horeca- of slijtersbedrijf een sociaal-hygiënisch beleid te voer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Stel dat u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t u de gast vertelt voordat u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1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2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3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e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58/het_reageren_op_een_verborgen_regelovertr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isie op gastvrijheids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dreigingen onderzo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enzen stellen a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andhavings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ichting en instruct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iligheidsbeleid (komt l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12viwijc</cp:lastModifiedBy>
  <dcterms:modified xsi:type="dcterms:W3CDTF">2013-12-02T08:19:09Z</dcterms:modified>
  <cp:revision>18</cp:revision>
  <dc:subject/>
  <dc:title>Sociale Hygiëne jaar1 Sporeto</dc:title>
</cp:coreProperties>
</file>