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AA1-D60C-4624-A110-593B1944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D59-3BEE-47BA-BA35-14EA5DC0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154-CA19-41B3-9556-F3C88B50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39C-3E63-4A82-8050-327F5015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AC9-E122-4720-8145-AB2B830E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46BE-D0C4-4E30-BF58-037CE63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1152-6A36-4947-B2CB-2AD8CF6F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216-D01A-4869-A87F-8E6DB9B1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DBE1-3E3F-4DFE-819A-5B37F5A6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4C5-175F-4E36-8DAA-9CD6EDB7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5479-9D70-4A8D-A037-FC8D56F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8AF-C28A-4DFF-B737-B7FF91E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623-4B45-4BB4-86F6-24D57792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620A-C1E1-461A-8877-C7BB145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35F9-BCED-4485-8194-57948830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EE10-7215-4B66-A285-A14AB98B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5476-D505-48A5-8FAA-E5A5FBE3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662C-9519-4227-965B-95601A66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0B2D-AA24-4303-9DB2-FEB0101E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807F-685A-47A6-804E-C372D0D4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2859-2C2E-443E-AF26-643B6F0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93C8-5236-4733-911E-E855FCB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1C8-4700-41BB-9F9B-18A707A0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EA2C-C3E3-4FF9-B265-93CBFAA8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4E38-E1D7-46F6-A657-B457C18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0958-8D1D-40E0-93CD-60EAF1BA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B42D-1EDA-42E8-8650-67653B3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2F31-F83D-4B5E-9039-3DCB298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D59B-FA8F-4C12-972B-36FB40A9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D1D1-47DE-4B66-B720-B91DFEE4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6C7-AD36-496C-9A4F-03D57DA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318-2601-4E6E-8F80-77DC408E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0D4-4D47-4BC9-A709-1A83E4CF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B6F-C26A-4E29-993C-40D82CA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EC3-5512-41BE-A380-F531623F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760-BCDD-4C80-B7B6-F218ACE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E0478-702F-48FA-BC7A-0B670C4927A9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36468B-4007-4501-9CFF-ED0B00F1DF60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8627E7-6D32-4A73-B4D0-6A04E240B5CF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65/Contact_maken_SH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Huisregels opstellen en handha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Stel dat je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Geef aan wat je de gast vertelt voordat je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Contact mak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 </a:t>
            </a: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65/Contact_maken_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Jacob</cp:lastModifiedBy>
  <dcterms:modified xsi:type="dcterms:W3CDTF">2013-12-16T05:02:34Z</dcterms:modified>
  <cp:revision>19</cp:revision>
  <dc:subject/>
  <dc:title>Sociale Hygiëne jaar1 Sporeto</dc:title>
</cp:coreProperties>
</file>