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544E9-1E71-4D68-A67F-48ACCC6D0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7555F-02F1-4E02-A492-D7EC62D22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77878-A423-450C-BA58-7AFA11898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0724D-3914-4C40-B479-8C6259F7B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2E80B4-C4EB-407D-9D2C-D06273EB30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924F8-B154-4DC1-87D2-66ACE96C5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9BFE8-5FA1-4F77-B99D-D04DD11D0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FFD6E-5836-4E1A-8C9D-5C03A595C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0CBCF-1503-4174-8FB0-4B8F3858A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2BB28-FF77-4C37-878B-C3591F45F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8F869-BF23-4547-A221-A65592A7D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0B564-4AB1-41ED-91E0-A9B5F8B32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8C8C6-1C9A-4F1C-90C1-FD0E63639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47C34-283A-484E-A772-CEA77AF60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02FF2-D081-4C57-B818-64F0B0F4E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E86DD0-E9B5-4993-B61A-6EDC0AA04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9D31A1-0874-416D-B055-FE23DF52A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B6906-C876-45AE-BA08-F639FD6AE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7A691-0493-43ED-BC57-0E53B37BC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DDA12-792A-42E1-BBCD-E73FF6E09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50966-ABED-4535-912F-0046E496C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23A6B-9050-421B-A4FC-774968348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E0A83-492C-4F64-9205-EF74AA4E4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8EC8C-44DF-4983-AEB2-2BB55E072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42C7A-28F2-4763-A912-4AB17A72FE0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1CA3-518D-4E51-ADE0-64EB8515E1C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vh.nl/examens/sociale-hygiene.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Sociale Hygiëne jaar 2 Sporeto</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Verdana"/>
            </a:endParaRPr>
          </a:p>
        </p:txBody>
      </p:sp>
      <p:pic>
        <p:nvPicPr>
          <p:cNvPr id="87" name="Picture 4" descr="hf_sociale-hygiene"/>
          <p:cNvPicPr/>
          <p:nvPr/>
        </p:nvPicPr>
        <p:blipFill>
          <a:blip r:embed="rId1"/>
          <a:stretch/>
        </p:blipFill>
        <p:spPr>
          <a:xfrm>
            <a:off x="755640" y="2708280"/>
            <a:ext cx="7620120" cy="2857320"/>
          </a:xfrm>
          <a:prstGeom prst="rect">
            <a:avLst/>
          </a:prstGeom>
          <a:ln w="0">
            <a:noFill/>
          </a:ln>
        </p:spPr>
      </p:pic>
      <p:sp>
        <p:nvSpPr>
          <p:cNvPr id="88" name="Text Box 5"/>
          <p:cNvSpPr/>
          <p:nvPr/>
        </p:nvSpPr>
        <p:spPr>
          <a:xfrm>
            <a:off x="2700360" y="624060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Jacob van Wiere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6" name=""/>
          <p:cNvSpPr txBox="1"/>
          <p:nvPr/>
        </p:nvSpPr>
        <p:spPr>
          <a:xfrm>
            <a:off x="566280" y="1752480"/>
            <a:ext cx="8001000" cy="4267440"/>
          </a:xfrm>
          <a:prstGeom prst="rect">
            <a:avLst/>
          </a:prstGeom>
          <a:noFill/>
          <a:ln w="0">
            <a:noFill/>
          </a:ln>
        </p:spPr>
        <p:txBody>
          <a:bodyPr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froombox: Een box waarin overtollig geld afgeroomd kan worden.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oor de camera zichtbaar op te hangen voor het publiek. kan het effect van camera’s verbeterd worden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8" name=""/>
          <p:cNvSpPr txBox="1"/>
          <p:nvPr/>
        </p:nvSpPr>
        <p:spPr>
          <a:xfrm>
            <a:off x="468000" y="1773000"/>
            <a:ext cx="8001000" cy="426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etectiepoort</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Voordeel:</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Het apparaat heeft een preventieve werking op wapenbezit van gasten of spoort deze op.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Nadeel:</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at het problemen kan geven met gasten, die de controle als inbreuk op hun privacy ervare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10" name=""/>
          <p:cNvSpPr txBox="1"/>
          <p:nvPr/>
        </p:nvSpPr>
        <p:spPr>
          <a:xfrm>
            <a:off x="566280" y="1752480"/>
            <a:ext cx="8001000" cy="4267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Het magazijn is te beveiligen door de volgende maatregel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Het magazijn moet in principe altijd op slot zij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Gasten mogen niet in de buurt van het magazijn kunnen kom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lle tussendeuren in het bedrijf moeten gesloten zij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Zorg voor een goede verlichting, extra (zware) sloten en vergrendelingen als het magazijn ook van buiten te bereiken is.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Plaats eventueel een hekwerk rondom het magazij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Raampjes in het magazijn moeten afgesloten kunnen worden met speciale raamsloten met traliewerk voor het raam.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Zorg voor goed sleutelbeheer ten aanzien van de magazijnsleutel.</a:t>
            </a:r>
            <a:endParaRPr b="0" lang="en-US" sz="1800" spc="-1" strike="noStrike">
              <a:solidFill>
                <a:srgbClr val="000000"/>
              </a:solidFill>
              <a:latin typeface="Verdana"/>
            </a:endParaRPr>
          </a:p>
          <a:p>
            <a:pPr>
              <a:spcBef>
                <a:spcPts val="451"/>
              </a:spcBef>
              <a:buClr>
                <a:srgbClr val="cc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566280" y="1752480"/>
            <a:ext cx="8001000" cy="4267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In een sleutelprocedure dient te zijn vastgelegd: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in het bezit is van welke sleutel;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welke deur mag of moet openen of sluit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welke sleutel op welk moment moet inleveren of in de sleutelkast opberg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het bedrijf opent of sluit;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elke sleutels in de sleutelkast moeten hangen bij afsluiting van het bedrijf;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belast is met het toezicht en de controle op het sleutelbeheer;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at vermissing van sleutels direct gemeld moet worden door hotelgasten of mede-werkers. </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Rechthoek 1"/>
          <p:cNvSpPr/>
          <p:nvPr/>
        </p:nvSpPr>
        <p:spPr>
          <a:xfrm>
            <a:off x="746280" y="26028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Theorie en antwoorden hoofdstuk 9</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66280" y="1752480"/>
            <a:ext cx="8001000" cy="4267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aan de volgende eisen voldoe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in dienst zijn van een particuliere beveiligingsorganisatie;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in bezit zijn van een SVH Diploma Horecaportier;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met succes gescreend zijn door de politie. </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Rechthoek 2"/>
          <p:cNvSpPr/>
          <p:nvPr/>
        </p:nvSpPr>
        <p:spPr>
          <a:xfrm>
            <a:off x="746280" y="26028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Theorie en antwoorden hoofdstuk 9</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566640" y="1752480"/>
            <a:ext cx="8182080" cy="44848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taken van de BHV’er zij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verlenen van eerste hulp bij ongevalle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beperken en bestrijden van brand;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beperken van de gevolgen van ongevalle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alarmeren en evacueren van alle aanwezige personen in het bedrijf.</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Rechthoek 2"/>
          <p:cNvSpPr/>
          <p:nvPr/>
        </p:nvSpPr>
        <p:spPr>
          <a:xfrm>
            <a:off x="746280" y="26028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Theorie en antwoorden hoofdstuk 9</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566280" y="1752480"/>
            <a:ext cx="8001000" cy="426744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Je krijgt nu de oefentoets met daarin net als bij de echte toets 40 vragen. De score van deze oefentoets telt niet mee, maar geeft je een idee van wat voor soort vragen je kunt verwachten. De theorie uit de powerpoints samen met de vragen en antwoorden uit de vorige lessen vormen de basis van de eindtoets. Door deze goed te leren bereid je jezelf optimaal voor!</a:t>
            </a:r>
            <a:endParaRPr b="0" lang="en-US" sz="2500" spc="-1" strike="noStrike">
              <a:solidFill>
                <a:srgbClr val="000000"/>
              </a:solidFill>
              <a:latin typeface="Verdana"/>
            </a:endParaRPr>
          </a:p>
        </p:txBody>
      </p:sp>
      <p:sp>
        <p:nvSpPr>
          <p:cNvPr id="118" name="Rechthoek 2"/>
          <p:cNvSpPr/>
          <p:nvPr/>
        </p:nvSpPr>
        <p:spPr>
          <a:xfrm>
            <a:off x="746280" y="260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Oefentoet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Programma vandaag</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fontScale="98000"/>
          </a:bodyPr>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jziging datum eindtoets + taples</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Informatie officieel examen</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Behandelen opdrachten hoofdstuk 4</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Behandelen theorie en opdrachten hoofdstuk 9</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Maken van oefentoets</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Nabespreken oefentoets</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fsluiting</a:t>
            </a:r>
            <a:endParaRPr b="0" lang="en-US" sz="3000" spc="-1" strike="noStrike">
              <a:solidFill>
                <a:srgbClr val="000000"/>
              </a:solidFill>
              <a:latin typeface="Verdana"/>
            </a:endParaRPr>
          </a:p>
          <a:p>
            <a:pPr marL="460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atum eindtoets en tapcursus</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Eindtoets en tapcursus vindt plaats op 27-1-2014. Ik probeer de les met Frank nog om te ruilen zodat we alles op de middag kunnen plannen. De tapcursus vindt plaats in de Leeuwarden Loung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formatie examen</a:t>
            </a:r>
            <a:endParaRPr b="0" lang="en-US" sz="3800" spc="-1" strike="noStrike">
              <a:solidFill>
                <a:srgbClr val="000000"/>
              </a:solidFill>
              <a:latin typeface="Verdana"/>
            </a:endParaRPr>
          </a:p>
        </p:txBody>
      </p:sp>
      <p:sp>
        <p:nvSpPr>
          <p:cNvPr id="94" name="PlaceHolder 2"/>
          <p:cNvSpPr>
            <a:spLocks noGrp="1"/>
          </p:cNvSpPr>
          <p:nvPr>
            <p:ph/>
          </p:nvPr>
        </p:nvSpPr>
        <p:spPr>
          <a:xfrm>
            <a:off x="684000" y="1267920"/>
            <a:ext cx="8001000" cy="381492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Examen kan aangevraagd worden via </a:t>
            </a:r>
            <a:r>
              <a:rPr b="0" lang="nl-NL" sz="3000" spc="-1" strike="noStrike" u="sng">
                <a:solidFill>
                  <a:srgbClr val="336699"/>
                </a:solidFill>
                <a:uFillTx/>
                <a:latin typeface="Verdana"/>
                <a:hlinkClick r:id="rId1"/>
              </a:rPr>
              <a:t>http://www.svh.nl/examens/sociale-hygiene.htm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Kost 127 euro en kan op donderdags digitaal op de NHL gedaan worden om 13:00/14:15/15:30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Vragen hoofdstuk 4</a:t>
            </a:r>
            <a:endParaRPr b="0" lang="en-US" sz="3800" spc="-1" strike="noStrike">
              <a:solidFill>
                <a:srgbClr val="000000"/>
              </a:solidFill>
              <a:latin typeface="Verdana"/>
            </a:endParaRPr>
          </a:p>
        </p:txBody>
      </p:sp>
      <p:sp>
        <p:nvSpPr>
          <p:cNvPr id="96" name="PlaceHolder 2"/>
          <p:cNvSpPr>
            <a:spLocks noGrp="1"/>
          </p:cNvSpPr>
          <p:nvPr>
            <p:ph/>
          </p:nvPr>
        </p:nvSpPr>
        <p:spPr>
          <a:xfrm>
            <a:off x="610920" y="1628640"/>
            <a:ext cx="8001000" cy="426744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1. De volgende afwegingen moeten worden gemaakt bij de gespreksmodellen ‘Openlijke en Verborgen regelovertreding: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elke regelovertreding;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ssistentie of deleger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oel bepal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anneer optreden. </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2. Het doel van ‘inzicht tonen’ is, dat de gast niet te direct geconfronteerd wordt met het woord ‘nee’.</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3. het verschil tussen een openlijke en een verborgen regelovertreding is dat de handelingen van de overtreder bij openlijke regelovertreding zelf zijn waargenomen en bij verborgen regelovertreding nie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Vragen hoofdstuk 4 (vervolg)</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4. De gast zal  als je hem confronteert met een verborgen regelovertreding A2-gedrag (ontkennend gedrag) vertonen. Hij weet immers dat de regelhandhaver slechts optreedt op basis van vermoedens.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5. Om goed met klachten van gasten om te kunnen gaan, moet je onderscheid kunnen maken tusse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oorten klachte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oorten klagers;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wijze van klage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oe klachten afgehandeld kunnen worden.</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toiletten moeten aan de volgende eisen voldoen: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 de onmiddellijke nabijheid van een horecalokaliteit zijn, ten behoeve van de bezoekers, ten minste twee volledig van elkaar gescheiden toiletgelegenheden aanwezig.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lke toiletgelegenheid bevat ten minste: </a:t>
            </a:r>
            <a:endParaRPr b="0" lang="en-US" sz="20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één of meer behoorlijk afsluitbare toiletruimten; </a:t>
            </a:r>
            <a:endParaRPr b="0" lang="en-US" sz="16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één of meer behoorlijke voorzieningen om de handen met deugdelijk stromend drinkwater te kunnen wassen. </a:t>
            </a:r>
            <a:endParaRPr b="0" lang="en-US" sz="16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in de toiletruimte aanwezige toiletpotten en urinoirs zijn voorzien van waterspoeling.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toiletruimten zijn niet rechtstreeks toegankelijk vanuit een horecalokalitei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en brandmelding bestaat uit het noemen van: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aam van melder;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adres van uw bedrijf (straatnaam, huisnummer, woonplaats);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naam van uw bedrijf;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soort bedrijf (bijvoorbeeld café);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bereikbaarheid van het bedrijf (routebeschrijving);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wat er gebeurd is (oorzaak van brand);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aard van de brand (binnen of buiten, schoorsteenbrand of gasexplosie);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aantal mensen dat op dat moment aanwezig is.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Laat iemand de brandweer buiten opwachten. </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e volgende bouwkundige voorzieningen kunnen getroffen worden om de veiligheid te vergroten: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goed doorzicht;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goed overzicht;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goed toezicht;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goede verlichting;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beveiligde kassa;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veilige kluis;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sleutelbeheer.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09:40:52Z</dcterms:created>
  <dc:creator>VMBO Leeuwarden</dc:creator>
  <dc:description/>
  <dc:language>en-US</dc:language>
  <cp:lastModifiedBy>Jacob</cp:lastModifiedBy>
  <dcterms:modified xsi:type="dcterms:W3CDTF">2014-01-12T20:20:25Z</dcterms:modified>
  <cp:revision>25</cp:revision>
  <dc:subject/>
  <dc:title>Sociale Hygiëne jaar1 Sporeto</dc:title>
</cp:coreProperties>
</file>