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elke doelen hebben controlere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DF46-4874-4457-9D2C-0551F820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3C11-A356-46F6-BF0C-4D132894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5E0E-F0DE-47E6-B9BD-E9AA784DC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372-B40D-4542-8C6A-B23198CD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7B89-677F-464A-87EE-8FB88DE3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4215-D8C9-435E-BA25-1DDEBAEF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D7E08-3483-4C36-8D90-1F513A3F4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A5E8-40B0-41FF-B1DA-965C1A51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38AE-8338-4749-9E5D-E35163DB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B8DF-211B-40E5-B4ED-03FFCD9B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B231-478D-4C89-AE8A-41006F09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129E-BD6E-46B0-B729-0D1A5238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C3013-8A1C-40EC-84EC-76B2C963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4E34-8C04-4949-879F-6EAFBE02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847F-EE8C-462C-A8B3-DECDEA2B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325A-7C7B-4E2D-82D9-EEF6342B0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A15F-26DB-4634-9675-0A056FE9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767F6-8541-4B04-A329-A78CCC23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A7499-573F-4D37-85F6-8ACAA53E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592CA-6BBE-40AA-A9A3-F236F0C0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3DBC1-EDDC-4421-B423-8C21F3AB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ACB4E-6636-473A-82CA-20596C85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6DE1-7204-4191-B15C-87FA757D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7ED7A-5573-48D6-9D73-71C69290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47060-6259-4779-A706-8CE1065C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BF5BD-B646-429F-9238-620DCBAF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767B3-F2B1-4D34-9969-BD99C1F9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5B448-2020-4921-B165-00E5405E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0A71A-257A-4DD1-9269-C73B9549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B2736-667C-4A66-A258-2C0AFA8E8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3385-AB0B-4653-9B0F-BF125D5C5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E92E-8ABA-4D71-8369-4CA19207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CA7-5954-4FB9-965A-19C3332D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BB2-78F8-4C14-9034-ADD4C6ED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B9A0-F89D-4095-87BA-A8304F2B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EBE9-D63F-4481-85C6-B6032B56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91E5E-4259-4159-819D-F101761DBD20}" type="slidenum">
              <a: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0AF4F0-42F8-4C04-84D5-EF61F5B34620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697107E-F53E-46DE-8D8E-949CD4C68105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FzCsiGkSBec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ssie.horeca.nl/video/15658/het_reageren_op_een_verborgen_regelovertreding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Verdana"/>
              </a:rPr>
              <a:t>Les 2 Sociale Hygiëne / 2-1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517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203640" y="6381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Jacob van W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Geweigerd.nl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llen die zich in Nederland bevinden, worden in gelijke gevallen gelijk behandeld. Discriminatie wegens godsdienst, levensovertuiging, politieke gezindheid, ras, geslacht of op welke grond dan ook, is niet toegestaan.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Met welke partijen werk je sam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me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ndere onderne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olit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Taken leidinggeven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nemers voorlich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structie gev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oezicht hou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overleg voe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or- Nabespreking (briefin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oach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Vragen en antwoord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nneer vertoont iemand sociaal-hygiënisch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t zijn fatsoensnor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3. Wat is het verschil tussen moreel en immoreel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4. Waaruit bestaat een sociaal-hygiënisch 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5. Leg uit waarom het verstandig is om in een horeca- of slijtersbedrijf een sociaal-hygiënisch beleid te voer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6. Wat moet een leidinggevende doen om geloofwaardig over te komen bij zijn gasten of klant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7. Een gedragsregel stelt grenzen aan gedrag. Geef aan tussen welke twee gedragingen de gedragsregel de grens ste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8. Er zijn twee soorten regels. Welke zijn dit en wat hebben ze met elkaar geme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9. Stel dat u een regel moet opstellen. Wat moet u dan ten minste in de omschrijving van de regel opne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0. Leg uit wat het verband is tussen het waarom van de regel en het geven van argument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1. Wat verstaat men onder het begrip ‘normvervaging’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2. Geef aan wat het doel is van een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3. Uit welke vier stappen bestaat het handhavings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4. Welke W’s spelen een rol bij de waarneming van regelovertred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Hoe kun je er als ondernemer voor zorgen dat gasten zich goed gedragen jouw horeca-gelegenhei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5. Welke drie sancties kunnen in een horecabedrijf worden toegepas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6. Wanneer pleegt iemand ‘huisvredebreuk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7. Geef aan wat u de gast vertelt voordat u tot vorderen overga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8. Wat zijn de drie voordelen van een schriftelijke ontzegg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9. Geef aan waarover elke medewerker zich moet uitspreken bij toepassing van het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0. Geef aan waar de selectiecriteria bij het deurbeleid betrekking op mogen hebb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1. Wat wordt in de Grondwet onder discriminatie verstaa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2. Welke afspraken kunnen er gemaakt worden met de politi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3. Over welke zaken kunnen ondernemers samenwerk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ER NOG VRAG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wee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e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kstvak 2"/>
          <p:cNvSpPr/>
          <p:nvPr/>
        </p:nvSpPr>
        <p:spPr>
          <a:xfrm>
            <a:off x="849240" y="2781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ideo Contact maken bij regelhandha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assie.horeca.nl/video/15658/het_reageren_op_een_verborgen_regelovertr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isie op gastvrijheidsconce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dreigingen onderzoe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enzen stellen a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andhavingsbele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orlichting en instructi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iligheidsbeleid (komt l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en goede gedragsregel bestaat uit drie  onderdelen, namelij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doel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inhoud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het </a:t>
            </a: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waarom 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van de reg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Opdracht huisregels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ciaal-Hygiënisch 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andhavingsbelei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 hebben nu regels, maar wat moet je doen om er voor te zorgen dat deze ook worden nageleef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Verdana"/>
              </a:rPr>
              <a:t>Handhavingsbeleid: Stapp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s controler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corrig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sanction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ncties afdwin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isen stellen om ervoor te zorgen d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naam van het bedrijf behouden blij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orde en rust in het bedrijf gegarandeer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iligheid van gasten en medewerkers gewaarborg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e eisen mogen alleen betrekking hebben 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redietwaard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Selectie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getalscrite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leeftij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ie op basis van huisreg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40:52Z</dcterms:created>
  <dc:creator>VMBO Leeuwarden</dc:creator>
  <dc:description/>
  <dc:language>en-US</dc:language>
  <cp:lastModifiedBy>12viwijc</cp:lastModifiedBy>
  <dcterms:modified xsi:type="dcterms:W3CDTF">2013-12-02T08:19:09Z</dcterms:modified>
  <cp:revision>18</cp:revision>
  <dc:subject/>
  <dc:title>Sociale Hygiëne jaar1 Sporeto</dc:title>
</cp:coreProperties>
</file>