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ACB0-C1DC-472A-B925-9150EF982CE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E412-67D0-4754-A1BD-44F183AEF18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CC89-F56A-49CE-889E-F78D8E178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B0AB-5109-4621-8571-A79FA283B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C6FE-7E34-46DA-90F1-B3BDBA9BD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FE5F-E390-428B-9CCA-72E20B4A3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260C-4D1D-4AD5-9217-DC27FE41E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7697-EBF6-418D-9D09-F83793F42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C6AF-AD26-414A-90AF-8DCBD0765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D939-1F0A-4D06-9BF1-E977C9306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3D17-D55A-4EA8-B923-1C03E2E68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5862-7A95-48A9-9E43-B08FCEAA2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5B82-6EF8-4DC1-8B2A-8B50AF9DB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90F0-7A95-44C1-90D8-ED34F2821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Beschrijving Examen Taken (BE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xpertise dag 20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jdelijke aanduiding voor inhoud 3" descr="3786954eedb73b4bafc8481b55ddcba7.jpg"/>
          <p:cNvPicPr/>
          <p:nvPr/>
        </p:nvPicPr>
        <p:blipFill>
          <a:blip r:embed="rId1"/>
          <a:stretch/>
        </p:blipFill>
        <p:spPr>
          <a:xfrm>
            <a:off x="4714920" y="404640"/>
            <a:ext cx="4019400" cy="561672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4" descr="7f40cc09dc789ab7c26896c1c72dc1f0.jpg"/>
          <p:cNvPicPr/>
          <p:nvPr/>
        </p:nvPicPr>
        <p:blipFill>
          <a:blip r:embed="rId2"/>
          <a:stretch/>
        </p:blipFill>
        <p:spPr>
          <a:xfrm>
            <a:off x="468360" y="420840"/>
            <a:ext cx="3887640" cy="56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Vragen over de BET</a:t>
            </a:r>
            <a:r>
              <a:rPr b="1" lang="nl-NL" sz="1800" spc="-1" strike="noStrike">
                <a:solidFill>
                  <a:srgbClr val="003366"/>
                </a:solidFill>
                <a:latin typeface="Tahoma"/>
              </a:rPr>
              <a:t>( 20+10 mi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 aandacht gebied ( bv. 1.2 of 3.1 etc.) per groep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 verhouden de criteria zich “tot de praktijk”; herken je jezelf in deze take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at levert het op als we ons hieraan spiegelen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lke leerdoelen of verbeterpunten vallen er voor jezelf uit te hale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zamenlijk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at leverde de discussie op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4-03-20T11:03:58Z</dcterms:modified>
  <cp:revision>318</cp:revision>
  <dc:subject/>
  <dc:title>Verbindend Leren</dc:title>
</cp:coreProperties>
</file>