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8CB2-E1C0-4CAB-B9B0-0E27F885971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714-4C25-4B6F-969D-AD49995B45C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F01E-C561-43CC-BEA9-3CADCCEBB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56CF-64E5-45A8-8F76-3BE896F98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598C-3A57-46BF-B8E1-D8F3A908F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0638-A7F7-4ED9-BFB3-45E1D6643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BE16-4704-4078-8D4B-C76E30265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50F0-F8F2-4412-B189-A36B5C726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7DA9-378D-4C20-AC7C-F4B11AAFD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16BE-4B50-4C8A-B51F-07FD5197A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50EF-9713-4D06-B8B1-51E0C6218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10A2-7EA5-40EB-8675-960030A7F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D473-D792-4DB8-97C5-CAD144CA4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97D9-EF12-44A9-9002-0493754F9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schrijving Examen Taken (B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pertise dag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jdelijke aanduiding voor inhoud 3" descr="3786954eedb73b4bafc8481b55ddcba7.jpg"/>
          <p:cNvPicPr/>
          <p:nvPr/>
        </p:nvPicPr>
        <p:blipFill>
          <a:blip r:embed="rId1"/>
          <a:stretch/>
        </p:blipFill>
        <p:spPr>
          <a:xfrm>
            <a:off x="4714920" y="404640"/>
            <a:ext cx="4019400" cy="561672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7f40cc09dc789ab7c26896c1c72dc1f0.jpg"/>
          <p:cNvPicPr/>
          <p:nvPr/>
        </p:nvPicPr>
        <p:blipFill>
          <a:blip r:embed="rId2"/>
          <a:stretch/>
        </p:blipFill>
        <p:spPr>
          <a:xfrm>
            <a:off x="468360" y="420840"/>
            <a:ext cx="38876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ragen over de BET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 20+10 mi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aandacht gebied ( bv. 1.2 of 3.1 etc.) per groep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roepje: Vergelijk jullie individuele sc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valt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verhouden de criteria zich “tot de praktijk”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/ welke criteria leveren onduidelijkheid of discussie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kunnen we ons profileren op de sterke punten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leerdoelen of verbeterpunten vallen eruit te hal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zamenlij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leverde de discussie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4-02-27T15:23:09Z</dcterms:modified>
  <cp:revision>316</cp:revision>
  <dc:subject/>
  <dc:title>Verbindend Leren</dc:title>
</cp:coreProperties>
</file>