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8ACD-9380-45A2-9CFB-2ED15FDD21C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A077-B709-4ADF-B6B5-D0BF9EA144A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5E61-0DA8-4E64-A710-F0DDE46AA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3140-3052-4E38-A476-CE15497DE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3743-5A9C-4772-98D3-C8929C7A7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9FA0-D2AB-4E33-A1C9-D0539C2E2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B9CB-655F-425A-9B30-993EDE136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C5C1-E4B6-4865-9961-2144FF18B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3D1F-D27C-4D7B-9EFB-49A4D8A27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A03-F2C6-4014-B389-D3C97BD1C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B5E6-3D43-41B1-AFEA-12BEF2F2F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DDF7-D95C-40FD-83C0-7DBACDD81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B951-08C7-45EE-BA6A-1041858C4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2B54-53F9-4AF4-9D94-664F4EF2E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leid assesso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gram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om + Introduc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van een assessor; do’s en dont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ieuw: Beschrijving Examen Taken (B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offie pau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emo E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casu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orbereiden CGI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CGI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stellen leer- of verbeter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Waarom gecertificeerde assesso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ordwin College wil goede diploma’s afgeven. Betrouwbaarheid van onze diploma’s mag nooit ter discussie sta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wijs Inspectie geeft prioriteit aan de kwaliteit van de beoordeling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t scholingsbeleid voor assessoren is een belangrijk criterium bij de beoordeling van de inspect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is gedurende het hele leerproces van studenten een belangrijk instrument (niet alleen bij Proev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enduidigheid in beoordelen is belang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Certific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 daagse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Maken en inleveren examendossier (portfol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 bij een extern examen 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slaagden krijgen een pasje en worden in Eduarte toegevoegd in het bestand voor gecertificeerde assesso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Hoe blijf je een goede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 jaar minimaal 3 proeven van bekwaamheid beoord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 jaar 1 expertisedag bijwonen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en alternatieve opdracht do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bouw portfolio (voor onderhoudsexam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Waarom expertiseda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eren van collega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aar scherp hou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reflec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b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ieuwe ontwikkelingen m.b.t. examin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 het motto: Een leven lang leren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Eisen aan een Nordwin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heersen van de werkprocessen en prestatie-indicatoren van het kwalificatie dossi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66"/>
                </a:solidFill>
                <a:latin typeface="Tahoma"/>
              </a:rPr>
              <a:t>Examentoetsen beoor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cp:lastPrinted>2014-02-18T10:10:08Z</cp:lastPrinted>
  <dcterms:modified xsi:type="dcterms:W3CDTF">2014-03-21T10:23:27Z</dcterms:modified>
  <cp:revision>322</cp:revision>
  <dc:subject/>
  <dc:title>Verbindend Leren</dc:title>
</cp:coreProperties>
</file>