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A609-4DE4-4C09-9A1D-54D4F30D2C4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E353-D978-47AC-B00B-645463E5296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3CDF-56BE-4DC5-9579-92603408E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9D8B-4881-4EF4-B52F-45219737A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C6AB-E59B-4C45-A37A-DE6C5634A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93CE-8E12-4989-88DC-1DF6FB6E0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7E32-638B-4ED5-B1D4-E3F956B4C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60F1-45EF-44AC-BA4F-ECF2A92D1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0DE3-26CE-4C66-A5D4-7ADEC66B5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6AB7-3F7D-47C8-AD9E-02046B296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F34C-9397-4214-9B81-E8F1F1BAE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626A-C113-4443-9D09-8A54BCE29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7957-020E-4760-881C-72BE029EE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D188-205F-4688-BF4E-49BC5B34C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schrijving Examen Taken (BE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xpertise dag 20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jdelijke aanduiding voor inhoud 3" descr="3786954eedb73b4bafc8481b55ddcba7.jpg"/>
          <p:cNvPicPr/>
          <p:nvPr/>
        </p:nvPicPr>
        <p:blipFill>
          <a:blip r:embed="rId1"/>
          <a:stretch/>
        </p:blipFill>
        <p:spPr>
          <a:xfrm>
            <a:off x="4714920" y="404640"/>
            <a:ext cx="4019400" cy="561672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4" descr="7f40cc09dc789ab7c26896c1c72dc1f0.jpg"/>
          <p:cNvPicPr/>
          <p:nvPr/>
        </p:nvPicPr>
        <p:blipFill>
          <a:blip r:embed="rId2"/>
          <a:stretch/>
        </p:blipFill>
        <p:spPr>
          <a:xfrm>
            <a:off x="468360" y="420840"/>
            <a:ext cx="3887640" cy="56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Vragen over de BET</a:t>
            </a:r>
            <a:r>
              <a:rPr b="1" lang="nl-NL" sz="1800" spc="-1" strike="noStrike">
                <a:solidFill>
                  <a:srgbClr val="003366"/>
                </a:solidFill>
                <a:latin typeface="Tahoma"/>
              </a:rPr>
              <a:t>( 20+10 mi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 aandacht gebied ( bv. 1.2 of 3.1 etc.) per groep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roepje: Vergelijk jullie individuele sc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at valt op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 verhouden de criteria zich “tot de praktijk”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at / welke criteria leveren onduidelijkheid of discussie op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 kunnen we ons profileren op de sterke punten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lke leerdoelen of verbeterpunten vallen eruit te hal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zamenlij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at leverde de discussie op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4-02-27T15:23:09Z</dcterms:modified>
  <cp:revision>316</cp:revision>
  <dc:subject/>
  <dc:title>Verbindend Leren</dc:title>
</cp:coreProperties>
</file>