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14F19-F80B-4D81-8B67-CC03EFAB810C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0BE98-5FDF-496E-A01F-6DD12CA1DFD5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1C71F-A4A7-4BAC-AEF4-EFE1BFA2A8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072AD-D561-40A7-9AD9-99C2AF7773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03389-F4AA-4517-8A20-751D0364A2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6363C-E9DD-4B79-A411-55BC9D1068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B5D99-575E-413B-BFFD-DB68D756F3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F577B-1FCD-4324-BFD1-E310FE4E05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0D6A8-E493-4D11-B7C1-C96DDC000B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26011-881C-4323-9570-3B62425AA5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35C87-B29A-424C-8555-8BEE0958FB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56CA9-5449-412F-B9C6-3ECE70E647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4D8DE-EDFE-4BBD-8DD3-FFDC7DF926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A2C37-17BC-4067-B936-AFCC238FED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Afbeelding 6" descr="Nordwin PPT vervolgpagina.jpg"/>
          <p:cNvPicPr/>
          <p:nvPr/>
        </p:nvPicPr>
        <p:blipFill>
          <a:blip r:embed="rId3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xamineringmbo.nl/thema-s-examinering/examentaken" TargetMode="Externa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42840" y="3357360"/>
            <a:ext cx="53438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Tahoma"/>
              </a:rPr>
              <a:t>Assessoren beleid</a:t>
            </a:r>
            <a:br>
              <a:rPr sz="3200"/>
            </a:br>
            <a:r>
              <a:rPr b="1" lang="nl-NL" sz="1200" spc="-1" strike="noStrike">
                <a:solidFill>
                  <a:srgbClr val="003366"/>
                </a:solidFill>
                <a:latin typeface="Tahoma"/>
              </a:rPr>
              <a:t>hernieuwd beleid per 2015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28440" y="4357440"/>
            <a:ext cx="535788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Assessor MBO Nordwin College</a:t>
            </a:r>
            <a:br>
              <a:rPr sz="3600"/>
            </a:br>
            <a:r>
              <a:rPr b="1" lang="nl-NL" sz="1200" spc="-1" strike="noStrike">
                <a:solidFill>
                  <a:srgbClr val="003366"/>
                </a:solidFill>
                <a:latin typeface="Tahoma"/>
              </a:rPr>
              <a:t>(voorbeeld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Naam: Rinze Fokke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Geboortedatum: 12-06-196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Geldig tot: 31-12-20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Afbeelding 5" descr=""/>
          <p:cNvPicPr/>
          <p:nvPr/>
        </p:nvPicPr>
        <p:blipFill>
          <a:blip r:embed="rId1"/>
          <a:stretch/>
        </p:blipFill>
        <p:spPr>
          <a:xfrm>
            <a:off x="971640" y="2133720"/>
            <a:ext cx="183672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Kwaliteitscontrol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(Interne) EVC assessor beoordeelt portfol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Tahoma"/>
              </a:rPr>
              <a:t>EVC assessor bouwt tegelijkertijd aan eigen experti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Tahoma"/>
              </a:rPr>
              <a:t>Bewijs materiaal voor eigen portfoli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33 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oordeling opnemen als bewijsmateria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Afbeelding 3" descr=""/>
          <p:cNvPicPr/>
          <p:nvPr/>
        </p:nvPicPr>
        <p:blipFill>
          <a:blip r:embed="rId1"/>
          <a:stretch/>
        </p:blipFill>
        <p:spPr>
          <a:xfrm>
            <a:off x="2195640" y="3645000"/>
            <a:ext cx="1215720" cy="1512720"/>
          </a:xfrm>
          <a:prstGeom prst="rect">
            <a:avLst/>
          </a:prstGeom>
          <a:ln w="0">
            <a:noFill/>
          </a:ln>
        </p:spPr>
      </p:pic>
      <p:pic>
        <p:nvPicPr>
          <p:cNvPr id="115" name="Afbeelding 4" descr=""/>
          <p:cNvPicPr/>
          <p:nvPr/>
        </p:nvPicPr>
        <p:blipFill>
          <a:blip r:embed="rId2"/>
          <a:stretch/>
        </p:blipFill>
        <p:spPr>
          <a:xfrm>
            <a:off x="7020000" y="2265480"/>
            <a:ext cx="87624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Kosten EVC assesso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Tijdelijke aanduiding voor inhoud 10" descr=""/>
          <p:cNvPicPr/>
          <p:nvPr/>
        </p:nvPicPr>
        <p:blipFill>
          <a:blip r:embed="rId1"/>
          <a:stretch/>
        </p:blipFill>
        <p:spPr>
          <a:xfrm>
            <a:off x="1285920" y="3009960"/>
            <a:ext cx="6572160" cy="2057400"/>
          </a:xfrm>
          <a:prstGeom prst="rect">
            <a:avLst/>
          </a:prstGeom>
          <a:ln w="0">
            <a:noFill/>
          </a:ln>
        </p:spPr>
      </p:pic>
      <p:sp>
        <p:nvSpPr>
          <p:cNvPr id="118" name="Tekstvak 1"/>
          <p:cNvSpPr/>
          <p:nvPr/>
        </p:nvSpPr>
        <p:spPr>
          <a:xfrm>
            <a:off x="6948360" y="270180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ahoma"/>
              </a:rPr>
              <a:t>Intern tarief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Bevoegd, Niet </a:t>
            </a:r>
            <a:r>
              <a:rPr b="1" lang="nl-NL" sz="1800" spc="-1" strike="noStrike">
                <a:solidFill>
                  <a:srgbClr val="003366"/>
                </a:solidFill>
                <a:latin typeface="Tahoma"/>
              </a:rPr>
              <a:t>(aantoonbaar) </a:t>
            </a: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bekwa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nvoldoende aantal Proev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ortfolio bevat onvoldoende bewij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nvoldoende expertise moment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Vermelding </a:t>
            </a:r>
            <a:r>
              <a:rPr b="0" lang="nl-NL" sz="2000" spc="-1" strike="noStrike" u="sng">
                <a:solidFill>
                  <a:srgbClr val="003366"/>
                </a:solidFill>
                <a:uFillTx/>
                <a:latin typeface="Tahoma"/>
              </a:rPr>
              <a:t>onvoldoende</a:t>
            </a: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Status op : “assessor in opleiding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(Waarderend) audit of coach gespre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ortfolio aanvullen (binnen 1 jr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2 x onvoldoende = bespreken functioneren als assess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Rollen en verantwoordelijkhede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Assessor: zelf verantwoordelijk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wijs BET indicatoren en leerdoel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1 x per 3 jaar laten toets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EVC assess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Toetst 33% per ja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Rapporteert Voldoende / Onvoldoend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Teamlei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Functioneringsgesprek en Beoordelingsgespre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003366"/>
                </a:solidFill>
                <a:uFillTx/>
                <a:latin typeface="Tahoma"/>
              </a:rPr>
              <a:t>Passend aantal </a:t>
            </a: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competente assesso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Aandragen 33 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pnemen expertisemomenten in scholingskalen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Interne coa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geleiden in ontwikkeltraje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1436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Trajec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Aanmelden voor trai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Assessor in oplei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voeg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Gecertificeerd Nordwin assessor (pasj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kwa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Elke drie jaar aanton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.b.v. eigen verantwoordelijkheid en PO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003366"/>
                </a:solidFill>
                <a:uFillTx/>
                <a:latin typeface="Tahoma"/>
              </a:rPr>
              <a:t>Niet </a:t>
            </a:r>
            <a:r>
              <a:rPr b="0" lang="nl-NL" sz="1400" spc="-1" strike="noStrike" u="sng">
                <a:solidFill>
                  <a:srgbClr val="003366"/>
                </a:solidFill>
                <a:uFillTx/>
                <a:latin typeface="Tahoma"/>
              </a:rPr>
              <a:t>(aantoonbaar) </a:t>
            </a: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kwa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Aanvull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Exit gesprek </a:t>
            </a:r>
            <a:r>
              <a:rPr b="0" lang="nl-NL" sz="1400" spc="-1" strike="noStrike">
                <a:solidFill>
                  <a:srgbClr val="003366"/>
                </a:solidFill>
                <a:latin typeface="Tahoma"/>
              </a:rPr>
              <a:t>( geen pasje meer en </a:t>
            </a:r>
            <a:r>
              <a:rPr b="0" lang="nl-NL" sz="1400" spc="-1" strike="noStrike" u="sng">
                <a:solidFill>
                  <a:srgbClr val="003366"/>
                </a:solidFill>
                <a:uFillTx/>
                <a:latin typeface="Tahoma"/>
              </a:rPr>
              <a:t>Taak</a:t>
            </a:r>
            <a:r>
              <a:rPr b="0" lang="nl-NL" sz="1400" spc="-1" strike="noStrike">
                <a:solidFill>
                  <a:srgbClr val="003366"/>
                </a:solidFill>
                <a:latin typeface="Tahoma"/>
              </a:rPr>
              <a:t> verwijderen uit Eduarte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Assessoren belei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Do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Hernieu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pz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ortfol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voegd en bekwa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Kwaliteitscontro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Uren en kost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Rollen en verantwoordelijkhed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Traje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1" name="Afbeelding 3" descr=""/>
          <p:cNvPicPr/>
          <p:nvPr/>
        </p:nvPicPr>
        <p:blipFill>
          <a:blip r:embed="rId1"/>
          <a:stretch/>
        </p:blipFill>
        <p:spPr>
          <a:xfrm>
            <a:off x="4930920" y="1981080"/>
            <a:ext cx="35226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Do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003366"/>
                </a:solidFill>
                <a:uFillTx/>
                <a:latin typeface="Tahoma"/>
              </a:rPr>
              <a:t>Recht doen aan studenten en bedrijfslev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oordele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nderbouw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orgen deskundigheid en bekwaamheid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Kwaliteit aantonen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Afbeelding 1" descr=""/>
          <p:cNvPicPr/>
          <p:nvPr/>
        </p:nvPicPr>
        <p:blipFill>
          <a:blip r:embed="rId1"/>
          <a:stretch/>
        </p:blipFill>
        <p:spPr>
          <a:xfrm>
            <a:off x="2268360" y="4221000"/>
            <a:ext cx="129564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Nieuw t.o.v. ou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Geen externe certificering me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Geen kennistoets me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langrijke rol P.O.P. (i.o.m. team, uit evaluaties, ontwikkelinge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Doorlopend aantonen ( portfolio in N@tschoo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Herkenbaarheid ( “Groene dilemma’s” i.p.v. algemee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schrijving Examen Taken (BET) i.p.v. model Prov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nderdeel functionerings- en beoordelingsgespre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asje voor intern gebrui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Zelf verantwoordelijk voor aanbrengen meerwaarde en kwalite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Opze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Werken met deskundige en bekwame assesso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Aanzetten tot zelfontwikkeling </a:t>
            </a:r>
            <a:r>
              <a:rPr b="0" lang="nl-NL" sz="20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( BET 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nderdeel professionalise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Doorlopend aanton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Loslaten externe certifice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udgettair verantwoord ( € en ure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Kwaliteit uitstralen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N@tsch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Functionerings- / beoordelingsgespre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Portfoli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Aantonen bekwaamheid en aanzetten tot le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lan, do, check, a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4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wijs o.b.v. Indicatoren BET </a:t>
            </a:r>
            <a:r>
              <a:rPr b="0" lang="nl-NL" sz="1000" spc="-1" strike="noStrike">
                <a:solidFill>
                  <a:srgbClr val="003366"/>
                </a:solidFill>
                <a:latin typeface="Tahoma"/>
              </a:rPr>
              <a:t>(examineringmbo.nl)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Elke drie jaar ter beoordeling EVC assess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ntwikkeldoelen individueel en i.o. met team / examenburea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In N@tsch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684360" y="260280"/>
          <a:ext cx="7772400" cy="614196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rplicht per 3 ja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oorbeelden ter aanvull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elfreflectie op de indicatoren </a:t>
                      </a: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excel) 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eluidfragment (b.v. CGI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verzicht afgenomen Proeven (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gboek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ctueel CV 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apportage </a:t>
                      </a:r>
                      <a:r>
                        <a:rPr b="0" lang="nl-NL" sz="16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aan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xamencommiss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ntwikkeldoelen en acties (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flectie op artikel of bijeenkom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elfreflectie op ontwikkeldoelen (STARR) (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eedback aan / van colleg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ideo fragment 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eoordeling van kandidaat assess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elname bewijs expertise dag (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rzorgen onderdeel expertise da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ewijs van deelname intervis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itwerking van gedragsindica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verzicht scholingsbehoef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elfreflectie en -evaluatie op Proe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itslag kennisto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rslag functioneringsgespre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rslag beoordelingsgespre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oorbeelden afgenomen Proev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Tahoma"/>
              </a:rPr>
              <a:t>Bevoegd raken, bekwaam blijv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voeg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2 dagen basistraining + Assessor in Oplei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Filmpje van jezelf (intro, beoordeling, rapportag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275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ortfolio en CGI door 2 collega (senior) assessoren </a:t>
            </a:r>
            <a:r>
              <a:rPr b="1" lang="nl-NL" sz="1100" spc="-1" strike="noStrike">
                <a:solidFill>
                  <a:srgbClr val="003366"/>
                </a:solidFill>
                <a:latin typeface="Tahoma"/>
              </a:rPr>
              <a:t>( zelf zoeken!)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asje Nordwin Colleg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kwa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Voldoende Proeven ( 9 stuks per 3 ja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ortfolio + functionerings- en beoordelingsgespre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Expertise bijeenkomsten ( minimaal 2 per 3 ja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oordeling “voldoende” ( 1 x per 3 ja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Invester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692360" y="1773360"/>
          <a:ext cx="5753160" cy="914400"/>
        </p:xfrm>
        <a:graphic>
          <a:graphicData uri="http://schemas.openxmlformats.org/drawingml/2006/table">
            <a:tbl>
              <a:tblPr/>
              <a:tblGrid>
                <a:gridCol w="4676760"/>
                <a:gridCol w="1076400"/>
              </a:tblGrid>
              <a:tr h="182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evoegd raken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ren per ja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elname basis trai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amenstellen portfol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flectie (eind)gesprek met collega’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Rectangle 1"/>
          <p:cNvSpPr/>
          <p:nvPr/>
        </p:nvSpPr>
        <p:spPr>
          <a:xfrm>
            <a:off x="1620720" y="4797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467000" y="3181320"/>
          <a:ext cx="6210000" cy="1714680"/>
        </p:xfrm>
        <a:graphic>
          <a:graphicData uri="http://schemas.openxmlformats.org/drawingml/2006/table">
            <a:tbl>
              <a:tblPr/>
              <a:tblGrid>
                <a:gridCol w="4572000"/>
                <a:gridCol w="523800"/>
                <a:gridCol w="523800"/>
                <a:gridCol w="590400"/>
              </a:tblGrid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kwaam blijven: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renbesteding per 3 ja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ar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ar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ar 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stellen leerdoel + reflectie ( 3 leerdoele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werken feedback van collega ( opti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visie / teambijeenkomst op “beoordelen” ( opti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jwonen expertise momenten ( verplicht 2 x per drie jaa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V, overzicht Proeven, overige bewijsstukk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ploaden bewijsmateria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al per ja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08:13:22Z</dcterms:created>
  <dc:creator>A. Dros</dc:creator>
  <dc:description/>
  <dc:language>en-US</dc:language>
  <cp:lastModifiedBy>Rinze Fokkema</cp:lastModifiedBy>
  <cp:lastPrinted>2015-05-28T08:16:17Z</cp:lastPrinted>
  <dcterms:modified xsi:type="dcterms:W3CDTF">2016-02-16T10:52:48Z</dcterms:modified>
  <cp:revision>375</cp:revision>
  <dc:subject/>
  <dc:title>Verbindend Leren</dc:title>
</cp:coreProperties>
</file>