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4FE4-7DA5-4B88-A0C3-BBFFFA236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6EFF-A813-4BCD-9BBC-8E6C1F7DB2E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8B1E2-1CC6-4E6A-9589-F378FCE996D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A4ACB-1938-483B-8681-7B47962FC6C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81F06-BEF2-46E7-B0D2-B8F52536F75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BAF69-C7D0-498E-9EDC-0974F74D5B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80BE0-E773-4860-A1CC-D22AFBB7E59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03746-D679-4FF1-8577-1AA84C6BA34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97F22-6993-4AF1-B4C7-22A3A08511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C3A96-FFD7-4817-AF95-92B905B73DD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944F8-77B9-43F9-B817-1145D13C2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BDD9-1ADC-4B68-A10D-469CFFAC2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2D8B-7D36-4DBB-9D53-F9B46BF7A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448FA-3D53-48A0-AC7A-3B05B228A7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99A52-3CA6-471E-8CB6-A2C52F7CC3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95E7F-EE22-4F34-A75E-80E7D3B394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FA586-D4FF-4D43-BE65-99186BE21E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CABA9-A97D-41CA-B21A-76A7465D2F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8B3E5-160D-4733-8601-00DCB49FF5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EF53B-5840-4849-AE1B-9E3A1D6C77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FBA4-CAAF-4D43-B1E1-EE09836C2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88CED-78C3-44CC-B194-5761BEA1C9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186ED-5D51-4C24-8E6A-125A25EEAA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3E757-F520-42DF-B549-81F8C6BBC5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EEFAD-B901-4445-8C30-53912A4BA7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D6561-AE98-4745-9CF2-C64290F3F3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3A0B-16AE-4775-A909-6EAFEF64A1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4A56-3CE3-4FD4-9DFF-43B8CAD510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A4F4-63C2-47DE-8C0F-7F46DF0C8E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F673-F0DB-481B-A328-D6D7762282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F52A-AE1D-44A6-A14E-8E4AD8B106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BBE9-C708-47BA-A4BB-532ED01663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9E34-DE37-4E30-BDEE-45375F750E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7858-5EDD-4AF3-9CC9-B66455C3D8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7F9B-5ACE-4CC8-BC10-A5716FDEBF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00B1-957F-46F6-BD5B-F093BC1B4C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31B1-0FBB-4BCA-8624-31EFAE6CD6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1B19-3CCD-4439-8582-ED92A26A7C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4020-260E-4593-AC35-BEBE78B16F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FC894-BC93-4ED7-BF00-5D59BA6F10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9AA8E-D590-4288-9D69-16509D55D3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68DD9-9426-4140-AED0-1500503B8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D090-00CA-4763-8082-9D0A3595DE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6042C-4DA6-4978-A8E2-42EE6B47BA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8AF38-233B-47F0-8692-BAD138230D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CB677-23F9-4083-B190-06B983B156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3AD78-6478-4BD8-AEE0-6E102B78AE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3CB35-FFC4-410D-8578-0F7F245EAC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DF130-820C-4089-AD67-62A2D1DE61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CA243-E8D4-4C63-9DD2-CB258A76F4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9539A-E7D2-4319-949D-D2D7AB9EF9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1A111-EE3B-4E1A-9AED-4870B5FB9B4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4C3BBF-0462-4666-BF74-B2C015BD5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F27A9-CDC3-497A-AD82-56D032D4A2B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5F55D-193F-4AC2-B8E7-2648A46BAC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C36D5-A7FB-4C3B-BCB5-D2D7565449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1FF86-EF28-41BB-BCF3-15E6D92379B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F99BA-E0EF-4242-85A2-4001820F977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D2EC0-1505-4801-8B6C-B067E10329C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1F2B28-E7C8-458C-80FC-AA74DB34EF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92AD1-30FD-40E9-82B4-1DFAD9BD294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86907-E165-4893-A783-0C2C1E81CA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D171D-B678-4DEC-8E4E-F675C14ABF5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C8951D-5E67-41CE-A26C-8FBC80B88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95C9-65F9-4AE7-941F-50659CCABBA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FB2FE-CA60-4A90-AF7E-C33EC76FF37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119EE-37F2-41CE-8820-9BDC83C87CD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67714-0868-41DA-B2E2-BE899DC61CE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290E0-3010-4282-9C19-6A0C340937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73729-8DE2-42C1-9C86-62E0ECC956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4387-E1FC-4949-A1E9-841966239C8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C7A3F-1F64-4DC7-BF77-14A65E4AC1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A0ECC-813C-4F54-A8E8-D1F31080CD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A3CBC-87DB-4DF9-A244-44908B3634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BF4B5-E2C5-41DB-AFC4-2E5380B57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B5EC-959B-40A5-9F68-3C785F129AB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5648-11C1-45FD-9354-D5A254C727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B2EE-34CE-4D4E-B644-841A4DD35B0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DAEC9-0F02-4221-A4D5-92D7643C80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6C898-0A42-4956-87E4-1B82B5C6603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B3EEF-E924-4EA0-AE01-737AD1E3FA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354AF-6312-4821-8834-AC73C56B33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3D98B-D464-4A21-B571-6A1633EF7B1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4014E-DA7D-487E-9117-82950FE6425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279AE-9559-404D-B3DC-1F6290248E7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C3FC2-9155-4FB6-A01E-2421FEFAF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3C1A-3DED-4723-9120-1CFA550319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BA33F-6376-4384-8B1D-06F8E06D6DF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4A9B1-B028-4500-B971-50B049A5B90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EF383-135D-4483-A4EB-52EE60353F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9743E-20EB-42D2-951B-FCFC72F1B8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C84C8-E975-4D4C-AD41-F345BFD9E37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33215B-D6F4-4E78-A319-DF3A6099A35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CB7879-0B06-4822-83CF-7FE22538FA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979912-C817-4BE6-9F4F-1A239E6C93D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D14CFD-9C91-4791-8AAE-66BC32F9775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D86CD8-343E-4829-99DA-05C282166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E460-7E71-4325-B6F4-873E0A0EEF6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849528-CF56-4819-A18B-D89C77A6965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EEA145-A49C-4895-BB0E-941E1816187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BF1929-9436-4474-AC4C-EA0E633E747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65F8BE-C194-4F03-BB5E-FBD2E69AFC5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AFC664-B1B8-4ADA-A24F-927802497F4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0051B1-9F31-4967-A226-91D34E4B0B6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0DEE8A-BE50-4A26-B7D0-174B7BB3A64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C2B4A-D3BE-4CEC-A0D1-4E050E131D7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05A4F-3E7E-40AA-937E-3726760167F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C6573-5824-404A-BF0A-5ABD0D311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F373-FBBF-4F67-959E-A8C8C936E32A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2192-F860-4BFB-848B-3C2059E34C2F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9663-2052-4EE8-9D9F-D8759D9935AF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BD0B-21E1-4537-9093-605181E96204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9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0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FBC5-1211-424B-8646-60527CA169E0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1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2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D702-192A-4902-A5AC-B34AC989EA47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3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50FC-E92B-481F-952A-B1D873678FB2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5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6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1D56-35B7-4679-A77C-AB35956868CA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7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8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0050-2BBB-42BF-99BF-89B025E7E580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 fontScale="15000"/>
          </a:bodyPr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Introductie BOB (beeld, oordeel, besluit) evt. middels oefening.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360 graden feedback op leerwens.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Advies t.a.v. voortgang met deelnemers.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Evaluatie en afsluiting dag 1. 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lvl="4" marL="605520" indent="0">
              <a:spcBef>
                <a:spcPts val="451"/>
              </a:spcBef>
              <a:buNone/>
              <a:tabLst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</p:txBody>
      </p:sp>
      <p:pic>
        <p:nvPicPr>
          <p:cNvPr id="388" name="Picture 4" descr="Slechtnieuwsgesprek"/>
          <p:cNvPicPr/>
          <p:nvPr/>
        </p:nvPicPr>
        <p:blipFill>
          <a:blip r:embed="rId1"/>
          <a:srcRect l="4787" t="3750" r="4625" b="10176"/>
          <a:stretch/>
        </p:blipFill>
        <p:spPr>
          <a:xfrm>
            <a:off x="900000" y="857160"/>
            <a:ext cx="63151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1:22:15Z</dcterms:created>
  <dc:creator>Arjan van der Mee</dc:creator>
  <dc:description/>
  <dc:language>en-US</dc:language>
  <cp:lastModifiedBy>12vifora</cp:lastModifiedBy>
  <dcterms:modified xsi:type="dcterms:W3CDTF">2011-12-13T14:26:48Z</dcterms:modified>
  <cp:revision>170</cp:revision>
  <dc:subject/>
  <dc:title>Kinder EHBO</dc:title>
</cp:coreProperties>
</file>