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AA7-25E3-4609-BEED-B8D0E5FF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CBC-C523-492B-95C0-2BEA619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CE3-50D1-4B63-83E0-4990C14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289-F599-415B-8F55-8F597F2D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522A-801F-4F20-9B8A-2EA3026E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854-F7A0-4127-880E-A9468271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E2BA-ACB5-4755-B00F-B784B76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7112-AEF4-4E58-9501-2D0AA4E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8A2-B864-4004-80E5-72B974B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063-B3BE-4F42-B8FA-EF589B0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3F0B-5A5F-4B68-88A1-45A6243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193-A553-4DB6-964D-AE3BE51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D401-9BB4-4CDA-9138-688E130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E008-EF2E-4BFF-8B9E-6529DCE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451-2688-46CD-AD36-36045C7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60DE-903B-4A2D-95B3-0686D0FB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F91-C5BD-495F-8218-1622B44B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2107-3D55-4923-A254-4CAF144C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9219-DF82-46BD-9886-205F685C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04AB-4EDC-4FEA-AD82-AA2633C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FFC4-C3B6-48A5-9B2B-3D7293C3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D24A-B522-4DD3-91EB-D6E78D88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A5A-9CD5-4755-953A-AD17ECEE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7ED8-C014-4E64-B5AD-17F95C65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F9FF-E8AC-48B0-8346-8135583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169A-586C-4C11-8F1A-6B71B08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AEB9-B670-4111-A47C-F56FD24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4F67-7A5E-4DBA-96E6-B33C4A1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BB91-63F2-4859-9A53-6B01DAB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3C0D-71C6-468C-93A7-0D9245BC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51CC-686E-46AC-8F97-C7C33724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F8D5-6209-44B6-97C1-655C643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C795-05AD-482B-83C5-FF15BAE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3FF-435C-4EC7-916D-55630F19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199D-F89D-45E8-8BA2-9F93B14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1261-961C-4D87-9872-19B7CA5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A0F9-84EB-4D2F-A870-D897EA06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B490-2DF4-4918-9A56-F976F17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22EB-BBF4-47DF-ABED-B280BD9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A86D-837F-46D6-B8C0-E324D87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E0B4-416D-4925-B393-C08B28A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786F-A303-4D53-AD34-7669A737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B4AF-574E-4DA1-BC2A-DE17C694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078E-EC3B-4101-9A86-B788B2F0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F18-5E07-4D1D-94FC-7B9581FB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F7C94-4370-4ACB-8D2E-B322D21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8A2E-F157-41FF-B3EA-DF31CAC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F2C2-4009-4907-8FC6-233D8CE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F796-B537-45C1-93FB-DE8B754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4017-DD7C-429E-BAD2-32301FA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81C8-8E2D-4079-9BF8-1F85966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5FD4-50BD-4D27-A3DC-2A1B89A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ED5D-27EC-45B7-8BD4-7A032CD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154F-88AB-4E42-A237-A4BF583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AA3D-C283-4DC7-94C4-18C3BC89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7C7-EC43-4367-810B-7C18198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A5F3-9B32-455C-B8B7-13D3405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ABA5-1B0E-4F42-AEA2-7B9B955F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A5A6-602B-4F86-BA38-222B7A6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2872-D277-42B3-941C-3883C1F4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0864-88C5-440D-A718-DF87038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38EFA-825C-4DAF-9F42-949A4B9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AC94-24CF-4BED-B82E-C5DC201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6DE4F-8726-48BD-A004-B710953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3B83-2AAB-4D84-9697-08FAE4C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6592-CA63-4E87-9FE1-C9066F5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D95-6425-481D-96CC-9F428E2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14F9-334F-4E50-8EA3-4EE49CC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40D0-582A-4067-814F-ECECBDA3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32DF-D128-4676-AA28-C79A1B59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2EC80-F7F0-49EB-94F6-BFEC25F7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FBC3-9BD6-4ECC-AB5C-7873EA3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94BD3-066F-4D4D-AF53-C4855A9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4623-16E8-4AD2-89BC-ED95D835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5BA30-4D08-44B3-9D7A-9CA27C7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4AA3-5530-4EC2-953B-46ADE51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944F-9AB4-40EB-A8CC-AF525BF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84A-11C8-4A7E-8715-A0EE335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80B0-27AB-4231-A30E-7460483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24E2-2FB8-4631-8489-B72EAD8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94CB0-B046-4A3B-B266-FA1FAA8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60DF-78D2-41F8-A70C-E450A9EF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C920-1A41-427B-9547-BC2F715C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EE6E-19AA-4B73-8AA4-CE38691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42A7-0075-4FB1-A59F-C09A1AD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41AF-EC96-4005-86AD-8A5A571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AA8F-F197-451C-A30D-94C9534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82D81-42B8-496D-B158-61A61F17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6CB-EFA9-4E53-B883-3711885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3D78-BA6F-4287-A23F-B06D9222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1567-D635-4EC2-BF44-3DBCD3E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28F9-B44C-4DAE-A954-FE7BA6E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E439-43D3-4D08-AAB2-D154331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0392-72A5-440B-B90F-FB740EA7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21DE-1D0F-45C8-AD25-75790BB8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F7982-77C5-42CE-B23F-F860FDD7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279A-0D68-4875-8211-58E2452C1CB6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039-F1A3-4C3F-98AA-9EEC2AB73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0D7-F436-4750-B5BE-1C9B7B5EBD66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1A9E-3AE6-478D-BD28-A4A9D21D7A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7D3F-AD70-47F0-94AF-DF879D91FD7E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25A-866A-4EE5-8856-68192B362D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58F-D84F-467A-A350-8BB92B6BF662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EB4-8895-4D51-A910-2DD0EEB14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3552-1038-4073-9A99-8DA1EAC1807B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146-B275-4FCD-8A0D-35C502B82B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6024-AB56-4DF6-AAAC-CF3B6A00626D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8AA-2254-459A-89CF-4885897A7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20BA-69FD-4D42-B85E-953AC222E58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D23E-569B-41FD-AC0C-3E731ABB1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EAA-76DD-4F64-A639-C2237162C6CD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9E2-364D-4D0A-BECD-D86F4E9CCB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16000" y="2060280"/>
            <a:ext cx="80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00-9.30u Inleiding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30-10.30u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 Creëren en innover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0.30-11.00u Koffie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00-11.30u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30-12.10u Brainstormen in groepjes van 4 om ideeën te ontwikkel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10-12.35u Presentatie ideeën van alle groepen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35-13.00u Lunch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3.00-14.30u Eerste vergadering F&amp;D, GF en 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981000"/>
            <a:ext cx="8174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2:43:30Z</dcterms:created>
  <dc:creator>Benerink</dc:creator>
  <dc:description/>
  <dc:language>en-US</dc:language>
  <cp:lastModifiedBy>Rob Benerink</cp:lastModifiedBy>
  <dcterms:modified xsi:type="dcterms:W3CDTF">2011-04-05T18:20:54Z</dcterms:modified>
  <cp:revision>9</cp:revision>
  <dc:subject/>
  <dc:title>Programma Opstart leerlingenstichting</dc:title>
</cp:coreProperties>
</file>