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4CC3-25C9-4EDF-AE91-85D814612D3E}" type="slidenum">
              <a:rPr b="0" lang="en-US"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61840" y="763560"/>
            <a:ext cx="4989600" cy="3741840"/>
          </a:xfrm>
          <a:prstGeom prst="rect">
            <a:avLst/>
          </a:prstGeom>
          <a:ln w="0">
            <a:noFill/>
          </a:ln>
        </p:spPr>
      </p:sp>
      <p:sp>
        <p:nvSpPr>
          <p:cNvPr id="130"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voor het laatste jaar staan en volgend jaar binnen de school een onderneming gaan beheren (mini-onderneming, leerlingenstichting of andersoortige college compan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1840" y="763560"/>
            <a:ext cx="4989600" cy="3741840"/>
          </a:xfrm>
          <a:prstGeom prst="rect">
            <a:avLst/>
          </a:prstGeom>
          <a:ln w="0">
            <a:noFill/>
          </a:ln>
        </p:spPr>
      </p:sp>
      <p:sp>
        <p:nvSpPr>
          <p:cNvPr id="14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studenten in een paar minuten zelf opschrijven welke eigenschappen ze zelf denken in te brengen die de onderneming/stichting goed kan gebruiken. Bespreek dit in de gro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eel kan de checklist voor het beoordeling van ondernemerskwaliteiten meegegev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e bijl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63560"/>
            <a:ext cx="4989600" cy="3741840"/>
          </a:xfrm>
          <a:prstGeom prst="rect">
            <a:avLst/>
          </a:prstGeom>
          <a:ln w="0">
            <a:noFill/>
          </a:ln>
        </p:spPr>
      </p:sp>
      <p:sp>
        <p:nvSpPr>
          <p:cNvPr id="15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e risico’s die de onderneming en de ondernemer lopen. Het is niet de bedoeling er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1840" y="763560"/>
            <a:ext cx="4989600" cy="3741840"/>
          </a:xfrm>
          <a:prstGeom prst="rect">
            <a:avLst/>
          </a:prstGeom>
          <a:ln w="0">
            <a:noFill/>
          </a:ln>
        </p:spPr>
      </p:sp>
      <p:sp>
        <p:nvSpPr>
          <p:cNvPr id="15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groep nog een paar actiepunten benoemen en opschrijven, die de overname van de stichting tot een succes laten wor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61840" y="763560"/>
            <a:ext cx="4989600" cy="3741840"/>
          </a:xfrm>
          <a:prstGeom prst="rect">
            <a:avLst/>
          </a:prstGeom>
          <a:ln w="0">
            <a:noFill/>
          </a:ln>
        </p:spPr>
      </p:sp>
      <p:sp>
        <p:nvSpPr>
          <p:cNvPr id="15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onding van het bezoek en de presentatie. Eventueel met een rondleiding als dat mogelijk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61840" y="763560"/>
            <a:ext cx="4989600" cy="3741840"/>
          </a:xfrm>
          <a:prstGeom prst="rect">
            <a:avLst/>
          </a:prstGeom>
          <a:ln w="0">
            <a:noFill/>
          </a:ln>
        </p:spPr>
      </p:sp>
      <p:sp>
        <p:nvSpPr>
          <p:cNvPr id="13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61840" y="763560"/>
            <a:ext cx="4989600" cy="3741840"/>
          </a:xfrm>
          <a:prstGeom prst="rect">
            <a:avLst/>
          </a:prstGeom>
          <a:ln w="0">
            <a:noFill/>
          </a:ln>
        </p:spPr>
      </p:sp>
      <p:sp>
        <p:nvSpPr>
          <p:cNvPr id="13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met studenten in deze fase structuur te brengen in de basis van ondernemersplannen is het goed de materie niet te complex te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behandel ik altijd als laatste zodat in de presentatie een opbouw plaatsvindt naar persoonlijke eigensc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eerste jaar gaat het vooral om de vijf P’s en de rol van ondernemer in het maken van keuzes, zodat het een compleet verhaal is en alle onderdelen met elkaar in evenwicht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komt specifiek in het laatste deel van de presentatie, maar daarvoor kunnen verschillende aspecten reeds benoemd word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61840" y="763560"/>
            <a:ext cx="4989600" cy="3741840"/>
          </a:xfrm>
          <a:prstGeom prst="rect">
            <a:avLst/>
          </a:prstGeom>
          <a:ln w="0">
            <a:noFill/>
          </a:ln>
        </p:spPr>
      </p:sp>
      <p:sp>
        <p:nvSpPr>
          <p:cNvPr id="13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zijn van de onderneming/stichting die ze gaan beheren. Als dit wat te abstract is of de leerlingen nog geen beeld hebben van de stichting kan dit ook over een bloemenzaak op de hoek gaan, wanneer de studenten wel ervaring hebben met stage of vakantiewe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61840" y="763560"/>
            <a:ext cx="4989600" cy="3741840"/>
          </a:xfrm>
          <a:prstGeom prst="rect">
            <a:avLst/>
          </a:prstGeom>
          <a:ln w="0">
            <a:noFill/>
          </a:ln>
        </p:spPr>
      </p:sp>
      <p:sp>
        <p:nvSpPr>
          <p:cNvPr id="13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61840" y="763560"/>
            <a:ext cx="4989600" cy="3741840"/>
          </a:xfrm>
          <a:prstGeom prst="rect">
            <a:avLst/>
          </a:prstGeom>
          <a:ln w="0">
            <a:noFill/>
          </a:ln>
        </p:spPr>
      </p:sp>
      <p:sp>
        <p:nvSpPr>
          <p:cNvPr id="14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leerlingen opnieuw in groepjes nadenken over de markt van hun stichting/onderneming. (in het voorbeeld heet de onderneming “Flower &amp;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adenken over het product welke ze verkopen en hoe ze dat aan de man brengen. (de marketing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og even terugkijken naar de kritieke succes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preek de resultaten gezamenlij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1840" y="763560"/>
            <a:ext cx="4989600" cy="3741840"/>
          </a:xfrm>
          <a:prstGeom prst="rect">
            <a:avLst/>
          </a:prstGeom>
          <a:ln w="0">
            <a:noFill/>
          </a:ln>
        </p:spPr>
      </p:sp>
      <p:sp>
        <p:nvSpPr>
          <p:cNvPr id="14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an een korte presentatie worden gegeven over de Rabobank of hoe de adviseur omgaat met de beoordeling van een financiering. Het is goed daarbij terug te grijpen op de reeds genoemde onder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angrijk is aan te geven wat we als bank verwachten in een ondernemersplan. Uitleg geven over het belang van afstemming tussen de verschillende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63560"/>
            <a:ext cx="4989600" cy="3741840"/>
          </a:xfrm>
          <a:prstGeom prst="rect">
            <a:avLst/>
          </a:prstGeom>
          <a:ln w="0">
            <a:noFill/>
          </a:ln>
        </p:spPr>
      </p:sp>
      <p:sp>
        <p:nvSpPr>
          <p:cNvPr id="14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is groepje van twee of d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ventariseer de belangrijkste eigenschappen en bespreek ze of ze deze eigenschappen b.v. bij hun stage of vakantiewerk ook hebben gezien bij ondernemers (of medewerk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61840" y="763560"/>
            <a:ext cx="4989600" cy="3741840"/>
          </a:xfrm>
          <a:prstGeom prst="rect">
            <a:avLst/>
          </a:prstGeom>
          <a:ln w="0">
            <a:noFill/>
          </a:ln>
        </p:spPr>
      </p:sp>
      <p:sp>
        <p:nvSpPr>
          <p:cNvPr id="14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deze dia in de groep. Zo vult men elkaar goed 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er ze ook uit te laten spreken welke eigenschappen ze nog moeten ontwikkelen of wat ze spannend vinden om te do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58CA28-700E-41F5-B261-994B24AD8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36C9BD-1B12-4EFF-8F8B-467A557FCA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974EB4-B8A4-4E50-9B23-F8E7ED9F74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01D918-4D0F-4864-A7BD-99F50B508B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9A4725-C95A-4DF2-B9AE-84D72C1DDC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2BB7D7-49AA-410C-8372-27779C8D0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D384E4-471A-4DF0-B6ED-423BE1270C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50F3FD-E61F-433E-A65F-F51F781ADF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EC525E-6FFD-4BBD-9EB7-B0BC91FD3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7A62C5-514C-4B56-B4E7-89D3925348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78818A-EAA9-49CC-8161-20986EDC47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C5BD5BC-0E85-4B38-92DB-1325C4BECC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C2FE-D1DB-4ABE-A002-63C125C5B97E}"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7000"/>
            <a:ext cx="4719600" cy="975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 </a:t>
            </a:r>
            <a:br>
              <a:rPr sz="3200"/>
            </a:br>
            <a:r>
              <a:rPr b="0" lang="nl-NL" sz="3200" spc="-1" strike="noStrike">
                <a:solidFill>
                  <a:srgbClr val="ffffff"/>
                </a:solidFill>
                <a:latin typeface="Myriad"/>
              </a:rPr>
              <a:t>en 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932000" y="2852640"/>
            <a:ext cx="3816360" cy="808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 en functie</a:t>
            </a:r>
            <a:endParaRPr b="0" lang="en-US" sz="2400" spc="-1" strike="noStrike">
              <a:solidFill>
                <a:srgbClr val="ffffff"/>
              </a:solidFill>
              <a:latin typeface="Myriad SemiBol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SemiBold"/>
            </a:endParaRPr>
          </a:p>
        </p:txBody>
      </p:sp>
      <p:sp>
        <p:nvSpPr>
          <p:cNvPr id="99" name=""/>
          <p:cNvSpPr/>
          <p:nvPr/>
        </p:nvSpPr>
        <p:spPr>
          <a:xfrm>
            <a:off x="5076720" y="45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21"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Welke eigenschappen heb je zelf die de stichting als onderneming goed kan gebruiken.</a:t>
            </a: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Zien je mede studenten dat ook?</a:t>
            </a:r>
            <a:endParaRPr b="0" lang="en-US" sz="32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23"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Betalingsverkeer</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Rabobank Internetbankieren</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Afstorten van geld</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Incasseren bij afnemers</a:t>
            </a:r>
            <a:endParaRPr b="0" lang="en-US" sz="16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2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nem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27" name=""/>
          <p:cNvGrpSpPr/>
          <p:nvPr/>
        </p:nvGrpSpPr>
        <p:grpSpPr>
          <a:xfrm>
            <a:off x="898560" y="1197000"/>
            <a:ext cx="4249800" cy="4319640"/>
            <a:chOff x="898560" y="1197000"/>
            <a:chExt cx="4249800" cy="4319640"/>
          </a:xfrm>
        </p:grpSpPr>
        <p:pic>
          <p:nvPicPr>
            <p:cNvPr id="128"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a:t>
            </a: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Wat zij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van een onderneming</a:t>
            </a:r>
            <a:endParaRPr b="0" lang="en-US" sz="3200" spc="-1" strike="noStrike">
              <a:solidFill>
                <a:srgbClr val="ffffff"/>
              </a:solidFill>
              <a:latin typeface="Myriad"/>
            </a:endParaRPr>
          </a:p>
        </p:txBody>
      </p:sp>
      <p:sp>
        <p:nvSpPr>
          <p:cNvPr id="108" name=""/>
          <p:cNvSpPr/>
          <p:nvPr/>
        </p:nvSpPr>
        <p:spPr>
          <a:xfrm>
            <a:off x="2268360" y="4076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Overleg in groepjes en schrijf de vij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belangrijkste succesfactoren op!</a:t>
            </a:r>
            <a:endParaRPr b="0" lang="en-US" sz="1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10"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1"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jullie markt</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Invulling van de vijf p’s</a:t>
            </a:r>
            <a:endParaRPr b="0" lang="en-US" sz="1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van belang bij het inrichten van de organisatie</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Kritieke succesfactoren</a:t>
            </a:r>
            <a:endParaRPr b="0" lang="en-US" sz="1400" spc="-1" strike="noStrike">
              <a:solidFill>
                <a:srgbClr val="ffffff"/>
              </a:solidFill>
              <a:latin typeface="Myria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Overleg in groepen!</a:t>
            </a:r>
            <a:endParaRPr b="0" lang="en-US" sz="2000" spc="-1" strike="noStrike">
              <a:solidFill>
                <a:srgbClr val="ffffff"/>
              </a:solidFill>
              <a:latin typeface="Myria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eringsfilosofie</a:t>
            </a:r>
            <a:endParaRPr b="0" lang="en-US" sz="4400" spc="-1" strike="noStrike">
              <a:solidFill>
                <a:srgbClr val="ffffff"/>
              </a:solidFill>
              <a:latin typeface="Myriad Light"/>
            </a:endParaRPr>
          </a:p>
        </p:txBody>
      </p:sp>
      <p:sp>
        <p:nvSpPr>
          <p:cNvPr id="115" name="PlaceHolder 2"/>
          <p:cNvSpPr>
            <a:spLocks noGrp="1"/>
          </p:cNvSpPr>
          <p:nvPr>
            <p:ph/>
          </p:nvPr>
        </p:nvSpPr>
        <p:spPr>
          <a:xfrm>
            <a:off x="816120" y="2133720"/>
            <a:ext cx="8021520" cy="3311280"/>
          </a:xfrm>
          <a:prstGeom prst="rect">
            <a:avLst/>
          </a:prstGeom>
          <a:noFill/>
          <a:ln w="0">
            <a:noFill/>
          </a:ln>
        </p:spPr>
        <p:txBody>
          <a:bodyPr lIns="0" rIns="0" anchor="t">
            <a:normAutofit fontScale="99000"/>
          </a:bodyPr>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ontinuïteit van het bedrijf</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kwaliteit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Beoordelen onder andere </a:t>
            </a:r>
            <a:endParaRPr b="0" lang="en-US" sz="24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schap</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Rentabiliteit</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Betalingscapaciteit</a:t>
            </a:r>
            <a:endParaRPr b="0" lang="en-US" sz="20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Vermog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Zekerheid</a:t>
            </a:r>
            <a:endParaRPr b="0" lang="en-US" sz="2400" spc="-1" strike="noStrike">
              <a:solidFill>
                <a:srgbClr val="ffffff"/>
              </a:solidFill>
              <a:latin typeface="Myria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1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werkneme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verleg in groepjes en schrijf de vijf </a:t>
            </a: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belangrijkste eigenschappen op!</a:t>
            </a:r>
            <a:endParaRPr b="0" lang="en-US" sz="20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1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hebben jullie nodi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Hoe moet je dan taken verdel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moeten jullie nog ontwikkel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1:32:14Z</dcterms:modified>
  <cp:revision>79</cp:revision>
  <dc:subject/>
  <dc:title>Dia 1</dc:title>
</cp:coreProperties>
</file>