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770-9207-4C77-8E83-651FE6FA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5F0-991E-4022-A2F6-FDA318C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8CE-E3E8-45A4-A530-B1A15061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532-67FE-49CE-B297-3B0AE256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0DAF-1D7A-47D3-A3C0-14D5DDBB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6982-650B-4B69-A72B-0EF13CE6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175-6125-4E69-9038-3CEC94A0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288-026A-40F3-966A-0BA58B32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954-FEAF-4551-ACAB-908F3CFE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8609-3955-4642-AAAF-38D4DB9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5E3B-6AE5-4F02-8788-DEF5052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5D0-C97A-4BB0-ADC3-86F89350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58D-84F1-444A-A05F-DAAFC71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BA55-A7A9-4851-B0E9-E0FB7F5D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C36-BF3F-4F6A-8B70-1867182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F183-BD93-4EE4-92AE-D5301839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3A71-5864-488E-8235-CF77AA9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FBAF-E544-4D52-BAEB-C502F804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203A-FD8D-44E5-BB4D-BC25061B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363D-B17B-4D49-AD6D-E790655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946C-7380-435B-A9EE-7657286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D4D3-B7FF-4627-871F-E3903FB2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61B-E9DE-4592-841C-B16EB0DF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EE5D-ACF2-42B5-BC36-C7C32E26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ECF7-2C45-4C02-8491-69ABD15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2083-D9ED-4ABF-8299-810B2F1C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A3CC-D50A-4969-9281-A0F5E929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9E6B-31FB-4AAA-A9A7-C403D4E4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F138-D05F-4BE3-A942-8081F922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AD61-208D-4DD5-A047-9537DF8F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8FE0-1EB1-4934-9EF6-1DC0F6E1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B394-C534-4F97-945A-0F507B8F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B494-C2F0-418B-8F05-F0EA260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571-5E2F-4F93-9D17-2CCD3292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1E4B-D1BD-4E3F-B4CE-A74E349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91B1-3C8E-471F-8D64-440D9C83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C0C4-9EBE-4DC3-8A96-7495FF3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6C3E-A65B-4FA1-B9E0-3691DA4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8020A-8DDA-486B-8880-CAA6722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505B-144A-4327-8D1D-9C318AF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5057-9B7B-4889-B3BE-BC4E936E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B7B7-8178-4A4A-9C04-9AE0BA53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D3B1-F10C-4375-9EA3-6F177440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FD9A-C554-4027-8D6D-F1A0DC50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8A3-C3AF-4ECE-BF68-A6F22A6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9ED1-6279-4197-A8BD-E0EB131E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6A2A-9CAB-4F3D-B9B6-2221089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9B32-4774-45C6-A693-07D095A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DA13-E5BC-46E5-98AE-FF430413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22EA-4572-41A9-9369-E1DD63F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C2AC-DD0B-4D23-B0EF-0EDDAAB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EF37-FACF-4D04-87EA-7C3BAB2F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9399-CB48-4F58-A3C8-258BE97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7BB0B-E462-4CB0-BAE6-6EC0FA8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2F4D-F72D-45D9-9BA9-BE592759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79F-133E-4B94-A188-1719411C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E69D-9ABD-4BDE-92C0-6FFAAB7C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40E8-D30E-434B-9885-2FD2A130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86BF-438F-4633-AA06-39910CC4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58E39-0EF7-4286-AC5F-85AAF4E1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B69F-ECFB-4710-BFEC-D291694A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4CA2-B8BF-4813-93FB-F98BE17B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2418E-A99D-484E-BBB8-D4711B6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AF87D-D6A6-49E6-8D30-EA49706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7AE3-670A-4E1D-B74C-2DED36AE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D8A55-276A-4CAF-944D-BB78B97C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67D-3343-4887-8E2D-87E4666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C97C-5424-41BA-989D-FCFC38E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F1E9-B752-4AF4-A067-03244784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270A-84F8-41EA-BE8A-E5B0C301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19BA-DA5B-40D0-9364-F3481E3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14A1E-1114-4D1C-9463-8BC054C4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A9D2-4043-457F-B51B-1297B13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A04AD-F486-407E-9CFD-BDA8173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2C2F-180B-480B-9398-E35C75CE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74129-F08F-429F-8819-DB93746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D65D-BF13-420E-BC24-FF36550D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DBD-42C1-4CE8-AA18-A36B65D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FD07-C6BE-41E4-B692-1DD69EF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4AB2-EFE9-4F77-B566-D3F16FC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E4DBE-1ABD-454C-9FC9-C3259C15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CFFA-8B1A-4C08-8FFE-DFBD3A71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648F1-0ED0-46D1-A7F7-04860E01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612E-B19B-428D-985D-1CBF08EA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8D5B0-0190-48B1-AF7A-86081DFA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E502-285D-4DAD-A92B-70E273A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262C-F1CD-4FC9-8627-6719297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C4E18-F37C-4044-8505-62B8EAF8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8A3-59C4-48AA-AFD0-5DE1326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8FE92-EC82-426F-859C-2783F94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9C403-5BA5-49D2-AE4F-C9EFDAB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C0C2-A772-4CD9-B1A2-DC071C1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903E-04FA-4714-83A9-9C2A0BE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2F19-FB0E-49B9-A2A5-7E098F9F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E35A5-8B54-4D39-99A8-7A4E7468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0FB59-E6AA-41BF-8E3F-39ED7E12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FFB4-AC72-4395-9172-4DCBE65211F9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34A3-A2F6-4E5D-8A73-159591A10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DA43-F739-4618-B173-FAD06A302F88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6A1-CFF4-440F-8E7E-A0E1852809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D46-6332-452B-9FF4-113E96AFE8BB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E3DE-6A56-426F-8791-24147E711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028C-2D35-4845-9290-02FDA9B89CB8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B718-4CF3-4530-950F-51033D9CA1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B5E8-92F5-4F17-B2A5-DA0FC3BB0166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568-E7FA-4F4E-9D01-6F8FB57C00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692-DBD0-4FB2-8D12-582950E0C032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C3FC-2485-417D-BE33-BC91D4F07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638E-110A-43CD-8F67-C1738A2E4C48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DEB-6925-4AF9-A224-EA19A1848A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E9BB-54FA-4C9D-AAC2-3D08A6FBC7B6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89A-F594-46DF-8284-B9781EFC5A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16000" y="2060280"/>
            <a:ext cx="8028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00-9.30u Inleiding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30-10.30u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 Creëren en innover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0.30-11.00u Koffie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00-11.30u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30-12.10u Brainstormen in groepjes van 4 om ideeën te ontwikkel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10-12.35u Presentatie ideeën van alle groepen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35-13.00u Lunch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3.00-14.30u Eerste vergadering F&amp;D, GF en 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981000"/>
            <a:ext cx="8174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2:43:30Z</dcterms:created>
  <dc:creator>Benerink</dc:creator>
  <dc:description/>
  <dc:language>en-US</dc:language>
  <cp:lastModifiedBy>Rob Benerink</cp:lastModifiedBy>
  <dcterms:modified xsi:type="dcterms:W3CDTF">2011-04-05T18:20:54Z</dcterms:modified>
  <cp:revision>9</cp:revision>
  <dc:subject/>
  <dc:title>Programma Opstart leerlingenstichting</dc:title>
</cp:coreProperties>
</file>