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538-2657-463E-9160-09E4BA57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FD8-1C64-454F-A94A-FB13D6C4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C1C-A067-4866-BA99-5A8E1F83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383-84C8-4445-B292-7F0B9517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8CBB-8F5E-45D5-B264-94B5F67C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468-0332-4BE8-ACCF-328C66E6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D658-F7F1-4003-AAE5-F5B4441B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2FD2-8739-41F3-A2BA-EBD0D5EC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88B0-037C-4F38-8E8D-F9132A0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86D-234B-45A5-A6F2-87D3B87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5B0D-46DF-4C9B-8FB5-6E5099A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331-0B3C-48F6-8CD9-66FE7AC2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7AD-7842-4CD0-B524-2197488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61D-90DC-4C6F-A722-3D5D009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6BAD-FFE1-4148-B676-A8FD0BA3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3ACE-D357-4313-82BC-023B308F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599E-C858-41E9-A9D6-0A8B726C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E206-00A9-4E13-8416-4FE7C5B5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71D23-228C-493E-9343-A47DB74C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3EB6-D6C4-41D0-BB47-91EA1131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2016-33DE-4181-98D3-FC65F70F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A793-FD63-4444-A77C-E58A991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722-C867-42B9-B5B6-F597CB5B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D6728-04C5-450F-BAE2-93D107CB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2981-2DDD-4F50-8312-42E50C49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B090-D0D6-4A55-9988-CF55870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19D6-1AA3-4DA1-830A-4DF5E17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8824-B15B-4DFD-8FB8-F644FCD9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FAFB-73BA-4825-94D2-C99A686A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19F9-CB24-45B6-9925-E2281CE6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65F4-AB37-4CA7-8418-791C5830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C15B-4F1E-4214-9D2A-313F5949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EF62B-E38F-4B42-A9EC-356CBA9A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E67-411B-4E1C-8CC0-93086431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BFFA-4FD6-49C0-AD7B-4B5A7609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1F42-2B90-48EE-A0B9-E42F158B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35AB-C79B-40F7-BB99-E31FCD80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271E-C803-44A4-A9DC-ABC57CC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A1A8-0A26-4D87-89F6-075801B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8BC44-9DC4-4A51-95CF-78F4DD85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302C-AFD0-459D-918D-8400D0F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FB16-73D7-45F6-92F9-C612ECA9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1448-91FC-4872-A286-1D0F4A00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E2ED-BA65-4DED-AB20-1CBD626C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222-F83F-44AC-A4CB-F4BBFA89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BB4C-5AA7-4FFC-8A0C-0FC6D158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4796-F387-4440-A932-D091D361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8CD0-FC8E-45BF-B6C5-C03E9F4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1930-6438-46B1-B696-7305759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F0DDE-5011-4C98-8802-CBE46E29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E337-30DB-457A-84B8-8FEC0B3F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44B8-2981-4C22-8862-49E59187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C5879-FFED-47C6-B58C-6D0C6DA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3F831-EA11-4421-B142-9B03FAA4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287F-525C-49B9-A8D1-DB08B105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D91-DC19-42DF-8AF7-2DE588A0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143C-D832-436B-AA08-8D68E11F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E0FA-06A0-40A9-9AAA-6BB97C19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6BADD-6275-404E-9834-73289DE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301D-2008-4E2C-AF4B-D5C3DF9C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FC487-6ABD-4B69-B589-5B57DBD9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43455-02E7-4827-B56A-B82D2AF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DDE1-384E-44C0-8B51-176EBF17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F7231-2DA7-4BD7-8E2E-6D1D176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0CFFD-48F9-499B-9019-5DC4AE9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B6BB-5B0C-41B0-A7E7-ACBA4F3D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D31-9312-4A44-978F-5C4A262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0321A-4D80-4A2F-80A0-64F8C2D6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AE8F-C65C-4938-9828-B88CC27B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0BD4-620B-49EE-BDC1-9BC536EA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053F2-9EB1-4D28-8753-B9A9D1A8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C7C1-EC5E-4115-90C7-2BEAAC5B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3F2E4-D324-4DB0-A4E2-9552619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044A6-C667-45FC-BE4F-968C6B43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BECD-AF86-44E9-9CC1-B3E0D0E2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3F38-A71D-4701-AB83-D1311FFA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55191-066C-435C-B50A-4E69F00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A78-D9A4-44B6-8AF9-3FB62868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2461-AD25-447D-B0C0-3EA5D27D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2061C-221A-4350-B958-33EDD02E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518B-F511-4184-BCB2-AB855E31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4B681-D714-4872-9D94-E4A422C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3C44A-EA5F-4E70-BDFA-0DDBD94D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D7E1-A193-43BB-A8A2-177A2FD5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59E71-4710-40B1-BA4A-EC94EBCF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439C6-9777-4CD0-8062-E5316005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60A07-7E38-4682-8740-60A7764B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4D066-17F0-4C7F-A238-3262A697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357-8794-4C3C-BBEF-D81DB31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1BF1-E923-4763-9C32-0B6D3525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7A36A-4F70-4B92-9433-E9A41AC6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D9B3-097E-4197-BCC1-A85CFDD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C3FD-78DD-4977-BC87-6EAB321A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5DA3-EFA2-4D59-9E16-C6DE1E6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EA6BF-5DE2-437F-9A62-B68D2730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54154-F147-4765-AAE8-B4ED1FEE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55D-07A5-4C20-AC4F-7982D7A8614F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5B09-E509-499B-9FF7-73EF20DA24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1E6-C104-4773-930F-1ADBFD793829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BAA-EEE8-46CE-9F14-C6F9F4CF5B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C393-026D-4071-80D7-D2DB3761FE92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1338-79D7-4760-9D42-A85586F482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23D0-3EFA-4254-AC40-B9C7D1D6483C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6F3E-9173-42A9-BC44-E18006A77F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C02-6183-4BDE-90CA-4A64EE582928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FAB2-91E3-402C-9EC3-B0D9B3516D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DB9D-A712-41C8-8303-1DD8009DCD15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F185-9504-4453-A7BC-7831D72C74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6C3F-F547-4C13-9AC7-C20758D1DDBC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FB50-409D-44D2-BEE7-0565DC0B13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AE6-CBFB-4D57-BA8B-9B9201BBE702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3902-3B9C-4EC4-8542-1C848FC182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16000" y="2060280"/>
            <a:ext cx="8028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00-9.30u Inleiding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30-10.30u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 Creëren en innover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0.30-11.00u Koffie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00-11.30u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30-12.10u Brainstormen in groepjes van 4 om ideeën te ontwikkel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10-12.35u Presentatie ideeën van alle groepen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35-13.00u Lunch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3.00-14.30u Eerste vergadering F&amp;D, GF en 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981000"/>
            <a:ext cx="8174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2:43:30Z</dcterms:created>
  <dc:creator>Benerink</dc:creator>
  <dc:description/>
  <dc:language>en-US</dc:language>
  <cp:lastModifiedBy>Rob Benerink</cp:lastModifiedBy>
  <dcterms:modified xsi:type="dcterms:W3CDTF">2011-04-05T18:20:54Z</dcterms:modified>
  <cp:revision>9</cp:revision>
  <dc:subject/>
  <dc:title>Programma Opstart leerlingenstichting</dc:title>
</cp:coreProperties>
</file>