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282-CAA1-4DB8-BC2F-3395C64D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855-F400-4F43-A36C-E2F39C06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CEC-1D00-4A3C-ADAA-02A164D4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09A-4B56-4AA3-AB44-5617B525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B707-858E-4590-B25F-E2D58DDB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9A44-95E9-4A7D-8062-90A9A809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53F-BF2A-452C-82AC-B5F972A5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26D9-F2DD-4274-AD75-25BEA84C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7C55-AFF2-4643-A9C0-7088A5D1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15B6-4FCC-49CE-83C1-0F06D0DB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2D24-8425-4052-B91C-76E9472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B13-C8E0-49C2-9540-8736E94D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9E43-322C-44A3-958B-3730C475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6F15-2BB7-4ADA-94A8-9F6D3920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FD44-D717-43FD-979A-C35C4A67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FA97-4CA4-4806-A72B-4BBB5A5C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8FA8-0EB0-4BAC-A85D-9FF41A0C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E4B1-9479-40D7-92F7-DF424D2C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7C45-2ED7-44CE-B65B-D5C16AAE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5CBE-9C99-46D1-AF81-A56A35D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2C14-A71B-4D4D-BADA-735CBBA8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83B2-F073-401F-A9A6-EC4639AB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BDB-262F-4829-A332-8ACEA120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78A2-58EA-406E-9CD6-DEFC5E3E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F101-81EE-4C97-AB4D-F4E5BE34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C90D-DD61-4246-8882-6494C388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16D1-3500-4EF0-8CA7-AFB17112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A29C-C1E4-49EA-AFB3-875E0B3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4C79-ECBB-49D5-A965-4F34F161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68DC-88CA-41ED-97BA-8931796A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F83E-1F16-43F8-963D-C35F1B25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F0FBA-6D20-426F-80F4-6C8C1AFA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4F2E-E492-4E12-AFEB-68659DC8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CAE-CCDA-4CDB-A18D-39BECA9E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866E-144B-4A68-B7EA-800BB90B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0250-AE04-415C-BF37-BA1135DB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7902-113C-4315-8188-9996C704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159AD-3173-41B3-A342-D6A5E3E7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F309-67F9-41B5-8F4A-C36A274C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48697-F14A-40AF-89FE-B1FA9374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D45D-3817-4B75-A646-5D4A9C3E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1D9AB-F577-43C9-A0C7-B78ACB5B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5476-A06D-4C32-B39B-96BDA749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3F0B-AF9E-48AC-A317-283305C1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1B0-1403-4471-872F-84E1D601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9AB6A-A8D8-4356-A99C-DB4A5A09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A25FA-459A-4645-B3D0-7313BED9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0D59-2E22-4C04-A389-6A072846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18F5-E6A6-44D2-9191-E6FD500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BE431-7DA8-4C40-816A-130EF31B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E6DFC-51D8-46B7-9ADB-D40700E6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92657-B7A6-4816-9364-68211516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6A4A7-2761-4439-8334-D61455EF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12BF-0A5E-4A26-AD96-81313C77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AE46-8A72-4B3E-84F1-2EDD9C24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194-2EEA-46E1-A148-28BEE153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B2D34-2469-4E06-B5F8-CB8BC3C1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AD8E8-2DCE-425E-A9B3-FC15595D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B454-B64F-4651-8285-9C1899E2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AEFCF-DFBD-4653-A2BE-BDA4E24A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C4D51-1C4B-492F-A273-E7D3C7C6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52B4A-910E-4C91-A9CD-D27FB67C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6768E-9B0A-41DE-BBAF-73C386D5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ADC4A-61AB-4931-ADE8-FF012A9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671A9-8FE7-456B-A9CD-6139A2DC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3935-2A99-48D1-BD01-7E72C0FC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779-78C0-4AAE-A512-99DE503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BE2F8-3CD0-4B5C-99DB-2B51D628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3FF6B-A7A2-494D-97C9-60E1AFBB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54DDB-5294-4869-8B58-9E425E71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1C392-6265-463A-8656-1BA2E578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C375F-6D52-4727-B357-4CB80249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6A0B1-18C9-44FA-84EA-7CDA8764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2CCFA-C8C1-45F5-8E23-05B131E8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8EBD5-B531-445A-88F9-4CCD9931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F6319-3105-4A7D-990F-14F8158D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276E4-CF95-42D6-B139-DDB22F68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F49-488E-4014-A46F-26A941BB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F798-CCD0-49A9-B208-935FA3D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78253-D6F3-441B-A1CF-FD166D09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C5E53-308D-4A87-A727-44320D75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7622-70E9-4132-8E02-7A0AECD7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92BDC-35B8-4499-B9B2-2A236B28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1E411-01FB-4ACD-BA88-17CB5E07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FF6EB-AE7A-4389-BC5D-8FA00DCE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7E9EA-ACA7-4E09-AC19-2A3B0086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CFF8D-F5B6-4E09-9911-5DBAF096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00A61-6FDA-4643-B6BF-59683BC3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A0F-2071-4483-801C-C272DF21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EF3D8-FE8F-4609-B971-44827DC0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98FE9-4EC1-47D2-A360-176E507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72AE-0C6B-41C3-AF17-DE76D35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60222-57BD-4219-B82D-7CB51F51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6C1F1-847C-4383-AE11-812B7271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425D8-8F1E-4BEE-B4D6-DF35A0C0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F8499-C198-49C6-9632-3E523A60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251-1C55-4100-81D9-C68983753525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30C2-6DED-45A2-9CB7-B55A401D5E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3EDE-F4D6-4554-8CFD-499DFEB6FBF3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47B0-CCA7-41AC-B6CA-8EAD67DCA2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88D-4541-47C7-9A25-8C60004D4EA7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6E24-A480-414C-B4B7-3739D3F84B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0E9C-3121-47F1-A9AE-BFA2A5217B1D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E396-9EF3-4271-B3F2-5F2B1F3BC0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E7C5-0B4C-4776-9E1A-372D5CB1CFDB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5910-1F03-445D-A66C-BAD1C5E8A2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5DE1-BB48-4D66-A860-D3BA4FC0CEFA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8323-048E-45A6-BF67-730B4DC36B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B32E-4ABC-4589-AC99-A69E685AC6C6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0E8B-B107-4C67-8E7E-15A5CC2560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3286-ADD6-4FA3-A419-E69960475EF8}" type="datetime3">
              <a:rPr b="0" lang="en-US" sz="10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3178-DBBA-4A09-A6CC-A7579E32A5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16000" y="2060280"/>
            <a:ext cx="80280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00-9.30u Inleiding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9.30-10.30u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 Creëren en innover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0.30-11.00u Koffie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00-11.30u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deel Worksho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1.30-12.10u Brainstormen in groepjes van 4 om ideeën te ontwikkel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10-12.35u Presentatie ideeën van alle groepen (centraa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2.35-13.00u Lunchpauz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13.00-14.30u Eerste vergadering F&amp;D, GF en 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969840" y="981000"/>
            <a:ext cx="8174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2:43:30Z</dcterms:created>
  <dc:creator>Benerink</dc:creator>
  <dc:description/>
  <dc:language>en-US</dc:language>
  <cp:lastModifiedBy>Rob Benerink</cp:lastModifiedBy>
  <dcterms:modified xsi:type="dcterms:W3CDTF">2011-04-05T18:20:54Z</dcterms:modified>
  <cp:revision>9</cp:revision>
  <dc:subject/>
  <dc:title>Programma Opstart leerlingenstichting</dc:title>
</cp:coreProperties>
</file>