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572-3917-447F-9110-DCE808DB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15C-3483-4A0D-AD69-13A654D8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C08-6186-45F9-9139-672122A7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94D-F065-4127-845C-3D6723AA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4AB6-B340-4B87-B3A8-6A23EC3D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DCCD-F977-476F-A7F0-EE728E0A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0DE7-59CC-4A72-ADBA-6BBAE7AD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54BF-C5EB-4999-BB7E-43062126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1A76-CFD9-4302-96E2-BCE71993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12D8-E710-49A1-864B-A810E6C0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9B36-232D-4FBE-A249-E160EFFB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25D-6FF7-407A-9268-3C83AF4D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834B-4758-40FE-B44F-3B0019B8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879E-BFD0-4B55-BBAF-D069A913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3DD2-B25C-4853-B05D-28CE38B6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140D-A7EE-49C9-88DB-491C40D9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6FEB-6689-419F-A355-68043CA5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4116D-C5CB-40DB-8469-65595C66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D1C47-25F3-4CA2-AB56-A37BAA33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55202-3BBB-4DE9-9D58-56C36A5F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1E7E3-FA3E-4251-BE88-DFFD98B8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C8BBB-8119-4DE4-9587-8584B7EE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EFF-4D97-49B2-9EF0-84085924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B087-A565-406E-8F7E-E441FFF0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23AD4-DA0C-4DEC-9865-2C0EC1E6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9BDA5-1673-4FBE-9D53-7467A911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64CE-6A08-4C91-AA97-816D8ADF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1B0AF-2F19-416D-91E2-8AC2C499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A9F22-4521-47A0-9D94-BC5BD66B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CCE0A-5EBD-47CA-9743-2F69091E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A9A2B-C974-4C53-8D5F-784CC306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BF13A-9D02-4F5F-9663-2EF5573D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23355-A75F-418C-8F82-73226674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DE8E-7895-48B3-BDE7-5B8CAE84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FA1C0-6EAA-4954-8DC1-4473994F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BCAC3-8828-4F72-A5FA-D67EC2F0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C134D-E82D-49CB-873E-62FC3F47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46443-1D23-4959-BC3B-7B8F592C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712B5-45AA-472F-8F2F-9398EDE1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B6991-A3A6-4AD1-8EE3-2D8FE416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BD12D-D3AE-4BCB-99CE-1BF0E887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CB0F9-CC83-4976-B88E-C000B43A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107F3-8153-4C07-9A0C-7828316A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62FF8-7AA4-499E-AA37-4A93AE2F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534-2372-4EBD-8749-97C200E6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AEA21-78EF-4E58-A639-5D0AC2DA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49F12-FDAE-438A-A92B-1F36798B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8AD8D-95AA-4D80-BC48-67FE9FFC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BD5C5-4CE9-409B-95D8-4B6A4D1F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BA33A-69AD-4344-8BAE-016592FE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7C117-1205-4E8C-8A73-350EE29E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DC53E-B3D7-4F2F-AED6-58640EF6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B4283-E64E-49C8-8214-C70CC5C1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C6199-0859-4B9B-953E-398A4C9F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62CFB-455E-4C5B-BAC7-1539B8CD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0CD-8C30-455B-817A-421E614C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42CE5-F02D-456A-9172-48FA2BE5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A6566-0DEE-412E-85AE-F83EA081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D4FD4-27FE-4E5B-98D0-A7E32100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0FCD5-14EE-41FF-ADA7-A59E5050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4E524-6A03-4FC0-AF8B-A22BF12A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381DD-78C7-42CF-884F-64B66220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CD80C-B006-4543-B1FB-31843F5C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ECA93-33AE-46E5-85A0-45B6DE64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31B5D-8D2F-4090-B3C1-02903CED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7B494-FBF7-4A4C-AF92-0AF57F11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65D9-E9B7-4A6F-92E1-2907EAE9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9F7EE-E61C-4B5B-8F01-23A8F62E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02164-DF57-4AEB-9552-1541F6F1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C52DD-3D7B-4A42-AFDB-EF376CE9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04FAD-246F-47F9-A766-04E93A05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F56FE-3CAB-46DF-8FC0-F76D6676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51EB8-101A-44AF-A57C-4DCF6935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81FB8-EA29-4CD5-B04A-CAF5DCF1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F5914-74AB-43C8-9FA6-F5B5ADE5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1F8BA-6DFB-4688-9C9F-99B1DB38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E3C29-EEC4-40E1-B610-7B634238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CCE-6EEA-434F-B031-EA791020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2D5EA-F751-476F-A46D-D850B27C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AF692-BE75-48B6-A8AC-E452E27B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EB7B5-F4B9-4D5A-AF1C-4CE9FC0F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6B58D-7261-413F-A94E-CD5DF6FC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AFFF2-70B3-4FB6-BB61-6E3400BB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DF635-AA87-41C6-BBBB-CC532F5E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E9A74-381D-437B-A787-170FFC70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C6E59-E784-4AAC-8C61-638A39D6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010D9-DC87-405E-A600-1903F1AA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02E7B-109C-43B2-9D07-48C07977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933B-709A-4591-8B99-4E083E5A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3CA2C-311F-4ED6-9213-10799A21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9908F-2F71-4CD8-97BE-1A7F7EF8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D662D-6360-4E03-ABCD-B7DE7D94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188A3-08E2-4F91-BB93-355D8237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EE1BC-C549-450A-8A32-AA1566EA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4ADF8-05BD-4129-AA2A-5C432217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B8291-2360-4F19-80E9-9B4B26F7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45A2-7E9C-4F4C-8771-A43535B5B0DB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1C48-FCD1-49B2-A01B-5B6297AB35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5726-C7E9-462A-A146-3B2356D0C883}" type="datetime3">
              <a:rPr b="0" lang="en-US" sz="1000" spc="-1" strike="noStrike">
                <a:solidFill>
                  <a:srgbClr val="ffffff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2205-57A5-43D1-9620-C4E20F9BD81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2913-8344-4C03-ACE6-48AFEF2A6D71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5294-C7D3-4259-9C62-17AB3B0FB6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8004-4433-438C-86D0-36BDD1D5FFAE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B400-3234-4D7A-B1CA-73D2944F66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0DFE-2A58-4F46-99D2-271D333E62EC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ACAB-273F-4F6E-ADFC-BA1ABE2FF6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28F2-FB61-4063-B8F3-3912D1532BC9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7ED7-5555-4521-97B0-55888BB31A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03DF-F0C5-4E3D-9595-42F79561B116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8B30-7894-412A-B85C-AF9E3C6BA2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ECC3-197D-414D-84F1-41F8CFB066F0}" type="datetime3">
              <a:rPr b="0" lang="en-US" sz="1000" spc="-1" strike="noStrike">
                <a:solidFill>
                  <a:srgbClr val="ffffff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C5EF-54B8-4D8F-888D-01D92D8DA8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116000" y="2060280"/>
            <a:ext cx="80280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9.00-9.30u Inleiding (centraal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9.30-10.30u 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deel Workshop Creëren en innover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0.30-11.00u Koffiepauz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1.00-11.30u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deel Worksho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1.30-12.10u Brainstormen in groepjes van 4 om ideeën te ontwikkel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2.10-12.35u Presentatie ideeën van alle groepen (centraal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2.35-13.00u Lunchpauz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3.00-14.30u Eerste vergadering F&amp;D, GF en 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969840" y="981000"/>
            <a:ext cx="81741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2:43:30Z</dcterms:created>
  <dc:creator>Benerink</dc:creator>
  <dc:description/>
  <dc:language>en-US</dc:language>
  <cp:lastModifiedBy>Rob Benerink</cp:lastModifiedBy>
  <dcterms:modified xsi:type="dcterms:W3CDTF">2011-04-05T18:20:54Z</dcterms:modified>
  <cp:revision>9</cp:revision>
  <dc:subject/>
  <dc:title>Programma Opstart leerlingenstichting</dc:title>
</cp:coreProperties>
</file>