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1CEC-4160-471A-A37C-1F433E1C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5D11-DA43-4D26-AB8A-6E03A6EE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6A30-1837-4CAC-A460-FB87C41E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C87C-7B1F-4D24-957F-63D4DFBF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BD0D-FBC6-4B94-956F-687069EF3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46F9-61C0-4FEF-873D-0ECD8A35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83E8-2DFC-47DA-8B3E-E52F52E6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0890-2A8B-4BC2-8DA4-FC8AE825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B628-0850-46F4-ADF6-0C1702F3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59E9-5D72-4D8E-BBDB-122FBF8F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E72B-2E32-41EE-A8C0-B28A4F77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29C2-4439-4A95-9EF2-2CEE6323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DBD0-4827-46B2-BD97-6E00580B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A264-7EEB-48F6-ABA3-52D4B9DD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8D17-457E-4AFC-97E4-F58278E6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AF7B-B592-410A-ADBE-6A3E945C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379E-91CA-4A64-BC32-BD6EE2FD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A08-A0C7-443E-9733-5AEF4CB1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FA2B-01CC-4C9E-9AF6-964ECEC7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9560-21B7-4936-AA81-21F26185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D800-3458-4007-BB25-C8B5C89C0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880F-BCCB-46CD-A800-42516E51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4C8A-2F98-4657-AA3D-7DD3B85A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DD0-2D47-4011-B14E-3B800EE6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2583-8714-4151-863C-0BC6D94BA19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4000-1FBF-44F3-A63B-A14B480A68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Arial"/>
              </a:rPr>
              <a:t>Rijtechniek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ressuu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49370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501984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angen aan de teugels”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67280" y="1844640"/>
            <a:ext cx="45990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Correct stur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98900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6874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turen als op de fie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5146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Buitenteugel losgooien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241956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o moet het dus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1769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ijgang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73674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ijk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aard gaat in voorwaarts-zijwaartse richt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aard blijft recht in zijn lijf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voorhand blijft voo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ijk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94600" y="1700280"/>
            <a:ext cx="23652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o moet het wel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76720" y="1844640"/>
            <a:ext cx="54007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chouderbinnenwaar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drie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o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inn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tegenovergestelde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chouderbinnenwaar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635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Tra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vier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hte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inn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de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Tra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659640" y="1700280"/>
            <a:ext cx="2030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cc"/>
                </a:solidFill>
                <a:latin typeface="Arial"/>
              </a:rPr>
              <a:t>Ren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vier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o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uit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de 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cc"/>
                </a:solidFill>
                <a:latin typeface="Arial"/>
              </a:rPr>
              <a:t>Ren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206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f zo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8920" y="1827000"/>
            <a:ext cx="742464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57578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f zo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648036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ar zo moet het niet: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35280" y="1773360"/>
            <a:ext cx="50626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En zo ook niet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34844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En ook zo niet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3909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6896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55771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4:40:58Z</dcterms:created>
  <dc:creator>den Ouden</dc:creator>
  <dc:description/>
  <dc:language>en-US</dc:language>
  <cp:lastModifiedBy>den Ouden</cp:lastModifiedBy>
  <dcterms:modified xsi:type="dcterms:W3CDTF">2010-03-02T07:57:12Z</dcterms:modified>
  <cp:revision>6</cp:revision>
  <dc:subject/>
  <dc:title>Rijtechniek</dc:title>
</cp:coreProperties>
</file>