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0A5-150F-4736-82E9-5D0A3B78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388-37AE-43C2-854E-15E6A6D7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15D-3D08-4DDA-BCAF-130EFBB5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AD4-21DA-4408-BFE9-9283CE14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4DF4-BC58-481A-B4BB-2AD81820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7A80-8092-42FF-9597-4BEF0F65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EEF2-43BB-4AA4-B621-98E0CF07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1EE3-8E18-46D8-9C27-9B5B020B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E51F-7DED-4947-9A56-DBC85922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0F15-89BC-487B-9EEE-4FC2C646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A4C9-FFB9-448B-8ED6-24A291A3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02A-F64B-47B9-A8DC-71D2F1B3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0C0E-4577-4521-8435-86974B2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3394-904E-4DF5-9207-09E3CB63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1BD1-0334-4A54-A03E-EB330504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116C-EF08-475A-9212-A0C9D25A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168F-CA1B-424D-8EFB-289543C9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567-C0E5-48AF-972B-403DD1D7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D6B-E806-4BDA-9EC8-FA38730B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08D-1CA4-4B1B-80A5-F55055BF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D91-E40A-4B77-B330-A9B6A21C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D69-DF6F-477B-81C6-2B64413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A8A-9E47-4B91-90BC-D6BC786B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ABB-8A0D-4230-A8DB-EF61B47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71D9-5653-4652-8127-4C9B9424D0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8A92-1040-47BA-A9AF-91FCAC6B27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"/>
              </a:rPr>
              <a:t>Rijtechniek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essuu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937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019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angen aan de teugels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599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Correct stur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8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turen als op de fi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514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uitenteugel losgooie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4195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dus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7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ijgang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367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gaat in voorwaarts-zijwaartse rich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blijft recht in zijn lijf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voorhand blijft vo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94600" y="1700280"/>
            <a:ext cx="23652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wel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4007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drie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tegenovergestel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35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hte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030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uit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6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827000"/>
            <a:ext cx="74246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757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648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ar zo moet het niet: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50626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zo ook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484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ook zo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896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577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4:40:58Z</dcterms:created>
  <dc:creator>den Ouden</dc:creator>
  <dc:description/>
  <dc:language>en-US</dc:language>
  <cp:lastModifiedBy>den Ouden</cp:lastModifiedBy>
  <dcterms:modified xsi:type="dcterms:W3CDTF">2010-03-02T07:57:12Z</dcterms:modified>
  <cp:revision>6</cp:revision>
  <dc:subject/>
  <dc:title>Rijtechniek</dc:title>
</cp:coreProperties>
</file>