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3F2-AEAC-473A-80EB-28A4B7AB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B30-211C-47FA-BC90-B6437EBB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FCA-9E9A-4E42-BE12-3934E455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2C9-DF57-4A55-88A6-D91CE883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993D-31A2-436C-AE9D-9BEFDB80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72F4-D341-41CD-9DA8-F0E8A158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4846-5A7C-4549-9F40-5012E4A5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90A4-2306-49EF-ADDA-44A315DD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8E72-9C66-4126-8CEC-48A7960B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EAB7-EDBD-40A6-AAF8-210206EC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CDCE-E8F6-4345-A254-4B79B7F5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A90-F014-4CF3-84F6-06DE5A43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F65D-1E1A-4CC3-B4F6-EECC14A7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FAED-5718-4C31-A903-BD62E33F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96DF-B877-4CFE-A0F7-DF6A9642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CE2E-07C2-4E21-9797-B97552AC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4D3E-4773-4C1A-9175-53AB85BB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740-6F61-45C3-B490-BF8847ED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89C-5E76-4E0F-A7C1-6478F2C6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74C-7618-4AE1-8F21-B76A07C3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FD4-5B1A-4503-A838-75045A9E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045C-3FD5-4BB5-9160-535D0417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451-72D7-4192-A1EA-CF31ECE3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FA6-DDB7-4B23-AAD4-0396F7F1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3210-1D75-41AE-9B3D-82B4324490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F728-3B79-47E2-B364-C041243873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"/>
              </a:rPr>
              <a:t>Rijtechniek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essuu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937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019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angen aan de teugels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599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Correct stur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8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turen als op de fi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514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uitenteugel losgooie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4195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dus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7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ijgang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367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gaat in voorwaarts-zijwaartse rich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blijft recht in zijn lijf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voorhand blijft vo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94600" y="1700280"/>
            <a:ext cx="23652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wel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4007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drie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tegenovergestel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35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hte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030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uit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6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827000"/>
            <a:ext cx="74246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757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648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ar zo moet het niet: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50626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zo ook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484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ook zo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896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577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4:40:58Z</dcterms:created>
  <dc:creator>den Ouden</dc:creator>
  <dc:description/>
  <dc:language>en-US</dc:language>
  <cp:lastModifiedBy>den Ouden</cp:lastModifiedBy>
  <dcterms:modified xsi:type="dcterms:W3CDTF">2010-03-02T07:57:12Z</dcterms:modified>
  <cp:revision>6</cp:revision>
  <dc:subject/>
  <dc:title>Rijtechniek</dc:title>
</cp:coreProperties>
</file>