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png" ContentType="image/png"/>
  <Override PartName="/ppt/media/image3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E5F85-A395-41D4-A716-40F1675E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E9B9B-8AC7-4E23-AEC0-179F5BDD5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FADA-0B37-4BF5-9451-518477CE9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58B3-D268-4978-A0F4-1265B102D2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70CE7-A010-4F34-8CD5-51B315120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BF00D-612C-4F27-8036-7FD749DDD4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71CC2-E365-497A-9169-7F5DFE94B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DB82C-8831-4BDD-8B35-2EEA07343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06962-E3FF-4B1B-8BE8-450181D92D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63FF-AF1E-4625-B9E2-88D818CC7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812D4-2550-4C10-B771-8B83ED8938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1F67-AD0A-4BA5-AFE0-B62673F17D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C73AC6-E42B-4C79-8EB5-2D97FF18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E6292-B2B6-4B44-8150-C34A3BCA4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5FD3E-DBDC-44C8-A51E-D319DE7E9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30316-EC25-4317-B9B8-BC9C9D7F3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9F5A1-E62F-4C69-9E75-F151AC396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46DC0-D9A0-4733-B99B-843E10BC8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89BD-A791-4760-9208-6945CEEEF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56D02-BF9F-4F7F-8AE6-4FE58B140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7F69E-9702-4A93-8405-EA0CC4949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80F5-530F-4A1E-93FD-7F0DF178C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05A-5363-474E-B1D7-A921CDA0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12AB-41A8-423F-A611-830F2EC3A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86C1C-7D38-4CF1-B402-82E6C0BD7568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61c1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2571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BF350-B5C2-405E-B3D5-7E1263F903F9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61c1d7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000000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cc"/>
                </a:solidFill>
                <a:latin typeface="Arial"/>
              </a:rPr>
              <a:t>Rijtechniek</a:t>
            </a:r>
            <a:endParaRPr b="0" lang="en-US" sz="8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442520" y="3427560"/>
            <a:ext cx="723924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ressuu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3708360" y="1844640"/>
            <a:ext cx="493704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3635280" y="1844640"/>
            <a:ext cx="501984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Hangen aan de teugels”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067280" y="1844640"/>
            <a:ext cx="4599000" cy="40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Correct stur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4788000" y="1989000"/>
            <a:ext cx="649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6012000" y="1773360"/>
            <a:ext cx="2687400" cy="416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turen als op de fie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6156360" y="1844640"/>
            <a:ext cx="2514600" cy="422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Buitenteugel losgooien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227640" y="1773360"/>
            <a:ext cx="2419560" cy="40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dus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476360" y="1844640"/>
            <a:ext cx="7176960" cy="413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ijgang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332000" y="1844640"/>
            <a:ext cx="7367400" cy="2871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gaat in voorwaarts-zijwaartse richt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Paard blijft recht in zijn lijf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900" spc="-1" strike="noStrike">
                <a:solidFill>
                  <a:srgbClr val="000000"/>
                </a:solidFill>
                <a:latin typeface="Verdana"/>
              </a:rPr>
              <a:t>De voorhand blijft voor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Wijken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6294600" y="1700280"/>
            <a:ext cx="2365200" cy="43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Zo moet het wel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276720" y="1844640"/>
            <a:ext cx="5400720" cy="41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drie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tegenovergestel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Schouderbinnenwaarts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6156360" y="1700280"/>
            <a:ext cx="263520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Achte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inn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Tra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659640" y="1700280"/>
            <a:ext cx="2030400" cy="43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Oefening op twee hoefslagen en op vier spor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Voorhand naar binnen geplaatst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gebogen om het buitenbeen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Verdana"/>
              </a:rPr>
              <a:t>Paard kijkt in de  richting van de beweging.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6000" spc="-1" strike="noStrike">
                <a:solidFill>
                  <a:srgbClr val="ffffcc"/>
                </a:solidFill>
                <a:latin typeface="Arial"/>
              </a:rPr>
              <a:t>Renvers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588000" y="1700280"/>
            <a:ext cx="2063880" cy="439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58920" y="1827000"/>
            <a:ext cx="7424640" cy="38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2916360" y="1844640"/>
            <a:ext cx="575784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Of zo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6480360" cy="432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Arial"/>
              </a:rPr>
              <a:t>Maar zo moet het niet: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3635280" y="1773360"/>
            <a:ext cx="5062680" cy="42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zo ook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356000" y="1773360"/>
            <a:ext cx="4348440" cy="41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En ook zo niet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4284720" y="1844640"/>
            <a:ext cx="4390920" cy="41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5003640" y="1844640"/>
            <a:ext cx="3689640" cy="414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4aa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“</a:t>
            </a:r>
            <a:r>
              <a:rPr b="0" lang="en-US" sz="6000" spc="-1" strike="noStrike">
                <a:solidFill>
                  <a:srgbClr val="ffffcc"/>
                </a:solidFill>
                <a:latin typeface="Arial"/>
              </a:rPr>
              <a:t>Achter de teugel”:</a:t>
            </a:r>
            <a:endParaRPr b="0" lang="en-US" sz="6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3132000" y="1773360"/>
            <a:ext cx="5577120" cy="418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7T14:40:58Z</dcterms:created>
  <dc:creator>den Ouden</dc:creator>
  <dc:description/>
  <dc:language>en-US</dc:language>
  <cp:lastModifiedBy>den Ouden</cp:lastModifiedBy>
  <dcterms:modified xsi:type="dcterms:W3CDTF">2010-03-02T07:57:12Z</dcterms:modified>
  <cp:revision>6</cp:revision>
  <dc:subject/>
  <dc:title>Rijtechniek</dc:title>
</cp:coreProperties>
</file>