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F34D-E7F3-4350-AF15-53999AA86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7B2A-C540-41B8-857A-9E3CC3E5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2EA4-198B-4743-9D7A-3E9AA3647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0E80-9FA4-49FB-BEAB-FF5D243E7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8916-2B12-4DDC-BCA9-155AD8271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483A-866F-4A15-BD4D-846F7EDB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900B-2317-450F-8296-2F4BC039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0C23-9DC3-48EB-A971-5A7B06BA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C025-F9A1-4BCB-9AAA-FA84A205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3E03-C485-413F-BC5D-530CD518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E7C8-161C-4FF6-9616-EF3B7EA0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6A59-7C94-4775-AE10-4282ACDD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576A-4C34-432F-80CB-3B8673A1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20CF-CADF-42DE-BFEC-53E9B0BC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EDB5-ECDB-45E4-B2DA-B612B709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39C5-B06B-4430-B335-3130C88B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FC8A-BCBC-40E2-9207-46C2ABE13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061F-59FA-4733-B5B7-1FD83771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A8A9-C731-41CC-B4CB-379B3C7C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3D52-58C9-4041-98A4-11CE4F84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FC5B-BA18-40E0-BDEE-E67FD5CA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CEE3-F8B7-4BC2-89B4-42B8B570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E97C-C897-4042-AE0C-D3A46E6A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1C16-C5DF-43D5-875A-C8472918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61c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257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FE0A-ED64-4AE0-9787-36E32619FCD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61c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257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6C09-6BE8-4C5C-B306-3D551B0AC0B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cc"/>
                </a:solidFill>
                <a:latin typeface="Arial"/>
              </a:rPr>
              <a:t>Rijtechniek</a:t>
            </a:r>
            <a:endParaRPr b="0" lang="en-US" sz="8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ressuu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Achter de teugel”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708360" y="1844640"/>
            <a:ext cx="49370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Achter de teugel”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635280" y="1844640"/>
            <a:ext cx="501984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Hangen aan de teugels”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067280" y="1844640"/>
            <a:ext cx="459900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Correct sture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4788000" y="1989000"/>
            <a:ext cx="64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012000" y="1773360"/>
            <a:ext cx="268740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Sturen als op de fiet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56360" y="1844640"/>
            <a:ext cx="251460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Buitenteugel losgooien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227640" y="1773360"/>
            <a:ext cx="241956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Zo moet het dus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717696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Zijgange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736740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Wijke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Paard gaat in voorwaarts-zijwaartse richt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Paard blijft recht in zijn lijf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De voorhand blijft voo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Wijke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294600" y="1700280"/>
            <a:ext cx="23652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Zo moet het wel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76720" y="1844640"/>
            <a:ext cx="540072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Schouderbinnenwaart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efening op twee hoefslagen en op drie spor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oorhand naar binnen geplaat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gebogen om het binnenbe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kijkt in tegenovergestelde richting van de beweg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Schouderbinnenwaart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156360" y="1700280"/>
            <a:ext cx="26352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Travers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efening op twee hoefslagen en op vier spor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hterhand naar binnen geplaat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gebogen om het binnenbe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kijkt in de richting van de beweg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Travers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659640" y="1700280"/>
            <a:ext cx="2030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cc"/>
                </a:solidFill>
                <a:latin typeface="Arial"/>
              </a:rPr>
              <a:t>Renvers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efening op twee hoefslagen en op vier spor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oorhand naar binnen geplaat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gebogen om het buitenbe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kijkt in de  richting van de beweg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cc"/>
                </a:solidFill>
                <a:latin typeface="Arial"/>
              </a:rPr>
              <a:t>Renvers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2063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Of zo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58920" y="1827000"/>
            <a:ext cx="742464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916360" y="1844640"/>
            <a:ext cx="575784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Of zo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648036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Maar zo moet het niet: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635280" y="1773360"/>
            <a:ext cx="506268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En zo ook niet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356000" y="1773360"/>
            <a:ext cx="434844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En ook zo niet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284720" y="1844640"/>
            <a:ext cx="439092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Achter de teugel”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68964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Achter de teugel”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132000" y="1773360"/>
            <a:ext cx="5577120" cy="41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4:40:58Z</dcterms:created>
  <dc:creator>den Ouden</dc:creator>
  <dc:description/>
  <dc:language>en-US</dc:language>
  <cp:lastModifiedBy>den Ouden</cp:lastModifiedBy>
  <dcterms:modified xsi:type="dcterms:W3CDTF">2010-03-02T07:57:12Z</dcterms:modified>
  <cp:revision>6</cp:revision>
  <dc:subject/>
  <dc:title>Rijtechniek</dc:title>
</cp:coreProperties>
</file>