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EF29-06ED-408E-AC12-804D82E2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5CE-0B3C-4C90-9A10-342AF6E8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4EE-ADA3-497B-8C18-04641EDA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65A-08EC-4D21-8588-65BF0838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BEA-2035-4EAA-B9E5-FF0C753D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F7B-F8C7-4458-96F6-953B861E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85B-0017-47A4-97BA-CED0860B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4D5-5CD4-4F09-9C66-39C073DB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B889-7578-451F-8CC2-6C89F986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8BA-018A-47D3-9F5D-176D1C9C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80B-A290-4E87-9A5F-B9A98175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6E5-31BB-4885-A594-FD8B92C4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6302-5712-4C40-8911-A726719A3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lassificatiesysteem Onkruid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eldscoretab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32922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74977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81320" y="1413000"/>
            <a:ext cx="31654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3290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98124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2546280"/>
            <a:ext cx="57294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132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1981080"/>
            <a:ext cx="51120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120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0360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01720"/>
                <a:gridCol w="1441440"/>
                <a:gridCol w="598644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schrij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wezige onkrui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er en daar enige begroeiing in de voegen, maximaal 5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 onkruid groeit niet of nauwelijks aaneengeslo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% en maximaal 25% begroeid; geen polvorming en weinig hoogopschietende begroei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25% en maxima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 50% begroeid, soms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0% begroeid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ak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harding is weinig of niet meer zichtbaar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s houtige gewas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gemiddelde voeglengte begroeiing 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1688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voeglengte begroeiing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6119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3760" y="2033640"/>
            <a:ext cx="3681360" cy="4491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2, zeer gering; begroeide oppervlak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211640" y="2254320"/>
            <a:ext cx="44751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3, gering; begroeide oppervlak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316400" cy="3668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32520" y="1916280"/>
            <a:ext cx="369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ktijkvoorbe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309680"/>
            <a:ext cx="8136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25960" cy="496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954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5616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0483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9770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7596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4:58:52Z</dcterms:created>
  <dc:creator>Johan</dc:creator>
  <dc:description/>
  <dc:language>en-US</dc:language>
  <cp:lastModifiedBy>Administrator</cp:lastModifiedBy>
  <dcterms:modified xsi:type="dcterms:W3CDTF">2011-03-10T21:36:22Z</dcterms:modified>
  <cp:revision>8</cp:revision>
  <dc:subject/>
  <dc:title>Classificatiesysteem Onkruidmonitoring</dc:title>
</cp:coreProperties>
</file>