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3AB-A0F2-46E1-BED1-54C164CF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222-D96C-4584-A992-E2340672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76D-2FAB-4C09-BB09-4EBECA25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B09-28D3-419F-A589-DDABCB3D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7ECB-CA36-4BD6-8914-DEF39C76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B312-04C0-4596-9CCD-2D78BB08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B65D-3E9E-4EBC-9628-A9F48C7D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6762-FB7E-4338-94BB-54C0C690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01D0-19C1-4060-8D00-91583DBB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AB1C-085D-46EF-BBCA-D8A23D0D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A4AF-6CCC-4A91-82CD-EC352DE1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020-FEEB-4187-A4EF-F4C7BF1C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8866-9D60-4BCB-8682-F36F932B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397B-3A63-4EC8-BA35-3341696C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9564-EC22-4D23-8B74-00D097C5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5603-35B2-4777-91D0-9E38FCA2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9CFB-FFF4-458C-976D-40BC9F91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B77-18B7-4BE6-9A51-EF81F42E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F426-161F-4940-9C7C-6FF3CFF8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9B5E-20A3-4C79-B3B9-243295FA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721-9630-448C-B3E8-1A165A7C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55D-D354-4088-B8AC-C75F5B3B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5B6-EF8B-4495-B238-355F71D6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16B-5921-49C8-8F09-5CDF1EE3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F817-63A9-414C-9322-5FCB1B3CC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9AED-9250-4FF5-B493-636559F49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he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r dan alleen spui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in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ff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dek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chtafslu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derdrukken met krui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itmaa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ffel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z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fdekken met boomschors of houtsnipper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5429160" cy="200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chtafsluitende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16000" y="1447920"/>
            <a:ext cx="70563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zaaien met krui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58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itmaaien van beplanting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5370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emis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leks-gewijs spuiten met kleine sp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handeling van stob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el meer is niet meer mogelij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p (half-)verhardinge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st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maaier met ko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uiten met een chemisch mid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et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ran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orst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03380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87684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427640" y="3314880"/>
            <a:ext cx="4716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osmaaier met koor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962440"/>
            <a:ext cx="5113440" cy="389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508720" y="1268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 spuiten na detect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449440"/>
            <a:ext cx="9144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92480" y="-3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nk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door sto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977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kruidbestrijding met heet wat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84036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0:45:13Z</dcterms:created>
  <dc:creator>Administrator</dc:creator>
  <dc:description/>
  <dc:language>en-US</dc:language>
  <cp:lastModifiedBy>laptop</cp:lastModifiedBy>
  <dcterms:modified xsi:type="dcterms:W3CDTF">2009-06-02T09:12:30Z</dcterms:modified>
  <cp:revision>6</cp:revision>
  <dc:subject/>
  <dc:title>Onkruidbeheer</dc:title>
</cp:coreProperties>
</file>