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C472-9269-4A7B-AE04-C3E135DD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325-E04E-4477-915D-C2019098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5C3-4838-4A84-90C9-3F7D4C38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1B5A-36C3-43B6-BA78-05DB13C5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633A-77AB-48D2-955B-7CAC0A38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A2E4-0A1F-47CE-8BE9-F9F50D78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266F-85AC-4BBE-9F1B-6FE45EDB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D187-0CC6-46F4-A0C4-71D1723D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2E7E-77EE-480A-A486-95A13680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F2DF-6C6F-46E7-9B56-D9A9845B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2399-A9EF-496A-B7E3-196E75F9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206-1EFA-4CEC-A882-493EA25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9701-D13D-4659-81A9-04E02528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C8BB-FCBE-47BB-A761-F400913B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8513-634E-40E6-B9D8-F3412F38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C71-7546-46C5-8169-F84E7425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A30A-2BEC-4D61-89AE-750DD243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28FF-9C73-4486-B347-9AE2AED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E42E-58BE-49BD-9BC2-267967E2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40DC-82BF-4C1D-87BB-74294CA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3B330-18F7-4455-AC32-D3FE7A7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07A7-7C91-49AF-AAC4-21AC2DA7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F28-8558-4060-A98B-2EEFEFC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EF38B-150A-43E6-862A-6077427A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1B6F-91D8-49CD-BFE1-3FE29356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D31CB-A509-4241-A1C7-643D3217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1337F-CFEB-4F3A-BBE3-62EEA8C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1648-0FC4-42D5-A0D8-386872A7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D7F4A-9298-4A43-9A8B-72C84080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2E66-FE77-41A1-A8CA-DEF1B118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3878-643D-4ADD-BF2E-CC593CD2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FD3-25C8-4404-AD6F-2BD17888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CB09-4D53-447A-BAEF-0C6AA44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DF7-5B3D-4D25-B106-A326C87D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60D-F03C-4898-852D-B95F1F1D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50E-B13B-479D-8048-3AA1EE4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2E97-EB99-466D-AB00-18A85F36089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A7D-0579-41A8-B0D6-1ECCCC3AEAE4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9A6D-3D26-44DF-89A4-93D8BE5AA9CA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natuurkalender.nl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18920" y="907920"/>
            <a:ext cx="6838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Waar zit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mengd loofbos met onderbegroeiing van varens en blauwe bos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nnenbossen met dichte opgaande grassenbegroei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s- en duingebieden en stadspar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rplaatsing door kleine knaagdi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32000" y="836280"/>
            <a:ext cx="75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Gedrag van de schapenteek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ngerige teken klimmen langs stengels van grassen, planten en stui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verstap na huidcont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52472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Seizoenrisico op besmetting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infecteerde teken blijven hele leven besmettelij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ek actief van mei-s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iek: mei-ju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Hoe kan ik me beschermen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eken lopen over door huidcontact met de veget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okken en broekspijpen insmeren met DEET (min. 30%)= antimuggenmid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t pyrethrine geimpregneerde kle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Verwijderen van de 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760840" cy="47530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558040" y="6093000"/>
            <a:ext cx="3080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Het juiste gebruik van de tekenpen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om een teek te verwijde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557360"/>
            <a:ext cx="5973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specteer het lich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ek binnen 24 uur verwijde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bruik teken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ntsmet het wond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ou de plek in de gaten op rode vle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Toch geinfecteerd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aadpleeg huisarts, liefst als rode plek nog zichtbaa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ij elke beet -&gt; huisa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792520"/>
            <a:ext cx="8007480" cy="33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Einde presentat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dankt voor uw aand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e ook </a:t>
            </a:r>
            <a:r>
              <a:rPr b="0" lang="nl-NL" sz="3200" spc="-1" strike="noStrike" u="sng">
                <a:solidFill>
                  <a:srgbClr val="99ff66"/>
                </a:solidFill>
                <a:uFillTx/>
                <a:latin typeface="Tahoma"/>
                <a:hlinkClick r:id="rId2"/>
              </a:rPr>
              <a:t>www.natuurkalender.n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4360" y="2133720"/>
            <a:ext cx="7958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Tek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De Ziekte van Ly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b7"/>
                </a:solidFill>
                <a:latin typeface="Tahoma"/>
              </a:rPr>
              <a:t>Welk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85327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b7"/>
                </a:solidFill>
                <a:latin typeface="Tahoma"/>
              </a:rPr>
              <a:t>Larve-nimf-mannetje-vrouwtj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763640" y="1857240"/>
            <a:ext cx="5832720" cy="4689720"/>
            <a:chOff x="1763640" y="1857240"/>
            <a:chExt cx="5832720" cy="4689720"/>
          </a:xfrm>
        </p:grpSpPr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1763640" y="1857240"/>
              <a:ext cx="5832720" cy="46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 txBox="1"/>
            <p:nvPr/>
          </p:nvSpPr>
          <p:spPr>
            <a:xfrm>
              <a:off x="1763640" y="1857240"/>
              <a:ext cx="5832720" cy="468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8160" y="765000"/>
            <a:ext cx="784548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Wat is de ziekte van Lyme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532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rrelia bacter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eeft in bloed van kleine zoogdieren en vog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0% teken geinfectee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metting na ca 24 u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 2 weken -&gt; rode vl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wijnt na een paar we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arna -&gt; ziekteverschijnse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307656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verschijnsele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pijn, gewrichtspijn, hoofd/nekpijn, rugpijnen, vermoeidheid, nachtelijk zweten, evenwichtsproblemen, verhoogde pols, hartruizen, tachycardie, evenwichtsproblemen, gehoorproblemen enz. Bij enkele patiënten treedt infectie van het centrale zenuwstelsel op. Men spreekt dan van neuroborrelio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Genezing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2500200"/>
            <a:ext cx="8007480" cy="35956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 vroeg stadium goed te genezen met antibiotic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agnose is een probl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aardoor vak lang onbehand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19280" y="692280"/>
            <a:ext cx="722304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De Schapentee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4535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belangrijkste overbren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lgemeen in bossen en struikge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iet in open terr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verleven op grote gra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334120" y="1557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401080" y="5411880"/>
            <a:ext cx="3245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Teek die op een plant omhoog kruipt</a:t>
            </a:r>
            <a:br>
              <a:rPr sz="2400"/>
            </a:b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Foto: Fedor Gass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316720" cy="4386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1480" y="857160"/>
            <a:ext cx="5708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baseline="-25000">
                <a:solidFill>
                  <a:srgbClr val="ffffff"/>
                </a:solidFill>
                <a:latin typeface="Tahoma"/>
              </a:rPr>
              <a:t>Ontwikkeling van de ziekte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1680" y="5950080"/>
            <a:ext cx="7947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Erythema migrans (ontstaan van een rode vlek), veroorzaakt door besmetting met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baseline="-25000">
                <a:solidFill>
                  <a:srgbClr val="ffffff"/>
                </a:solidFill>
                <a:latin typeface="Tahoma"/>
              </a:rPr>
              <a:t>Borrelia</a:t>
            </a:r>
            <a:r>
              <a:rPr b="0" lang="nl-NL" sz="2400" spc="-1" strike="noStrike" baseline="-25000">
                <a:solidFill>
                  <a:srgbClr val="ffffff"/>
                </a:solidFill>
                <a:latin typeface="Tahoma"/>
              </a:rPr>
              <a:t> parasiet, per 100.000 mensen, in Nederland in 1994, 2001 en 2005 (bron: RIVM 200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508720" y="1484280"/>
            <a:ext cx="712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765000"/>
            <a:ext cx="6839280" cy="9874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Tahoma"/>
              </a:rPr>
              <a:t>Ziektegevallen in N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565360"/>
            <a:ext cx="7772400" cy="35305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1994 23.000 artsbezoeken en 6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1 60.000 artsbezoeken en 13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 2005 73.000 artsbezoeken en 17.000 mensen zi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57:14Z</dcterms:created>
  <dc:creator>fikse</dc:creator>
  <dc:description/>
  <dc:language>en-US</dc:language>
  <cp:lastModifiedBy>Peter</cp:lastModifiedBy>
  <cp:lastPrinted>2005-05-24T09:08:19Z</cp:lastPrinted>
  <dcterms:modified xsi:type="dcterms:W3CDTF">2007-06-25T15:25:58Z</dcterms:modified>
  <cp:revision>6</cp:revision>
  <dc:subject/>
  <dc:title>Dia 1</dc:title>
</cp:coreProperties>
</file>