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A8A-2222-4E14-8669-B1F4D353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4055-9B45-4515-B868-4C051439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549-EE86-4324-99B2-AE39EFAC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43A-41C8-4085-A23B-2EC2D2953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251-E122-4624-9ECA-E1C046E7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73C-6103-454D-A885-B23CB5AD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D0C-15AA-4DB7-B723-226B09AA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EFDE-C6F3-4127-8499-2A2EE5A3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0B2F-4272-41E4-A9B1-42C548F5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F70F-4675-4326-A609-95C2B43A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FFA-CBDD-4586-B3D8-2D721D9A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720-100A-49BD-BA1A-BF674E4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0545-713C-4CC3-BE58-6C3569588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lassificatiesysteem Onkruid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eldscoretab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329220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74977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81320" y="1413000"/>
            <a:ext cx="31654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532908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39812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3280" y="2546280"/>
            <a:ext cx="57294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1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4132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gemiddeld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24000" y="1981080"/>
            <a:ext cx="5112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ing, begroeiing voegleng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61200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ige begroeiing, begroeiing voeglengte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0360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801720"/>
                <a:gridCol w="1441440"/>
                <a:gridCol w="598644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as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schrijv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nwezige onkruid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 en daar enige begroeiing in de voegen, maximaal 5%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t onkruid groeit niet of nauwelijks aaneengeslo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% en maximaal 25% begroeid; geen polvorming en weinig hoogopschietende begroei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25% en maxima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or 50% begroeid, soms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voegen zijn voor meer dan 50% begroeid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ak polvor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er zwa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harding is weinig of niet meer zichtbaar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s houtige gewass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gemiddelde voeglengte begroeiing 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416880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aar, voeglengte begroeiing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6119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3760" y="2033640"/>
            <a:ext cx="3681360" cy="4491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2, zeer gering; begroeide oppervlakte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211640" y="2254320"/>
            <a:ext cx="447516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lfver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lasse 3, gering; begroeide oppervlakte 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4316400" cy="3668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32520" y="1916280"/>
            <a:ext cx="3690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ktijkvoorbeel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309680"/>
            <a:ext cx="8136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4125960" cy="496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9546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en begroeiing, begroeiing voeglengte 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561672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475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0483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2276640"/>
            <a:ext cx="5977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s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er gering, begroeiing voeglengte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575964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4T14:58:52Z</dcterms:created>
  <dc:creator>Johan</dc:creator>
  <dc:description/>
  <dc:language>en-US</dc:language>
  <cp:lastModifiedBy>Administrator</cp:lastModifiedBy>
  <dcterms:modified xsi:type="dcterms:W3CDTF">2011-03-10T21:36:22Z</dcterms:modified>
  <cp:revision>8</cp:revision>
  <dc:subject/>
  <dc:title>Classificatiesysteem Onkruidmonitoring</dc:title>
</cp:coreProperties>
</file>