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794-45BF-4B2A-9510-27CF2DD9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88C-C5DF-4926-A69E-E3C5EDA1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9CA-1E2D-4810-A867-68EE1B7F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6BF-4A20-4869-9334-368DB0CA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86B8-37EB-44CE-B83C-BAB280FA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C54B-D399-4B36-B65B-271AA007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B1DC-082E-417A-B2AC-C7D45372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0AF3-5B5D-4DBF-AD17-9A5A1727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082B-D5AE-46BB-B44E-021C879F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182D-1F3D-4DE3-8CDC-D95DBC26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E4EF-26F8-4CF2-9367-086F16CD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0253-6B5C-4F9A-9B93-3FEAD0C5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6FC8-55C7-4B97-B8F3-0D1AD9E2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81DF-B3B8-4B88-B1D5-C3F8768B7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89FB-8DDC-494E-AE82-A8B0D03F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60C7-446B-4519-A315-82D4CA67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31DE-A154-4419-BA45-1818D035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AFA-8708-4913-91DD-1EF5586F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35E-5DFF-49F6-8935-EA096ECB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0B6-D6A4-4AE4-885E-73E57EEF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2BD-8FBC-470C-AFC2-1D7983A7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C9F3-1697-498C-9BE3-B6D37B73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DBC2-8830-40F4-B424-2A80051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C69-1A73-44CB-B20B-1B29F457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5755-5483-4A66-8BF2-568BA420E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9AEA-94E1-4578-B550-5A5D3FD62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he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r dan alleen spui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in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ff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z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dek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chtafslui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derdrukken met krui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itmaai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s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choffel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971640" y="1349280"/>
            <a:ext cx="734364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rez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fdekken met boomschors of houtsnipper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5429160" cy="200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859280" y="3645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Lichtafsluitende beplan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16000" y="1447920"/>
            <a:ext cx="705636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zaaien met krui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85800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Uitmaaien van beplanting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195640" y="1773360"/>
            <a:ext cx="453708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emis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leks-gewijs spuiten met kleine spu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handeling van stob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eel meer is niet meer moge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p (half-)verhardinge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an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st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smaaier met ko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uiten met een chemisch mid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et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ran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376280"/>
            <a:ext cx="91440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orste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1413000"/>
            <a:ext cx="4033800" cy="5445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33360"/>
            <a:ext cx="3876840" cy="2895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427640" y="3314880"/>
            <a:ext cx="4716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osmaaier met koor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962440"/>
            <a:ext cx="5113440" cy="389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508720" y="1268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 spuiten na detect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2449440"/>
            <a:ext cx="9144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9248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nka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2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nkruidbestrijding door stom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5977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kruidbestrijding met heet water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71640" y="1268280"/>
            <a:ext cx="6840360" cy="51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20:45:13Z</dcterms:created>
  <dc:creator>Administrator</dc:creator>
  <dc:description/>
  <dc:language>en-US</dc:language>
  <cp:lastModifiedBy>laptop</cp:lastModifiedBy>
  <dcterms:modified xsi:type="dcterms:W3CDTF">2009-06-02T09:12:30Z</dcterms:modified>
  <cp:revision>6</cp:revision>
  <dc:subject/>
  <dc:title>Onkruidbeheer</dc:title>
</cp:coreProperties>
</file>