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1733-E8CE-45ED-B129-D5101E0D7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E5F1-B235-4123-816D-F0791025D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BE48-48EE-4162-91CA-5EC859356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4AFD-A48F-4911-94C9-D7D1595A4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E08DB-365B-47DF-83CE-E3D07F6AA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CEA9C-0703-4153-B458-5150EE775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2B72A-9810-4E02-B223-D9F1E826B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E8483-F8E8-48EC-ADB9-E6CD92735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D2271-6B08-4B45-9447-D2C63F7ED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34BA5-D0BF-42B2-A9B3-A944A6A73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89CAE-81BB-4F83-A3F1-390086E6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27D5-934A-4074-84B6-9A9E3C75B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FEAC1-88E7-40A3-B921-30FE69479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5B839-7B3A-42BF-A67A-5949D9087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E6CCC-607A-4763-ABF0-DF8D32761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90DC4-F872-4D55-BCD5-D1B2E1D19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A34C2-E159-4373-AA4E-AD35D5C58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64895-8184-40C2-A923-C7109519D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BD73C-591F-49CD-A7E5-74AEC81DD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A0358-E847-4608-81A5-749D354E1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AF829-F078-497E-8ED7-3D9753EF4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8C633-5A8E-4439-A88D-F0E9CAE4C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0C19-D177-491A-BA0D-FF791A9DF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914A7-0AD4-4DFC-ABCE-59A2E2BBC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E0441-15EF-48BF-9D0B-FF9FB3DD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3B557-66D8-4F4D-917D-E93386A6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15BF5-78DA-4DC3-9B08-E302C140C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F7297-68A5-4008-B89E-1880DD6E4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1FD84-472F-40C0-8BEB-FAB8308F9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862A7-19F1-49C7-819C-50DBE72DF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89DF-F0D3-4669-8981-DB3BC30EF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C6A0-AC63-4E6A-946B-8373B3615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16DC-E687-43CD-8710-43B48A1E4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9F6A-7674-498A-834B-61C66892D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BC79-C005-4296-85DD-178AC9EE7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726A-D59C-4731-A359-24D664CC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40861-4F33-41BF-B70F-FB2E8C91D82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2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8DE08-DCA2-4F4C-A8FB-361D8CE0EF73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92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A41D7-1E0F-4626-99DB-FEB5D9584CF0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natuurkalender.nl/" TargetMode="External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618920" y="907920"/>
            <a:ext cx="68389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b7"/>
                </a:solidFill>
                <a:latin typeface="Tahoma"/>
              </a:rPr>
              <a:t>Waar zit de schapenteek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2500200"/>
            <a:ext cx="8007480" cy="35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emengd loofbos met onderbegroeiing van varens en blauwe bosb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ennenbossen met dichte opgaande grassenbegroei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os- en duingebieden en stadspar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Verplaatsing door kleine knaagdi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32000" y="836280"/>
            <a:ext cx="7524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b7"/>
                </a:solidFill>
                <a:latin typeface="Tahoma"/>
              </a:rPr>
              <a:t>Gedrag van de schapenteek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7720" y="2500200"/>
            <a:ext cx="8007480" cy="35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ongerige teken klimmen langs stengels van grassen, planten en stui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Overstap na huidcont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619280" y="692280"/>
            <a:ext cx="7524720" cy="12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b7"/>
                </a:solidFill>
                <a:latin typeface="Tahoma"/>
              </a:rPr>
              <a:t>Seizoenrisico op besmetting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2565360"/>
            <a:ext cx="77724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einfecteerde teken blijven hele leven besmettelij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Teek actief van mei-se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Piek: mei-ju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618920" y="1052640"/>
            <a:ext cx="6838920" cy="98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b7"/>
                </a:solidFill>
                <a:latin typeface="Tahoma"/>
              </a:rPr>
              <a:t>Hoe kan ik me beschermen?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565360"/>
            <a:ext cx="77724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Teken lopen over door huidcontact met de vegeta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Sokken en broekspijpen insmeren met DEET (min. 30%)= antimuggenmid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Met pyrethrine geimpregneerde kle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Tahoma"/>
              </a:rPr>
              <a:t>Verwijderen van de teek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084720" y="1484280"/>
            <a:ext cx="2760840" cy="47530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5558040" y="6093000"/>
            <a:ext cx="30808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baseline="-25000">
                <a:solidFill>
                  <a:srgbClr val="ffffff"/>
                </a:solidFill>
                <a:latin typeface="Tahoma"/>
              </a:rPr>
              <a:t>Het juiste gebruik van de tekenpen</a:t>
            </a:r>
            <a:br>
              <a:rPr sz="2400"/>
            </a:br>
            <a:r>
              <a:rPr b="0" lang="nl-NL" sz="2400" spc="-1" strike="noStrike" baseline="-25000">
                <a:solidFill>
                  <a:srgbClr val="ffffff"/>
                </a:solidFill>
                <a:latin typeface="Tahoma"/>
              </a:rPr>
              <a:t>om een teek te verwijder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557360"/>
            <a:ext cx="59734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Inspecteer het lich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Teek binnen 24 uur verwijd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Gebruik tekenp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Ontsmet het wond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Hou de plek in de gaten op rode vle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18920" y="1052640"/>
            <a:ext cx="6838920" cy="98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Tahoma"/>
              </a:rPr>
              <a:t>Toch geinfecteerd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2565360"/>
            <a:ext cx="77724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Raadpleeg huisarts, liefst als rode plek nog zichtbaar 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ij elke beet -&gt; huisar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837720" y="2792520"/>
            <a:ext cx="8007480" cy="33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Tahoma"/>
              </a:rPr>
              <a:t>Einde presentati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edankt voor uw aandac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Zie ook </a:t>
            </a:r>
            <a:r>
              <a:rPr b="0" lang="nl-NL" sz="3200" spc="-1" strike="noStrike" u="sng">
                <a:solidFill>
                  <a:srgbClr val="99ff66"/>
                </a:solidFill>
                <a:uFillTx/>
                <a:latin typeface="Tahoma"/>
                <a:hlinkClick r:id="rId2"/>
              </a:rPr>
              <a:t>www.natuurkalender.n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84360" y="2133720"/>
            <a:ext cx="795816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278f01"/>
                </a:solidFill>
                <a:latin typeface="Tahoma"/>
              </a:rPr>
              <a:t>Tek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b7"/>
                </a:solidFill>
                <a:latin typeface="Tahoma"/>
              </a:rPr>
              <a:t>De Ziekte van Ly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b7"/>
                </a:solidFill>
                <a:latin typeface="Tahoma"/>
              </a:rPr>
              <a:t>Welk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11280" y="1052640"/>
            <a:ext cx="8532720" cy="98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b7"/>
                </a:solidFill>
                <a:latin typeface="Tahoma"/>
              </a:rPr>
              <a:t>Larve-nimf-mannetje-vrouwtje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763640" y="1857240"/>
            <a:ext cx="5832720" cy="4689720"/>
            <a:chOff x="1763640" y="1857240"/>
            <a:chExt cx="5832720" cy="4689720"/>
          </a:xfrm>
        </p:grpSpPr>
        <p:pic>
          <p:nvPicPr>
            <p:cNvPr id="141" name="" descr=""/>
            <p:cNvPicPr/>
            <p:nvPr/>
          </p:nvPicPr>
          <p:blipFill>
            <a:blip r:embed="rId2"/>
            <a:stretch/>
          </p:blipFill>
          <p:spPr>
            <a:xfrm>
              <a:off x="1763640" y="1857240"/>
              <a:ext cx="5832720" cy="468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 txBox="1"/>
            <p:nvPr/>
          </p:nvSpPr>
          <p:spPr>
            <a:xfrm>
              <a:off x="1763640" y="1857240"/>
              <a:ext cx="5832720" cy="4689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98160" y="765000"/>
            <a:ext cx="7845480" cy="9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Tahoma"/>
              </a:rPr>
              <a:t>Wat is de ziekte van Lyme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532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orrelia bacter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Leeft in bloed van kleine zoogdieren en vog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10% teken geinfectee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esmetting na ca 24 u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Na 2 weken -&gt; rode vl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rdwijnt na een paar wek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aarna -&gt; ziekteverschijnsel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5940360" y="2349360"/>
            <a:ext cx="3076560" cy="28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18920" y="1052640"/>
            <a:ext cx="6838920" cy="98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Tahoma"/>
              </a:rPr>
              <a:t>Ziekteverschijnsele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2500200"/>
            <a:ext cx="8007480" cy="35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spierpijn, gewrichtspijn, hoofd/nekpijn, rugpijnen, vermoeidheid, nachtelijk zweten, evenwichtsproblemen, verhoogde pols, hartruizen, tachycardie, evenwichtsproblemen, gehoorproblemen enz. Bij enkele patiënten treedt infectie van het centrale zenuwstelsel op. Men spreekt dan van neuroborrelios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18920" y="1052640"/>
            <a:ext cx="6838920" cy="98712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Tahoma"/>
              </a:rPr>
              <a:t>Genezi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2500200"/>
            <a:ext cx="8007480" cy="35956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n vroeg stadium goed te genezen met antibiotic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iagnose is een proble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aardoor vak lang onbehande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19280" y="692280"/>
            <a:ext cx="722304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Tahoma"/>
              </a:rPr>
              <a:t>De Schapenteek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45352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e belangrijkste overbren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Algemeen in bossen en struikgew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Niet in open terre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Overleven op grote graz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5334120" y="155736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5401080" y="5411880"/>
            <a:ext cx="32454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baseline="-25000">
                <a:solidFill>
                  <a:srgbClr val="ffffff"/>
                </a:solidFill>
                <a:latin typeface="Tahoma"/>
              </a:rPr>
              <a:t>Teek die op een plant omhoog kruipt</a:t>
            </a:r>
            <a:br>
              <a:rPr sz="2400"/>
            </a:br>
            <a:r>
              <a:rPr b="0" lang="nl-NL" sz="2400" spc="-1" strike="noStrike" baseline="-25000">
                <a:solidFill>
                  <a:srgbClr val="ffffff"/>
                </a:solidFill>
                <a:latin typeface="Tahoma"/>
              </a:rPr>
              <a:t>Foto: Fedor Gassn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5508720" y="1484280"/>
            <a:ext cx="7128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8316720" cy="43862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671480" y="857160"/>
            <a:ext cx="57088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 baseline="-25000">
                <a:solidFill>
                  <a:srgbClr val="ffffff"/>
                </a:solidFill>
                <a:latin typeface="Tahoma"/>
              </a:rPr>
              <a:t>Ontwikkeling van de ziekte in N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51680" y="5950080"/>
            <a:ext cx="79470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baseline="-25000">
                <a:solidFill>
                  <a:srgbClr val="ffffff"/>
                </a:solidFill>
                <a:latin typeface="Tahoma"/>
              </a:rPr>
              <a:t>Erythema migrans (ontstaan van een rode vlek), veroorzaakt door besmetting met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 baseline="-25000">
                <a:solidFill>
                  <a:srgbClr val="ffffff"/>
                </a:solidFill>
                <a:latin typeface="Tahoma"/>
              </a:rPr>
              <a:t>Borrelia</a:t>
            </a:r>
            <a:r>
              <a:rPr b="0" lang="nl-NL" sz="2400" spc="-1" strike="noStrike" baseline="-25000">
                <a:solidFill>
                  <a:srgbClr val="ffffff"/>
                </a:solidFill>
                <a:latin typeface="Tahoma"/>
              </a:rPr>
              <a:t> parasiet, per 100.000 mensen, in Nederland in 1994, 2001 en 2005 (bron: RIVM 2006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5508720" y="1484280"/>
            <a:ext cx="7128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47640" y="765000"/>
            <a:ext cx="6839280" cy="9874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Tahoma"/>
              </a:rPr>
              <a:t>Ziektegevallen in N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2565360"/>
            <a:ext cx="7772400" cy="353052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In 1994 23.000 artsbezoeken en 6.000 mensen zi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In 2001 60.000 artsbezoeken en 13.000 mensen zi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In 2005 73.000 artsbezoeken en 17.000 mensen zi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12:57:14Z</dcterms:created>
  <dc:creator>fikse</dc:creator>
  <dc:description/>
  <dc:language>en-US</dc:language>
  <cp:lastModifiedBy>Peter</cp:lastModifiedBy>
  <cp:lastPrinted>2005-05-24T09:08:19Z</cp:lastPrinted>
  <dcterms:modified xsi:type="dcterms:W3CDTF">2007-06-25T15:25:58Z</dcterms:modified>
  <cp:revision>6</cp:revision>
  <dc:subject/>
  <dc:title>Dia 1</dc:title>
</cp:coreProperties>
</file>