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034-2EFF-4EBE-BFD1-644E3BEF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CB6-AE3F-4506-8F8A-725B7DE4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2F9-D6DE-40EB-AF8A-8D8DD424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14DB-6858-4C88-B28A-47A0CC1D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5071-10C0-4133-81D8-FCAF32DD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5D97-A5E1-4E97-8813-BC73FA30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684B-D5B9-4DF4-85C8-193A3792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6E3E-056D-4911-B078-9567350A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095A-1765-484F-B66E-50F3AB44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F95A-0019-4CE9-A329-0A4FF257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004E-542C-4EDD-9BB3-8883E917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ECB1-8ABF-4698-83BD-87FDDA3B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7B34-FE4C-4275-90EC-F3FFF2A4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10FF-12B2-4FE2-A1CB-FD8BE744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7F47-BD2E-49BE-94D9-F7CF84E4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3F2F-AB9C-417C-9E07-973E4996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0F81-41D3-4288-8614-63598C4D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E56-EC1F-4C25-82A5-76E8F658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3B11-BF5D-484D-B291-4F3DC03B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BB7-AE27-40AE-965C-2870B5E5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C55-21EA-4F55-9693-B49500A3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F5FB-46D7-4CD7-A707-A1DCAE0C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1EC-90D6-4223-89C1-51A6B6A7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58D-B2AD-4015-8A0F-BD02C09E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DB1F-5540-4A77-899F-C90F1762FE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4E00-7D90-4449-8EA1-77DA58FCC2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he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er dan alleen spui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in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ff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dek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chtafslu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derdrukken met krui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itmaai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ffel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71640" y="134928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z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fdekken met boomschors of houtsnipper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5429160" cy="200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59280" y="3645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chtafsluitende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16000" y="1447920"/>
            <a:ext cx="705636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zaaien met krui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8580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itmaaien van beplanting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45370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emis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leks-gewijs spuiten met kleine sp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handeling van stobb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el meer is niet meer mogelij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p (half-)verhardingen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n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st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smaaier met ko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uiten met een chemisch mid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et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ran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376280"/>
            <a:ext cx="91440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orst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033800" cy="5445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87684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427640" y="3314880"/>
            <a:ext cx="4716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osmaaier met koor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962440"/>
            <a:ext cx="5113440" cy="389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508720" y="1268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 spuiten na detect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449440"/>
            <a:ext cx="9144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92480" y="-3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nk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door sto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59770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nkruidbestrijding met heet wat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84036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0:45:13Z</dcterms:created>
  <dc:creator>Administrator</dc:creator>
  <dc:description/>
  <dc:language>en-US</dc:language>
  <cp:lastModifiedBy>laptop</cp:lastModifiedBy>
  <dcterms:modified xsi:type="dcterms:W3CDTF">2009-06-02T09:12:30Z</dcterms:modified>
  <cp:revision>6</cp:revision>
  <dc:subject/>
  <dc:title>Onkruidbeheer</dc:title>
</cp:coreProperties>
</file>