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F942-ED26-49AF-A4E6-40860BE95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B9D2-24CF-4E84-B673-DED9A8C21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D191-3AAA-4442-B40C-917CC17CB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FCD9-4440-4E50-8B3D-FFDB7DF84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D81B7-7E81-4DEC-A012-C79051387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1E1BD-AA28-4FD3-82A1-C082DE212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9B4D7-2079-4414-AAE3-57C54C382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7A010-A368-42DC-855F-68C79A119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5BA04-245F-489F-8850-83FA524D8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E50D4-3F4C-4A99-8AC7-8AB13CBD9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AD1F2-D7DC-400F-AFF8-C8162BDE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4174-5410-4CA1-BB93-73A752B8B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F02BB-28B3-4505-BB44-709ED2ED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E6352-0C09-49B7-972F-7B3B0558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D503B-F037-4160-8AAA-6C157DF77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8C4DB-5C42-45EC-8CF6-1468602C0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E24E0-C46A-4145-A38F-3D8BECB80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F9C2A-2784-47A5-8183-A5080C410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21221-48F2-42CA-B0C2-813720390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B9443-7539-45B4-8214-9D418072F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BEF91-5B20-4499-8F55-937042E7A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BB3A9-2706-471B-8F2F-55FC36DF3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56A1-70ED-42A9-9C94-B7225408A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5711F-0475-4658-A84A-D7082DDDC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03D3D-76A3-45D2-8922-26FC42E67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8DA4F-FC80-422A-A38E-95752C653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5905C-EE14-4158-8342-34DA43354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CD6EA-8D2D-48F5-8FB0-DE942A313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20BE0-BE89-426C-990F-D167FBE62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7051A-2706-4482-96F0-4AD4ED9C3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3CBE-9F9B-4850-A039-F895C8E9C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77FE-3FB9-4A92-AAC4-D335CF158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BABF-7231-4F7A-B3F1-2E4F162C7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B1CC-3E94-464A-87AC-A6931B1F8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366E-7D47-4CD1-B2C8-876DE2A7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9B7F-DF7A-47F1-A9CE-ECA15935E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CE7B3-D144-4135-8A92-BF4BEBBBC9D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2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37CC7-36B4-449A-ACED-734E60A917C6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92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0BFF0-E741-46D4-BC3D-0508BF9C581B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natuurkalender.nl/" TargetMode="External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618920" y="907920"/>
            <a:ext cx="68389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b7"/>
                </a:solidFill>
                <a:latin typeface="Tahoma"/>
              </a:rPr>
              <a:t>Waar zit de schapenteek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2500200"/>
            <a:ext cx="8007480" cy="35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emengd loofbos met onderbegroeiing van varens en blauwe bosb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ennenbossen met dichte opgaande grassenbegroei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os- en duingebieden en stadspar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Verplaatsing door kleine knaagdi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32000" y="836280"/>
            <a:ext cx="7524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b7"/>
                </a:solidFill>
                <a:latin typeface="Tahoma"/>
              </a:rPr>
              <a:t>Gedrag van de schapenteek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7720" y="2500200"/>
            <a:ext cx="8007480" cy="35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ongerige teken klimmen langs stengels van grassen, planten en stui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Overstap na huidcont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619280" y="692280"/>
            <a:ext cx="7524720" cy="12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b7"/>
                </a:solidFill>
                <a:latin typeface="Tahoma"/>
              </a:rPr>
              <a:t>Seizoenrisico op besmetting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2565360"/>
            <a:ext cx="77724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einfecteerde teken blijven hele leven besmettelij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Teek actief van mei-se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Piek: mei-ju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618920" y="1052640"/>
            <a:ext cx="6838920" cy="98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b7"/>
                </a:solidFill>
                <a:latin typeface="Tahoma"/>
              </a:rPr>
              <a:t>Hoe kan ik me beschermen?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565360"/>
            <a:ext cx="77724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Teken lopen over door huidcontact met de vegeta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Sokken en broekspijpen insmeren met DEET (min. 30%)= antimuggenmid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Met pyrethrine geimpregneerde kle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Tahoma"/>
              </a:rPr>
              <a:t>Verwijderen van de teek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084720" y="1484280"/>
            <a:ext cx="2760840" cy="47530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5558040" y="6093000"/>
            <a:ext cx="30808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baseline="-25000">
                <a:solidFill>
                  <a:srgbClr val="ffffff"/>
                </a:solidFill>
                <a:latin typeface="Tahoma"/>
              </a:rPr>
              <a:t>Het juiste gebruik van de tekenpen</a:t>
            </a:r>
            <a:br>
              <a:rPr sz="2400"/>
            </a:br>
            <a:r>
              <a:rPr b="0" lang="nl-NL" sz="2400" spc="-1" strike="noStrike" baseline="-25000">
                <a:solidFill>
                  <a:srgbClr val="ffffff"/>
                </a:solidFill>
                <a:latin typeface="Tahoma"/>
              </a:rPr>
              <a:t>om een teek te verwijder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557360"/>
            <a:ext cx="59734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Inspecteer het lich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Teek binnen 24 uur verwijd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Gebruik tekenp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Ontsmet het wond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Hou de plek in de gaten op rode vle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18920" y="1052640"/>
            <a:ext cx="6838920" cy="98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Tahoma"/>
              </a:rPr>
              <a:t>Toch geinfecteerd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2565360"/>
            <a:ext cx="77724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Raadpleeg huisarts, liefst als rode plek nog zichtbaar 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ij elke beet -&gt; huisar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837720" y="2792520"/>
            <a:ext cx="8007480" cy="33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Tahoma"/>
              </a:rPr>
              <a:t>Einde presentati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edankt voor uw aandac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Zie ook </a:t>
            </a:r>
            <a:r>
              <a:rPr b="0" lang="nl-NL" sz="3200" spc="-1" strike="noStrike" u="sng">
                <a:solidFill>
                  <a:srgbClr val="99ff66"/>
                </a:solidFill>
                <a:uFillTx/>
                <a:latin typeface="Tahoma"/>
                <a:hlinkClick r:id="rId2"/>
              </a:rPr>
              <a:t>www.natuurkalender.n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84360" y="2133720"/>
            <a:ext cx="795816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278f01"/>
                </a:solidFill>
                <a:latin typeface="Tahoma"/>
              </a:rPr>
              <a:t>Tek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b7"/>
                </a:solidFill>
                <a:latin typeface="Tahoma"/>
              </a:rPr>
              <a:t>De Ziekte van Ly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b7"/>
                </a:solidFill>
                <a:latin typeface="Tahoma"/>
              </a:rPr>
              <a:t>Welk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11280" y="1052640"/>
            <a:ext cx="8532720" cy="98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b7"/>
                </a:solidFill>
                <a:latin typeface="Tahoma"/>
              </a:rPr>
              <a:t>Larve-nimf-mannetje-vrouwtje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763640" y="1857240"/>
            <a:ext cx="5832720" cy="4689720"/>
            <a:chOff x="1763640" y="1857240"/>
            <a:chExt cx="5832720" cy="4689720"/>
          </a:xfrm>
        </p:grpSpPr>
        <p:pic>
          <p:nvPicPr>
            <p:cNvPr id="141" name="" descr=""/>
            <p:cNvPicPr/>
            <p:nvPr/>
          </p:nvPicPr>
          <p:blipFill>
            <a:blip r:embed="rId2"/>
            <a:stretch/>
          </p:blipFill>
          <p:spPr>
            <a:xfrm>
              <a:off x="1763640" y="1857240"/>
              <a:ext cx="5832720" cy="468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 txBox="1"/>
            <p:nvPr/>
          </p:nvSpPr>
          <p:spPr>
            <a:xfrm>
              <a:off x="1763640" y="1857240"/>
              <a:ext cx="5832720" cy="4689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98160" y="765000"/>
            <a:ext cx="7845480" cy="9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Tahoma"/>
              </a:rPr>
              <a:t>Wat is de ziekte van Lyme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532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orrelia bacter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Leeft in bloed van kleine zoogdieren en vog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10% teken geinfectee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esmetting na ca 24 u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Na 2 weken -&gt; rode vl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rdwijnt na een paar wek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aarna -&gt; ziekteverschijnsel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5940360" y="2349360"/>
            <a:ext cx="3076560" cy="28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18920" y="1052640"/>
            <a:ext cx="6838920" cy="98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Tahoma"/>
              </a:rPr>
              <a:t>Ziekteverschijnsele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2500200"/>
            <a:ext cx="8007480" cy="35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spierpijn, gewrichtspijn, hoofd/nekpijn, rugpijnen, vermoeidheid, nachtelijk zweten, evenwichtsproblemen, verhoogde pols, hartruizen, tachycardie, evenwichtsproblemen, gehoorproblemen enz. Bij enkele patiënten treedt infectie van het centrale zenuwstelsel op. Men spreekt dan van neuroborrelios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18920" y="1052640"/>
            <a:ext cx="6838920" cy="98712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Tahoma"/>
              </a:rPr>
              <a:t>Genezi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2500200"/>
            <a:ext cx="8007480" cy="35956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n vroeg stadium goed te genezen met antibiotic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iagnose is een proble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aardoor vak lang onbehande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19280" y="692280"/>
            <a:ext cx="722304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Tahoma"/>
              </a:rPr>
              <a:t>De Schapenteek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45352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e belangrijkste overbren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Algemeen in bossen en struikgew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Niet in open terre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Overleven op grote graz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5334120" y="155736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5401080" y="5411880"/>
            <a:ext cx="32454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baseline="-25000">
                <a:solidFill>
                  <a:srgbClr val="ffffff"/>
                </a:solidFill>
                <a:latin typeface="Tahoma"/>
              </a:rPr>
              <a:t>Teek die op een plant omhoog kruipt</a:t>
            </a:r>
            <a:br>
              <a:rPr sz="2400"/>
            </a:br>
            <a:r>
              <a:rPr b="0" lang="nl-NL" sz="2400" spc="-1" strike="noStrike" baseline="-25000">
                <a:solidFill>
                  <a:srgbClr val="ffffff"/>
                </a:solidFill>
                <a:latin typeface="Tahoma"/>
              </a:rPr>
              <a:t>Foto: Fedor Gassn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5508720" y="1484280"/>
            <a:ext cx="7128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8316720" cy="43862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671480" y="857160"/>
            <a:ext cx="57088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 baseline="-25000">
                <a:solidFill>
                  <a:srgbClr val="ffffff"/>
                </a:solidFill>
                <a:latin typeface="Tahoma"/>
              </a:rPr>
              <a:t>Ontwikkeling van de ziekte in N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51680" y="5950080"/>
            <a:ext cx="79470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baseline="-25000">
                <a:solidFill>
                  <a:srgbClr val="ffffff"/>
                </a:solidFill>
                <a:latin typeface="Tahoma"/>
              </a:rPr>
              <a:t>Erythema migrans (ontstaan van een rode vlek), veroorzaakt door besmetting met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 baseline="-25000">
                <a:solidFill>
                  <a:srgbClr val="ffffff"/>
                </a:solidFill>
                <a:latin typeface="Tahoma"/>
              </a:rPr>
              <a:t>Borrelia</a:t>
            </a:r>
            <a:r>
              <a:rPr b="0" lang="nl-NL" sz="2400" spc="-1" strike="noStrike" baseline="-25000">
                <a:solidFill>
                  <a:srgbClr val="ffffff"/>
                </a:solidFill>
                <a:latin typeface="Tahoma"/>
              </a:rPr>
              <a:t> parasiet, per 100.000 mensen, in Nederland in 1994, 2001 en 2005 (bron: RIVM 2006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5508720" y="1484280"/>
            <a:ext cx="7128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47640" y="765000"/>
            <a:ext cx="6839280" cy="9874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Tahoma"/>
              </a:rPr>
              <a:t>Ziektegevallen in N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2565360"/>
            <a:ext cx="7772400" cy="353052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In 1994 23.000 artsbezoeken en 6.000 mensen zi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In 2001 60.000 artsbezoeken en 13.000 mensen zi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In 2005 73.000 artsbezoeken en 17.000 mensen zi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12:57:14Z</dcterms:created>
  <dc:creator>fikse</dc:creator>
  <dc:description/>
  <dc:language>en-US</dc:language>
  <cp:lastModifiedBy>Peter</cp:lastModifiedBy>
  <cp:lastPrinted>2005-05-24T09:08:19Z</cp:lastPrinted>
  <dcterms:modified xsi:type="dcterms:W3CDTF">2007-06-25T15:25:58Z</dcterms:modified>
  <cp:revision>6</cp:revision>
  <dc:subject/>
  <dc:title>Dia 1</dc:title>
</cp:coreProperties>
</file>