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298-AA4A-4E79-B47E-EBC338A3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ACB7-9F81-4390-8DC7-811B074D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774-9297-48BA-A2A3-D833A7B9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1D1-3710-4F62-94C9-878D270B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D135-0AFC-4864-98B9-529844D2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FBF1-BC7C-4E6F-AA1B-EDD33A09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D198-BB49-4EDA-9B94-21F592FA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ED30-A240-4432-B0BE-0FBED2EE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CEF8-0458-4551-92E2-3EAF4F9F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E53D-CE98-4158-AC7C-5B986AF4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D773-FA73-4C50-AE16-41F3C843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BB9-4E6B-4168-B848-E3589907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AC02-7630-4A27-B56C-07196620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B20E-40E5-4B17-9106-847B0FB8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5814-AF09-45F5-A382-C9A95E8C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2F36-8404-49F7-AC8E-6E948C6C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C438-8FCB-40DF-BB2E-E478FD3A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776-A194-4E69-A21A-47616F68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CDFB-5677-489A-8074-562A3268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562-B088-499B-86B0-B456F80C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48A-1111-4ADE-8FF7-F4853A8E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0A8A-F4F1-4D2F-A3AE-FAD1B0F4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D96-8C3C-4E48-9130-A8C56DFA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888-FBDD-440B-A8EA-59C651CE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2EF3-EB67-4962-9C2A-754625092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0939-2E1F-4EF0-99D0-71EE8966E2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he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er dan alleen spui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in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ff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dek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chtafslu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derdrukken met krui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itmaai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ffel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71640" y="134928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z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fdekken met boomschors of houtsnipper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5429160" cy="200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59280" y="3645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chtafsluitende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16000" y="1447920"/>
            <a:ext cx="705636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zaaien met krui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8580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itmaaien van beplanting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45370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emis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leks-gewijs spuiten met kleine sp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handeling van stobb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el meer is niet meer mogelij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p (half-)verhardingen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n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st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smaaier met ko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uiten met een chemisch mid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et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ran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376280"/>
            <a:ext cx="91440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orst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033800" cy="5445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87684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427640" y="3314880"/>
            <a:ext cx="4716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osmaaier met koor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962440"/>
            <a:ext cx="5113440" cy="389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508720" y="1268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 spuiten na detect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449440"/>
            <a:ext cx="9144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92480" y="-3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nk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door sto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59770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nkruidbestrijding met heet wat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84036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0:45:13Z</dcterms:created>
  <dc:creator>Administrator</dc:creator>
  <dc:description/>
  <dc:language>en-US</dc:language>
  <cp:lastModifiedBy>laptop</cp:lastModifiedBy>
  <dcterms:modified xsi:type="dcterms:W3CDTF">2009-06-02T09:12:30Z</dcterms:modified>
  <cp:revision>6</cp:revision>
  <dc:subject/>
  <dc:title>Onkruidbeheer</dc:title>
</cp:coreProperties>
</file>