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869-D591-4FFB-BA2A-3A8E971D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75E7-F91F-41E1-AF72-4302E755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EF6-D456-4EA2-8772-3C58AC48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FCA4-9583-4FE4-A779-7BB4824A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9EA9-7091-4B9D-85FF-A33FC0A7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899F-68AB-426F-916A-69F80AC0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8D24-7E32-43A4-84A6-C9B9B8FB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F398-FCCA-4FF9-8B3D-63659E70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A63C-A911-4E56-8FE7-5976EA95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41C1-BA83-4815-8720-8B37E3F2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8A60-F450-41E3-AAE1-2794E9E7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C0A-68C2-44AB-ACE7-18D94570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38BC-8177-4434-BEC7-85D5BD28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5493-3006-4FF6-BEC4-DC0990EE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AA1D-A986-46FB-8528-10A00F98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D4B4-BD1D-445D-BCE1-0E5309B1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5F8D-CE41-4D13-A772-BE830734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3CDBB-A72B-4486-8AA0-B6BF014D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BAB2C-1E64-4EC2-8EE3-DB9F003E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3AD9C-3835-44C4-A70D-70475D77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23D7B-06C6-4FA0-AE7C-873AA432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B48B0-96C4-4981-A843-140D34BB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773B-F634-47BF-A405-8876363F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40A60-6E1F-4915-AEC9-E8DC2930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5BCCD-DFCA-4710-9AB1-A1068ADC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004DC-5D87-4115-AE36-E988B39A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579E1-48C4-4759-849D-6D3FE56E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AE3E0-0F66-4758-9ED8-20C6D1B1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772A8-23DC-47F6-B73A-ECE45D60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45D05-CCF5-49B6-8858-A255EDDD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89E2-A340-41C4-8BF8-BADCC6EF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42B-3306-4357-B1C8-E28767AA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29B-E52B-4F2B-A266-6EB90F43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AF40-7D2A-4CFA-9362-A2A79B76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4ED3-49D2-4A8D-BA9E-3FDD8377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482-2D2B-41C8-941B-50DEECF7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D55E-339D-4A6A-8D78-435188ED7E3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7F67-A1A0-46B2-AB9C-7802ED0619D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43DA-3C1E-45B1-AC6E-EA32CE2B237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natuurkalender.nl/" TargetMode="External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18920" y="907920"/>
            <a:ext cx="6838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Waar zit de schapenteek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mengd loofbos met onderbegroeiing van varens en blauwe bos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nnenbossen met dichte opgaande grassenbegroei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s- en duingebieden en stadspar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plaatsing door kleine knaagdi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836280"/>
            <a:ext cx="7524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Gedrag van de schapenteek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ngerige teken klimmen langs stengels van grassen, planten en stui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verstap na huidcont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52472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Seizoenrisico op besmettin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infecteerde teken blijven hele leven besmettelij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eek actief van mei-s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iek: mei-ju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Hoe kan ik me beschermen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eken lopen over door huidcontact met de veget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okken en broekspijpen insmeren met DEET (min. 30%)= antimuggenmid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t pyrethrine geimpregneerde kl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Verwijderen van de 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84720" y="1484280"/>
            <a:ext cx="2760840" cy="4753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558040" y="6093000"/>
            <a:ext cx="3080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Het juiste gebruik van de tekenpen</a:t>
            </a:r>
            <a:br>
              <a:rPr sz="2400"/>
            </a:b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om een teek te verwij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557360"/>
            <a:ext cx="59734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specteer het lich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ek binnen 24 uur verwijd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bruik teken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ntsmet het wond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ou de plek in de gaten op rode vl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Toch geinfecteer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aadpleeg huisarts, liefst als rode plek nog zichtbaa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ij elke beet -&gt; huisa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7720" y="2792520"/>
            <a:ext cx="8007480" cy="33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Einde presentat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dankt voor uw aand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ook </a:t>
            </a:r>
            <a:r>
              <a:rPr b="0" lang="nl-NL" sz="3200" spc="-1" strike="noStrike" u="sng">
                <a:solidFill>
                  <a:srgbClr val="99ff66"/>
                </a:solidFill>
                <a:uFillTx/>
                <a:latin typeface="Tahoma"/>
                <a:hlinkClick r:id="rId2"/>
              </a:rPr>
              <a:t>www.natuurkalender.n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2133720"/>
            <a:ext cx="7958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78f01"/>
                </a:solidFill>
                <a:latin typeface="Tahoma"/>
              </a:rPr>
              <a:t>T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b7"/>
                </a:solidFill>
                <a:latin typeface="Tahoma"/>
              </a:rPr>
              <a:t>De Ziekte van Ly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b7"/>
                </a:solidFill>
                <a:latin typeface="Tahoma"/>
              </a:rPr>
              <a:t>Welk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5327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Larve-nimf-mannetje-vrouwtj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63640" y="1857240"/>
            <a:ext cx="5832720" cy="4689720"/>
            <a:chOff x="1763640" y="1857240"/>
            <a:chExt cx="5832720" cy="468972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1763640" y="1857240"/>
              <a:ext cx="5832720" cy="46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 txBox="1"/>
            <p:nvPr/>
          </p:nvSpPr>
          <p:spPr>
            <a:xfrm>
              <a:off x="1763640" y="1857240"/>
              <a:ext cx="5832720" cy="468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8160" y="765000"/>
            <a:ext cx="784548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Wat is de ziekte van Lym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532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rrelia bacte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eeft in bloed van kleine zoogdieren en vog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0% teken geinfecte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metting na ca 24 u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 2 weken -&gt; rode vl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wijnt na een paar we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arna -&gt; ziekteverschijns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940360" y="2349360"/>
            <a:ext cx="30765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Ziekteverschijnsel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pijn, gewrichtspijn, hoofd/nekpijn, rugpijnen, vermoeidheid, nachtelijk zweten, evenwichtsproblemen, verhoogde pols, hartruizen, tachycardie, evenwichtsproblemen, gehoorproblemen enz. Bij enkele patiënten treedt infectie van het centrale zenuwstelsel op. Men spreekt dan van neuroborrelio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Genez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 vroeg stadium goed te genezen met antibiotic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agnose is een proble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door vak lang onbehand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2230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De Schapen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4535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belangrijkste overbre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lgemeen in bossen en struikge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iet in open terr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verleven op grote graz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34120" y="1557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401080" y="5411880"/>
            <a:ext cx="3245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Teek die op een plant omhoog kruipt</a:t>
            </a:r>
            <a:br>
              <a:rPr sz="2400"/>
            </a:b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Foto: Fedor Gass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7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316720" cy="4386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71480" y="857160"/>
            <a:ext cx="5708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baseline="-25000">
                <a:solidFill>
                  <a:srgbClr val="ffffff"/>
                </a:solidFill>
                <a:latin typeface="Tahoma"/>
              </a:rPr>
              <a:t>Ontwikkeling van de ziekte in N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1680" y="5950080"/>
            <a:ext cx="7947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Erythema migrans (ontstaan van een rode vlek), veroorzaakt door besmetting met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baseline="-25000">
                <a:solidFill>
                  <a:srgbClr val="ffffff"/>
                </a:solidFill>
                <a:latin typeface="Tahoma"/>
              </a:rPr>
              <a:t>Borrelia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 parasiet, per 100.000 mensen, in Nederland in 1994, 2001 en 2005 (bron: RIVM 200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7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765000"/>
            <a:ext cx="6839280" cy="9874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Ziektegevallen in N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565360"/>
            <a:ext cx="7772400" cy="35305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1994 23.000 artsbezoeken en 6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2001 60.000 artsbezoeken en 13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2005 73.000 artsbezoeken en 17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2:57:14Z</dcterms:created>
  <dc:creator>fikse</dc:creator>
  <dc:description/>
  <dc:language>en-US</dc:language>
  <cp:lastModifiedBy>Peter</cp:lastModifiedBy>
  <cp:lastPrinted>2005-05-24T09:08:19Z</cp:lastPrinted>
  <dcterms:modified xsi:type="dcterms:W3CDTF">2007-06-25T15:25:58Z</dcterms:modified>
  <cp:revision>6</cp:revision>
  <dc:subject/>
  <dc:title>Dia 1</dc:title>
</cp:coreProperties>
</file>