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0844-58B7-4AFC-9E83-59262FA7F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A538-8B0B-40B7-AA0F-1597338B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6B89-5B1E-4AFB-918C-D2B48A1B7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21B3-F06F-4975-AA2F-5A9392B0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4B02-DC46-4963-BFD0-1D2BE2B1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30C9-DE04-4512-B2FD-62C860AE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2DAF-83C4-43EB-8011-D0FE4894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DB1F-EF5A-4CC4-A63E-14F400FB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EBDB-94DE-4DD4-9496-6CC33AC8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03D0-E748-4592-A6ED-57BAA7CC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13B3-17FD-4DAB-9193-7B7A06A3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E9A6-23F1-46C5-AB79-498D37BA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AB4D-BA06-4DCD-B2ED-4B0800D2C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lassificatiesysteem Onkruid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eldscoretab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27640" y="765000"/>
            <a:ext cx="329220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74977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081320" y="1413000"/>
            <a:ext cx="31654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5329080" cy="47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gemiddeld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398124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03280" y="2546280"/>
            <a:ext cx="57294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4132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gemiddeld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124000" y="1981080"/>
            <a:ext cx="511200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5257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ige begroeiing, begroeiing voeglengte 2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63640" y="2133720"/>
            <a:ext cx="612000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ige begroeiing, begroeiing voeglengte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903600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801720"/>
                <a:gridCol w="1441440"/>
                <a:gridCol w="598644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schrijv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nwezige onkruid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er g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er en daar enige begroeiing in de voegen, maximaal 5%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t onkruid groeit niet of nauwelijks aaneengeslot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voegen zijn voor meer dan 5% en maximaal 25% begroeid; geen polvorming en weinig hoogopschietende begroei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i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voegen zijn voor meer dan 25% en maxima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or 50% begroeid, soms polvorm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wa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voegen zijn voor meer dan 50% begroeid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ak polvorm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er zwa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harding is weinig of niet meer zichtbaar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s houtige gewass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aar, gemiddelde voeglengte begroeiing 6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416880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aar, voeglengte begroeiing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6119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lfverh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3760" y="2033640"/>
            <a:ext cx="3681360" cy="4491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asse 2, zeer gering; begroeide oppervlakte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211640" y="2254320"/>
            <a:ext cx="447516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lfverh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asse 3, gering; begroeide oppervlakte 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4316400" cy="3668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132520" y="1916280"/>
            <a:ext cx="3690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ktijkvoorbeel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9640" y="1309680"/>
            <a:ext cx="813600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en begroeiing, begroeiing voeglengte 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4125960" cy="4969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003640" y="1341360"/>
            <a:ext cx="39546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en begroeiing, begroeiing voeglengte 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24000" y="1989000"/>
            <a:ext cx="561672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4753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04836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3640" y="2276640"/>
            <a:ext cx="597708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575964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4T14:58:52Z</dcterms:created>
  <dc:creator>Johan</dc:creator>
  <dc:description/>
  <dc:language>en-US</dc:language>
  <cp:lastModifiedBy>Administrator</cp:lastModifiedBy>
  <dcterms:modified xsi:type="dcterms:W3CDTF">2011-03-10T21:36:22Z</dcterms:modified>
  <cp:revision>8</cp:revision>
  <dc:subject/>
  <dc:title>Classificatiesysteem Onkruidmonitoring</dc:title>
</cp:coreProperties>
</file>