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8EA-221C-40E0-90E6-F2AFEFDD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119-4A51-4135-8FA8-935D5EAD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9FD-F3BE-4D32-914E-653482C8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7B0-D9B2-40A5-B8B4-E921BA1A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B537-42BF-40E8-8014-E0C92C3B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A1D1-E978-4507-9005-2F644ABF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11B5-7C95-4858-B1EE-3DE44822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8D67-D9CA-4FE4-9687-E0B76522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C374-741E-433D-A32A-25A58BC6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EC27-16DA-4EDF-B443-63DC2690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F355-27AA-4F68-900B-5D16DF1B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BA0-EABD-47CE-BF3E-31A58047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A05F-FD1D-498A-A623-C6342F09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985D-405E-4D13-BA34-AD8C9360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1F0D-D27A-4758-90C1-B42E5FB8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66B1-A074-491A-B61B-7F8349A5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5F7C-30BB-4642-B8F4-0798556F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83794-FAAA-4636-BFCB-0BB4C976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812CF-A32D-4B0A-AA6C-FD5FE1F9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90FE-CA94-4626-8E82-B78C864A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29A64-92B2-4176-98F7-19DF3BE9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1FA7C-84F6-4AE0-817C-F257EA9E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4C4-94DF-4E27-862B-3D8EB40E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71BB6-DECD-4DB1-8DC9-C885214B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99BF-EE39-4734-9F20-D55BA49B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65938-CA84-4371-BD64-EC5B7AFC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4571C-FBA1-4622-BF28-B7299D90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6B074-5910-4969-B0DC-91DCDBED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2578C-AF25-4831-BCBD-3F8F4D5F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4700-3DB0-4CF2-993B-89871B8A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1ED-5D1A-4036-88A0-1AA36069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E7F6-DFED-42D4-9BCF-1D213826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C7E-7FEF-47A9-BA1C-276404F7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8B1-1CAF-4C01-9DDD-BE7A33BF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6A2-049B-47F3-9C1F-C2599713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EA4-EFB2-45B3-A19C-1D713FCA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0EA8-5B47-4299-9C88-334306BC0F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13E5-34DB-4491-876C-49443662F28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7DD4-2A47-4697-9371-B0A530722B5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atuurkalender.nl/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18920" y="90792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Waar zit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mengd loofbos met onderbegroeiing van varens en blauwe bos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nnenbossen met dichte opgaande grassenbegroei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s- en duingebieden en stadspar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plaatsing door kleine knaagd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524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Gedrag van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ngerige teken klimmen langs stengels van grassen, planten en stui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verstap na huid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52472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Seizoenrisico op besmett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infecteerde teken blijven hele leven besmett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ek actief van mei-s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iek: mei-ju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Hoe kan ik me beschermen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ken lopen over door huidcontact met de veget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kken en broekspijpen insmeren met DEET (min. 30%)= antimuggenmid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t pyrethrine geimpregneerde kl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Verwijderen van de 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760840" cy="4753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58040" y="6093000"/>
            <a:ext cx="30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Het juiste gebruik van de tekenpen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om een teek te verwij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557360"/>
            <a:ext cx="5973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specteer het lich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ek binnen 24 uur verwij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bruik teken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met het wond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ou de plek in de gaten op rode vl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Toch geinfecteer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aadpleeg huisarts, liefst als rode plek nog zichtbaa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elke beet -&gt; huisa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792520"/>
            <a:ext cx="800748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Einde presentat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dankt voor uw aand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ook </a:t>
            </a:r>
            <a:r>
              <a:rPr b="0" lang="nl-NL" sz="3200" spc="-1" strike="noStrike" u="sng">
                <a:solidFill>
                  <a:srgbClr val="99ff66"/>
                </a:solidFill>
                <a:uFillTx/>
                <a:latin typeface="Tahoma"/>
                <a:hlinkClick r:id="rId2"/>
              </a:rPr>
              <a:t>www.natuurkalender.n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2133720"/>
            <a:ext cx="7958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T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De Ziekte van Ly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Welk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5327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Larve-nimf-mannetje-vrouwtj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63640" y="1857240"/>
            <a:ext cx="5832720" cy="4689720"/>
            <a:chOff x="1763640" y="1857240"/>
            <a:chExt cx="5832720" cy="46897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763640" y="1857240"/>
              <a:ext cx="5832720" cy="46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1763640" y="1857240"/>
              <a:ext cx="5832720" cy="468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8160" y="765000"/>
            <a:ext cx="784548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Wat is de ziekte van Lym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53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rrelia bact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eeft in bloed van kleine zoogdieren en vo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0% teken geinfecte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metting na ca 24 u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 2 weken -&gt; rode vl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wijnt na een paar we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arna -&gt; ziekteverschijns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30765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verschijnsel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pijn, gewrichtspijn, hoofd/nekpijn, rugpijnen, vermoeidheid, nachtelijk zweten, evenwichtsproblemen, verhoogde pols, hartruizen, tachycardie, evenwichtsproblemen, gehoorproblemen enz. Bij enkele patiënten treedt infectie van het centrale zenuwstelsel op. Men spreekt dan van neuroborrelio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Genez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vroeg stadium goed te genezen met antibio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agnose is een proble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door vak lang onbehand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2230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De Schapen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535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belangrijkste overbre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lgemeen in bossen en struikge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iet in open terr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verleven op grote gra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4120" y="1557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01080" y="5411880"/>
            <a:ext cx="324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Teek die op een plant omhoog kruipt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Foto: Fedor Gass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16720" cy="438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71480" y="857160"/>
            <a:ext cx="5708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baseline="-25000">
                <a:solidFill>
                  <a:srgbClr val="ffffff"/>
                </a:solidFill>
                <a:latin typeface="Tahoma"/>
              </a:rPr>
              <a:t>Ontwikkeling van de ziekte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1680" y="5950080"/>
            <a:ext cx="7947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Erythema migrans (ontstaan van een rode vlek), veroorzaakt door besmetting met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baseline="-25000">
                <a:solidFill>
                  <a:srgbClr val="ffffff"/>
                </a:solidFill>
                <a:latin typeface="Tahoma"/>
              </a:rPr>
              <a:t>Borrelia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 parasiet, per 100.000 mensen, in Nederland in 1994, 2001 en 2005 (bron: RIVM 200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765000"/>
            <a:ext cx="6839280" cy="9874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gevallen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565360"/>
            <a:ext cx="7772400" cy="35305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1994 23.000 artsbezoeken en 6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1 60.000 artsbezoeken en 13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5 73.000 artsbezoeken en 17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57:14Z</dcterms:created>
  <dc:creator>fikse</dc:creator>
  <dc:description/>
  <dc:language>en-US</dc:language>
  <cp:lastModifiedBy>Peter</cp:lastModifiedBy>
  <cp:lastPrinted>2005-05-24T09:08:19Z</cp:lastPrinted>
  <dcterms:modified xsi:type="dcterms:W3CDTF">2007-06-25T15:25:58Z</dcterms:modified>
  <cp:revision>6</cp:revision>
  <dc:subject/>
  <dc:title>Dia 1</dc:title>
</cp:coreProperties>
</file>